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airplanes.wav" ContentType="audio/x-wav"/>
  <Override PartName="/ppt/media/image7.png" ContentType="image/png"/>
  <Override PartName="/ppt/media/image11.png" ContentType="image/png"/>
  <Override PartName="/ppt/media/image6.png" ContentType="image/png"/>
  <Override PartName="/ppt/media/Tank.wav" ContentType="audio/x-wav"/>
  <Override PartName="/ppt/media/image10.png" ContentType="image/png"/>
  <Override PartName="/ppt/media/SHIP%20HORN.wav" ContentType="audio/x-wav"/>
  <Override PartName="/ppt/media/image5.png" ContentType="image/png"/>
  <Override PartName="/ppt/media/image4.png" ContentType="image/png"/>
  <Override PartName="/ppt/media/image17.png" ContentType="image/png"/>
  <Override PartName="/ppt/media/image16.jpeg" ContentType="image/jpeg"/>
  <Override PartName="/ppt/media/trucks028.wav" ContentType="audio/x-wav"/>
  <Override PartName="/ppt/media/March.wav" ContentType="audio/x-wav"/>
  <Override PartName="/ppt/media/flyby.wav" ContentType="audio/x-wav"/>
  <Override PartName="/ppt/media/explode.wav" ContentType="audio/x-wav"/>
  <Override PartName="/ppt/media/drumroll.wav" ContentType="audio/x-wav"/>
  <Override PartName="/ppt/media/image15.png" ContentType="image/png"/>
  <Override PartName="/ppt/media/shiphorn.wav" ContentType="audio/x-wav"/>
  <Override PartName="/ppt/media/image14.png" ContentType="image/png"/>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3170160" cy="4809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rPr>
              <a:t>1b1: World War II and Bletchley Park</a:t>
            </a:r>
            <a:endParaRPr b="0" lang="en-US" sz="1300" spc="-1" strike="noStrike">
              <a:solidFill>
                <a:srgbClr val="000000"/>
              </a:solidFill>
              <a:latin typeface="Arial"/>
            </a:endParaRPr>
          </a:p>
        </p:txBody>
      </p:sp>
      <p:sp>
        <p:nvSpPr>
          <p:cNvPr id="41" name="PlaceHolder 2"/>
          <p:cNvSpPr>
            <a:spLocks noGrp="1"/>
          </p:cNvSpPr>
          <p:nvPr>
            <p:ph type="dt" idx="1"/>
          </p:nvPr>
        </p:nvSpPr>
        <p:spPr>
          <a:xfrm>
            <a:off x="4142880" y="0"/>
            <a:ext cx="3170520" cy="4809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118080"/>
            <a:ext cx="3170160" cy="4813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4142880" y="9118080"/>
            <a:ext cx="3170520" cy="48132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69431-9E7A-4F6B-9BA8-23FE6FFBB6F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137A-4393-4C34-B3D6-4B3BD820B77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9" name="PlaceHolder 1"/>
          <p:cNvSpPr>
            <a:spLocks noGrp="1"/>
          </p:cNvSpPr>
          <p:nvPr>
            <p:ph type="sldImg"/>
          </p:nvPr>
        </p:nvSpPr>
        <p:spPr>
          <a:xfrm>
            <a:off x="2865600" y="0"/>
            <a:ext cx="1296720" cy="973080"/>
          </a:xfrm>
          <a:prstGeom prst="rect">
            <a:avLst/>
          </a:prstGeom>
          <a:ln w="0">
            <a:noFill/>
          </a:ln>
        </p:spPr>
      </p:sp>
      <p:sp>
        <p:nvSpPr>
          <p:cNvPr id="280" name="PlaceHolder 2"/>
          <p:cNvSpPr>
            <a:spLocks noGrp="1"/>
          </p:cNvSpPr>
          <p:nvPr>
            <p:ph type="body"/>
          </p:nvPr>
        </p:nvSpPr>
        <p:spPr>
          <a:xfrm>
            <a:off x="0" y="786960"/>
            <a:ext cx="7315200" cy="8813880"/>
          </a:xfrm>
          <a:prstGeom prst="rect">
            <a:avLst/>
          </a:prstGeom>
          <a:solidFill>
            <a:srgbClr val="ffffff"/>
          </a:solid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ituation in Europe in May 1941, where our story begins, was extremely grave. Here is a brief history of the events that preceded 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n 1933 </a:t>
            </a:r>
            <a:r>
              <a:rPr b="0" lang="en-US" sz="1000" spc="-1" strike="noStrike">
                <a:solidFill>
                  <a:srgbClr val="000000"/>
                </a:solidFill>
                <a:latin typeface="Arial"/>
              </a:rPr>
              <a:t>The Nazi Party under Adolf Hitler came to power in Germany.  Hitler began to rebuild the military in direct violation of the Treaty of Versailles. The Treaty of Versailles was a peace treaty signed by Germany and the Allied powers in 1919 after the end of World War I. The treaty required German disarmament and allowed for the occupation of the Saarland, a province of Germany, by France. The French occupation was subject to a plebiscite to be held in 1935.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35 the Saarland voted overwhelmingly to rejoin Germany. In 1935 Hitler also repudiated the treaty and sped up militariz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n March 1938 Germany annexed Austr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n September 1938 Germany annexed a part of Czechoslovakia known as the Sudetenl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n March 1939 Germany seized the remainder of Czechoslovakia. The western democracies finally began to realize the full intent of Hitler’s ide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n the same period, Italy, an ally of Germany, occupied Albani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fter a blitzkrieg assault Germany occupied Poland in September 1939. France, Britain and other countries of the commonwealth declared war on German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b050"/>
                </a:solidFill>
                <a:latin typeface="Arial"/>
              </a:rPr>
              <a:t>The time between late April </a:t>
            </a:r>
            <a:r>
              <a:rPr b="0" lang="en-US" sz="1000" spc="-1" strike="noStrike">
                <a:solidFill>
                  <a:srgbClr val="00b050"/>
                </a:solidFill>
                <a:latin typeface="Arial"/>
              </a:rPr>
              <a:t>1939 and April 1940 was known as the ‘Phony War’. The war had been declared, but neither side launched any significant attacks. Germany built up forces to invade France while France established defenses behind her Maginot Line (a series of strong fortifications on the French-German Border).  Since the Maginot Line did not extend beyond that border, the French positioned their more mobile forces, including the British Expeditionary Force, on the Belgium Bord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Arial"/>
              </a:rPr>
              <a:t>German forces attacked and </a:t>
            </a:r>
            <a:r>
              <a:rPr b="0" lang="en-CA" sz="1000" spc="-1" strike="noStrike">
                <a:solidFill>
                  <a:srgbClr val="000000"/>
                </a:solidFill>
                <a:latin typeface="Arial"/>
              </a:rPr>
              <a:t>occupied Denmark in April 1940 and Norway in June 194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May 1940 saw another blitzkrieg attack, this time on Belgium, the Netherlands and F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b050"/>
                </a:solidFill>
                <a:latin typeface="Arial"/>
              </a:rPr>
              <a:t>German Army Group A (containing the majority of the Panzer Units) attacks through the Ardennes Forrest and cut off two French Armies and the British Expeditionary Force from the rest of the French Forces. These troops either surrendered or were evacuated at Dunki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 numerically superior French army was routed and France fell in June 194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Japan, Germany and Italy signed a mutual defence treaty in September 1940 and became known as the Axis powers. The Soviet Union expressed an interest in joining and even made an explicit proposal. The Axis did formally expand in 1940 to include Hungary, Slovakia and Romania, but not the Soviet Un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merica had not yet entered the war. Britain stood alone, preparing for a German invas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Britain was pounded by German air raids.</a:t>
            </a:r>
            <a:r>
              <a:rPr b="1" i="1" lang="en-CA" sz="1000" spc="-1" strike="noStrike">
                <a:solidFill>
                  <a:srgbClr val="000000"/>
                </a:solidFill>
                <a:latin typeface="Arial"/>
              </a:rPr>
              <a:t> </a:t>
            </a:r>
            <a:r>
              <a:rPr b="0" lang="en-CA" sz="1000" spc="-1" strike="noStrike">
                <a:solidFill>
                  <a:srgbClr val="000000"/>
                </a:solidFill>
                <a:latin typeface="Arial"/>
              </a:rPr>
              <a:t>The Battle of Britain was fought from July to October 1940. </a:t>
            </a:r>
            <a:r>
              <a:rPr b="0" lang="en-US" sz="1000" spc="-1" strike="noStrike">
                <a:solidFill>
                  <a:srgbClr val="000000"/>
                </a:solidFill>
                <a:latin typeface="Arial"/>
              </a:rPr>
              <a:t>It was an attempt by Germany to gain air superiority, by knocking out British air fields and fighter planes. The Battle of Britain was followed by the blitz, a sustained bombing of British targets that continued until May 194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81" name="Header Placeholder 4"/>
          <p:cNvSpPr/>
          <p:nvPr/>
        </p:nvSpPr>
        <p:spPr>
          <a:xfrm>
            <a:off x="0" y="0"/>
            <a:ext cx="3170160" cy="480960"/>
          </a:xfrm>
          <a:prstGeom prst="rect">
            <a:avLst/>
          </a:prstGeom>
          <a:noFill/>
          <a:ln w="0">
            <a:noFill/>
          </a:ln>
        </p:spPr>
        <p:style>
          <a:lnRef idx="0"/>
          <a:fillRef idx="0"/>
          <a:effectRef idx="0"/>
          <a:fontRef idx="minor"/>
        </p:style>
        <p:txBody>
          <a:bodyPr lIns="95760" rIns="95760" tIns="47880" bIns="47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rPr>
              <a:t>1b1: World War II and Bletchley Park</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18440"/>
            <a:ext cx="3170520" cy="4813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B564-BD59-4B8E-B753-8FAFD6CAEDC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83" name="PlaceHolder 1"/>
          <p:cNvSpPr>
            <a:spLocks noGrp="1"/>
          </p:cNvSpPr>
          <p:nvPr>
            <p:ph type="sldImg"/>
          </p:nvPr>
        </p:nvSpPr>
        <p:spPr>
          <a:xfrm>
            <a:off x="1187280" y="804960"/>
            <a:ext cx="4577040" cy="3433680"/>
          </a:xfrm>
          <a:prstGeom prst="rect">
            <a:avLst/>
          </a:prstGeom>
          <a:ln w="0">
            <a:noFill/>
          </a:ln>
        </p:spPr>
      </p:sp>
      <p:sp>
        <p:nvSpPr>
          <p:cNvPr id="284" name="PlaceHolder 2"/>
          <p:cNvSpPr>
            <a:spLocks noGrp="1"/>
          </p:cNvSpPr>
          <p:nvPr>
            <p:ph type="body"/>
          </p:nvPr>
        </p:nvSpPr>
        <p:spPr>
          <a:xfrm>
            <a:off x="0" y="4581360"/>
            <a:ext cx="6802560" cy="29052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 too many boats sunk, plans for later in the war would be in jeopar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re would be no North African campaign without sufficient supplies sent by ship. The Soviet Union, which carried the land war between late 1941 and the Allied invasions at Normandy in June 1944, needed resupply by ship through Murman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the Americans entered the war in December 1941, they needed ships for the Pacific theatre.</a:t>
            </a:r>
            <a:endParaRPr b="0" lang="en-US" sz="1200" spc="-1" strike="noStrike">
              <a:solidFill>
                <a:srgbClr val="000000"/>
              </a:solidFill>
              <a:latin typeface="Arial"/>
            </a:endParaRPr>
          </a:p>
        </p:txBody>
      </p:sp>
      <p:sp>
        <p:nvSpPr>
          <p:cNvPr id="285" name="Header Placeholder 4"/>
          <p:cNvSpPr/>
          <p:nvPr/>
        </p:nvSpPr>
        <p:spPr>
          <a:xfrm>
            <a:off x="0" y="0"/>
            <a:ext cx="3170160" cy="480960"/>
          </a:xfrm>
          <a:prstGeom prst="rect">
            <a:avLst/>
          </a:prstGeom>
          <a:noFill/>
          <a:ln w="0">
            <a:noFill/>
          </a:ln>
        </p:spPr>
        <p:style>
          <a:lnRef idx="0"/>
          <a:fillRef idx="0"/>
          <a:effectRef idx="0"/>
          <a:fontRef idx="minor"/>
        </p:style>
        <p:txBody>
          <a:bodyPr lIns="95760" rIns="95760" tIns="47880" bIns="47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rPr>
              <a:t>1b1: World War II and Bletchley Park</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WWII-Europe-01"/>
          <p:cNvPicPr/>
          <p:nvPr/>
        </p:nvPicPr>
        <p:blipFill>
          <a:blip r:embed="rId2"/>
          <a:stretch/>
        </p:blipFill>
        <p:spPr>
          <a:xfrm>
            <a:off x="114480" y="0"/>
            <a:ext cx="8915400" cy="6853320"/>
          </a:xfrm>
          <a:prstGeom prst="rect">
            <a:avLst/>
          </a:prstGeom>
          <a:ln w="0">
            <a:noFill/>
          </a:ln>
        </p:spPr>
      </p:pic>
      <p:sp>
        <p:nvSpPr>
          <p:cNvPr id="1" name="Rectangle 8"/>
          <p:cNvSpPr/>
          <p:nvPr/>
        </p:nvSpPr>
        <p:spPr>
          <a:xfrm>
            <a:off x="157320" y="25560"/>
            <a:ext cx="1935000" cy="10317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154080" y="1066680"/>
            <a:ext cx="1307880" cy="627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10.png"/><Relationship Id="rId17" Type="http://schemas.openxmlformats.org/officeDocument/2006/relationships/hyperlink" Target="http://www.italianflag.us/downloads/1861_kingdom_of_italy.gif" TargetMode="External"/><Relationship Id="rId18" Type="http://schemas.openxmlformats.org/officeDocument/2006/relationships/image" Target="../media/image11.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11.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12.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13.png"/><Relationship Id="rId29" Type="http://schemas.openxmlformats.org/officeDocument/2006/relationships/image" Target="../media/image12.png"/><Relationship Id="rId30" Type="http://schemas.openxmlformats.org/officeDocument/2006/relationships/image" Target="../media/image12.png"/><Relationship Id="rId31" Type="http://schemas.openxmlformats.org/officeDocument/2006/relationships/image" Target="../media/image14.png"/><Relationship Id="rId32" Type="http://schemas.openxmlformats.org/officeDocument/2006/relationships/image" Target="../media/image4.png"/><Relationship Id="rId33" Type="http://schemas.openxmlformats.org/officeDocument/2006/relationships/image" Target="../media/image14.png"/><Relationship Id="rId34" Type="http://schemas.openxmlformats.org/officeDocument/2006/relationships/image" Target="../media/image2.png"/><Relationship Id="rId35" Type="http://schemas.openxmlformats.org/officeDocument/2006/relationships/image" Target="../media/image12.png"/><Relationship Id="rId36" Type="http://schemas.openxmlformats.org/officeDocument/2006/relationships/image" Target="../media/image15.png"/><Relationship Id="rId37" Type="http://schemas.openxmlformats.org/officeDocument/2006/relationships/image" Target="../media/image4.png"/><Relationship Id="rId38" Type="http://schemas.openxmlformats.org/officeDocument/2006/relationships/audio" Target="../media/March.wav"/><Relationship Id="rId39" Type="http://schemas.openxmlformats.org/officeDocument/2006/relationships/audio" Target="../media/drumroll.wav"/><Relationship Id="rId40" Type="http://schemas.openxmlformats.org/officeDocument/2006/relationships/audio" Target="../media/March.wav"/><Relationship Id="rId41" Type="http://schemas.openxmlformats.org/officeDocument/2006/relationships/audio" Target="../media/drumroll.wav"/><Relationship Id="rId42" Type="http://schemas.openxmlformats.org/officeDocument/2006/relationships/audio" Target="../media/drumroll.wav"/><Relationship Id="rId43" Type="http://schemas.openxmlformats.org/officeDocument/2006/relationships/audio" Target="../media/Tank.wav"/><Relationship Id="rId44" Type="http://schemas.openxmlformats.org/officeDocument/2006/relationships/audio" Target="../media/drumroll.wav"/><Relationship Id="rId45" Type="http://schemas.openxmlformats.org/officeDocument/2006/relationships/audio" Target="../media/drumroll.wav"/><Relationship Id="rId46" Type="http://schemas.openxmlformats.org/officeDocument/2006/relationships/audio" Target="../media/trucks028.wav"/><Relationship Id="rId47" Type="http://schemas.openxmlformats.org/officeDocument/2006/relationships/audio" Target="../media/SHIP%20HORN.wav"/><Relationship Id="rId48" Type="http://schemas.openxmlformats.org/officeDocument/2006/relationships/audio" Target="../media/airplanes.wav"/><Relationship Id="rId49" Type="http://schemas.openxmlformats.org/officeDocument/2006/relationships/audio" Target="../media/explode.wav"/><Relationship Id="rId50" Type="http://schemas.openxmlformats.org/officeDocument/2006/relationships/audio" Target="../media/explode.wav"/><Relationship Id="rId51" Type="http://schemas.openxmlformats.org/officeDocument/2006/relationships/audio" Target="../media/explode.wav"/><Relationship Id="rId52" Type="http://schemas.openxmlformats.org/officeDocument/2006/relationships/audio" Target="../media/Tank.wav"/><Relationship Id="rId53" Type="http://schemas.openxmlformats.org/officeDocument/2006/relationships/audio" Target="../media/Tank.wav"/><Relationship Id="rId54" Type="http://schemas.openxmlformats.org/officeDocument/2006/relationships/audio" Target="../media/explode.wav"/><Relationship Id="rId55" Type="http://schemas.openxmlformats.org/officeDocument/2006/relationships/audio" Target="../media/Tank.wav"/><Relationship Id="rId56" Type="http://schemas.openxmlformats.org/officeDocument/2006/relationships/audio" Target="../media/explode.wav"/><Relationship Id="rId57" Type="http://schemas.openxmlformats.org/officeDocument/2006/relationships/audio" Target="../media/drumroll.wav"/><Relationship Id="rId58" Type="http://schemas.openxmlformats.org/officeDocument/2006/relationships/audio" Target="../media/airplanes.wav"/><Relationship Id="rId59" Type="http://schemas.openxmlformats.org/officeDocument/2006/relationships/audio" Target="../media/explode.wav"/><Relationship Id="rId60" Type="http://schemas.openxmlformats.org/officeDocument/2006/relationships/audio" Target="../media/flyby.wav"/><Relationship Id="rId61" Type="http://schemas.openxmlformats.org/officeDocument/2006/relationships/audio" Target="../media/explode.wav"/><Relationship Id="rId62" Type="http://schemas.openxmlformats.org/officeDocument/2006/relationships/slideLayout" Target="../slideLayouts/slideLayout1.xml"/><Relationship Id="rId6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7.png"/><Relationship Id="rId9" Type="http://schemas.openxmlformats.org/officeDocument/2006/relationships/image" Target="../media/image4.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11.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11.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14.png"/><Relationship Id="rId21" Type="http://schemas.openxmlformats.org/officeDocument/2006/relationships/image" Target="../media/image4.png"/><Relationship Id="rId22" Type="http://schemas.openxmlformats.org/officeDocument/2006/relationships/image" Target="../media/image1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2.png"/><Relationship Id="rId27" Type="http://schemas.openxmlformats.org/officeDocument/2006/relationships/image" Target="../media/image16.jpeg"/><Relationship Id="rId28" Type="http://schemas.openxmlformats.org/officeDocument/2006/relationships/image" Target="../media/image17.png"/><Relationship Id="rId29" Type="http://schemas.openxmlformats.org/officeDocument/2006/relationships/image" Target="../media/image16.jpe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8.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audio" Target="../media/shiphorn.wav"/><Relationship Id="rId40" Type="http://schemas.openxmlformats.org/officeDocument/2006/relationships/audio" Target="../media/explode.wav"/><Relationship Id="rId41" Type="http://schemas.openxmlformats.org/officeDocument/2006/relationships/audio" Target="../media/explode.wav"/><Relationship Id="rId42" Type="http://schemas.openxmlformats.org/officeDocument/2006/relationships/audio" Target="../media/explode.wav"/><Relationship Id="rId43" Type="http://schemas.openxmlformats.org/officeDocument/2006/relationships/slideLayout" Target="../slideLayouts/slideLayout1.xml"/><Relationship Id="rId4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Freeform 92"/>
          <p:cNvSpPr/>
          <p:nvPr/>
        </p:nvSpPr>
        <p:spPr>
          <a:xfrm>
            <a:off x="133200" y="5981760"/>
            <a:ext cx="4219560" cy="850680"/>
          </a:xfrm>
          <a:custGeom>
            <a:avLst/>
            <a:gdLst>
              <a:gd name="textAreaLeft" fmla="*/ 0 w 4219560"/>
              <a:gd name="textAreaRight" fmla="*/ 4219920 w 4219560"/>
              <a:gd name="textAreaTop" fmla="*/ 0 h 850680"/>
              <a:gd name="textAreaBottom" fmla="*/ 851040 h 850680"/>
            </a:gdLst>
            <a:ahLst/>
            <a:rect l="textAreaLeft" t="textAreaTop" r="textAreaRight" b="textAreaBottom"/>
            <a:pathLst>
              <a:path w="2658" h="536">
                <a:moveTo>
                  <a:pt x="0" y="352"/>
                </a:moveTo>
                <a:lnTo>
                  <a:pt x="20" y="324"/>
                </a:lnTo>
                <a:cubicBezTo>
                  <a:pt x="28" y="316"/>
                  <a:pt x="43" y="317"/>
                  <a:pt x="51" y="306"/>
                </a:cubicBezTo>
                <a:cubicBezTo>
                  <a:pt x="59" y="295"/>
                  <a:pt x="64" y="268"/>
                  <a:pt x="71" y="260"/>
                </a:cubicBezTo>
                <a:cubicBezTo>
                  <a:pt x="78" y="252"/>
                  <a:pt x="83" y="262"/>
                  <a:pt x="93" y="257"/>
                </a:cubicBezTo>
                <a:cubicBezTo>
                  <a:pt x="103" y="252"/>
                  <a:pt x="120" y="237"/>
                  <a:pt x="131" y="231"/>
                </a:cubicBezTo>
                <a:cubicBezTo>
                  <a:pt x="142" y="225"/>
                  <a:pt x="151" y="225"/>
                  <a:pt x="158" y="219"/>
                </a:cubicBezTo>
                <a:cubicBezTo>
                  <a:pt x="165" y="213"/>
                  <a:pt x="167" y="200"/>
                  <a:pt x="174" y="195"/>
                </a:cubicBezTo>
                <a:cubicBezTo>
                  <a:pt x="181" y="190"/>
                  <a:pt x="189" y="192"/>
                  <a:pt x="198" y="189"/>
                </a:cubicBezTo>
                <a:cubicBezTo>
                  <a:pt x="207" y="186"/>
                  <a:pt x="218" y="176"/>
                  <a:pt x="227" y="174"/>
                </a:cubicBezTo>
                <a:cubicBezTo>
                  <a:pt x="236" y="172"/>
                  <a:pt x="245" y="178"/>
                  <a:pt x="252" y="176"/>
                </a:cubicBezTo>
                <a:cubicBezTo>
                  <a:pt x="259" y="174"/>
                  <a:pt x="264" y="163"/>
                  <a:pt x="270" y="161"/>
                </a:cubicBezTo>
                <a:cubicBezTo>
                  <a:pt x="276" y="159"/>
                  <a:pt x="273" y="164"/>
                  <a:pt x="288" y="161"/>
                </a:cubicBezTo>
                <a:cubicBezTo>
                  <a:pt x="303" y="158"/>
                  <a:pt x="346" y="148"/>
                  <a:pt x="360" y="141"/>
                </a:cubicBezTo>
                <a:cubicBezTo>
                  <a:pt x="374" y="134"/>
                  <a:pt x="368" y="128"/>
                  <a:pt x="375" y="122"/>
                </a:cubicBezTo>
                <a:cubicBezTo>
                  <a:pt x="382" y="116"/>
                  <a:pt x="395" y="113"/>
                  <a:pt x="404" y="104"/>
                </a:cubicBezTo>
                <a:cubicBezTo>
                  <a:pt x="413" y="95"/>
                  <a:pt x="420" y="77"/>
                  <a:pt x="428" y="68"/>
                </a:cubicBezTo>
                <a:cubicBezTo>
                  <a:pt x="436" y="59"/>
                  <a:pt x="445" y="59"/>
                  <a:pt x="453" y="51"/>
                </a:cubicBezTo>
                <a:cubicBezTo>
                  <a:pt x="461" y="43"/>
                  <a:pt x="469" y="28"/>
                  <a:pt x="476" y="20"/>
                </a:cubicBezTo>
                <a:lnTo>
                  <a:pt x="495" y="0"/>
                </a:lnTo>
                <a:lnTo>
                  <a:pt x="513" y="9"/>
                </a:lnTo>
                <a:cubicBezTo>
                  <a:pt x="529" y="19"/>
                  <a:pt x="564" y="44"/>
                  <a:pt x="591" y="62"/>
                </a:cubicBezTo>
                <a:cubicBezTo>
                  <a:pt x="618" y="80"/>
                  <a:pt x="646" y="108"/>
                  <a:pt x="672" y="117"/>
                </a:cubicBezTo>
                <a:cubicBezTo>
                  <a:pt x="698" y="126"/>
                  <a:pt x="715" y="113"/>
                  <a:pt x="744" y="119"/>
                </a:cubicBezTo>
                <a:cubicBezTo>
                  <a:pt x="773" y="125"/>
                  <a:pt x="811" y="148"/>
                  <a:pt x="845" y="156"/>
                </a:cubicBezTo>
                <a:cubicBezTo>
                  <a:pt x="879" y="164"/>
                  <a:pt x="927" y="170"/>
                  <a:pt x="947" y="168"/>
                </a:cubicBezTo>
                <a:cubicBezTo>
                  <a:pt x="967" y="166"/>
                  <a:pt x="956" y="150"/>
                  <a:pt x="964" y="144"/>
                </a:cubicBezTo>
                <a:cubicBezTo>
                  <a:pt x="972" y="138"/>
                  <a:pt x="984" y="132"/>
                  <a:pt x="998" y="134"/>
                </a:cubicBezTo>
                <a:cubicBezTo>
                  <a:pt x="1012" y="136"/>
                  <a:pt x="1037" y="155"/>
                  <a:pt x="1050" y="155"/>
                </a:cubicBezTo>
                <a:cubicBezTo>
                  <a:pt x="1063" y="155"/>
                  <a:pt x="1066" y="139"/>
                  <a:pt x="1076" y="134"/>
                </a:cubicBezTo>
                <a:cubicBezTo>
                  <a:pt x="1086" y="129"/>
                  <a:pt x="1099" y="132"/>
                  <a:pt x="1109" y="125"/>
                </a:cubicBezTo>
                <a:cubicBezTo>
                  <a:pt x="1119" y="118"/>
                  <a:pt x="1125" y="99"/>
                  <a:pt x="1136" y="92"/>
                </a:cubicBezTo>
                <a:cubicBezTo>
                  <a:pt x="1147" y="85"/>
                  <a:pt x="1164" y="83"/>
                  <a:pt x="1173" y="83"/>
                </a:cubicBezTo>
                <a:cubicBezTo>
                  <a:pt x="1182" y="83"/>
                  <a:pt x="1185" y="94"/>
                  <a:pt x="1193" y="92"/>
                </a:cubicBezTo>
                <a:cubicBezTo>
                  <a:pt x="1201" y="90"/>
                  <a:pt x="1212" y="70"/>
                  <a:pt x="1224" y="72"/>
                </a:cubicBezTo>
                <a:cubicBezTo>
                  <a:pt x="1236" y="74"/>
                  <a:pt x="1254" y="105"/>
                  <a:pt x="1266" y="105"/>
                </a:cubicBezTo>
                <a:cubicBezTo>
                  <a:pt x="1278" y="105"/>
                  <a:pt x="1284" y="82"/>
                  <a:pt x="1296" y="74"/>
                </a:cubicBezTo>
                <a:cubicBezTo>
                  <a:pt x="1308" y="66"/>
                  <a:pt x="1327" y="61"/>
                  <a:pt x="1337" y="59"/>
                </a:cubicBezTo>
                <a:cubicBezTo>
                  <a:pt x="1347" y="57"/>
                  <a:pt x="1341" y="67"/>
                  <a:pt x="1359" y="63"/>
                </a:cubicBezTo>
                <a:cubicBezTo>
                  <a:pt x="1377" y="59"/>
                  <a:pt x="1424" y="35"/>
                  <a:pt x="1445" y="33"/>
                </a:cubicBezTo>
                <a:cubicBezTo>
                  <a:pt x="1466" y="31"/>
                  <a:pt x="1473" y="47"/>
                  <a:pt x="1487" y="51"/>
                </a:cubicBezTo>
                <a:cubicBezTo>
                  <a:pt x="1501" y="55"/>
                  <a:pt x="1517" y="58"/>
                  <a:pt x="1530" y="59"/>
                </a:cubicBezTo>
                <a:cubicBezTo>
                  <a:pt x="1543" y="60"/>
                  <a:pt x="1553" y="53"/>
                  <a:pt x="1566" y="56"/>
                </a:cubicBezTo>
                <a:cubicBezTo>
                  <a:pt x="1579" y="59"/>
                  <a:pt x="1593" y="76"/>
                  <a:pt x="1607" y="77"/>
                </a:cubicBezTo>
                <a:cubicBezTo>
                  <a:pt x="1621" y="78"/>
                  <a:pt x="1638" y="62"/>
                  <a:pt x="1649" y="60"/>
                </a:cubicBezTo>
                <a:cubicBezTo>
                  <a:pt x="1660" y="58"/>
                  <a:pt x="1663" y="68"/>
                  <a:pt x="1671" y="68"/>
                </a:cubicBezTo>
                <a:cubicBezTo>
                  <a:pt x="1679" y="68"/>
                  <a:pt x="1692" y="62"/>
                  <a:pt x="1700" y="62"/>
                </a:cubicBezTo>
                <a:cubicBezTo>
                  <a:pt x="1708" y="62"/>
                  <a:pt x="1710" y="72"/>
                  <a:pt x="1722" y="71"/>
                </a:cubicBezTo>
                <a:cubicBezTo>
                  <a:pt x="1734" y="70"/>
                  <a:pt x="1755" y="51"/>
                  <a:pt x="1775" y="53"/>
                </a:cubicBezTo>
                <a:cubicBezTo>
                  <a:pt x="1795" y="55"/>
                  <a:pt x="1828" y="79"/>
                  <a:pt x="1845" y="83"/>
                </a:cubicBezTo>
                <a:cubicBezTo>
                  <a:pt x="1862" y="87"/>
                  <a:pt x="1873" y="73"/>
                  <a:pt x="1880" y="75"/>
                </a:cubicBezTo>
                <a:cubicBezTo>
                  <a:pt x="1887" y="77"/>
                  <a:pt x="1882" y="88"/>
                  <a:pt x="1889" y="96"/>
                </a:cubicBezTo>
                <a:cubicBezTo>
                  <a:pt x="1896" y="104"/>
                  <a:pt x="1914" y="118"/>
                  <a:pt x="1922" y="122"/>
                </a:cubicBezTo>
                <a:cubicBezTo>
                  <a:pt x="1930" y="126"/>
                  <a:pt x="1933" y="117"/>
                  <a:pt x="1940" y="119"/>
                </a:cubicBezTo>
                <a:cubicBezTo>
                  <a:pt x="1947" y="121"/>
                  <a:pt x="1957" y="133"/>
                  <a:pt x="1964" y="134"/>
                </a:cubicBezTo>
                <a:cubicBezTo>
                  <a:pt x="1971" y="135"/>
                  <a:pt x="1979" y="125"/>
                  <a:pt x="1985" y="123"/>
                </a:cubicBezTo>
                <a:cubicBezTo>
                  <a:pt x="1991" y="121"/>
                  <a:pt x="1993" y="126"/>
                  <a:pt x="2000" y="123"/>
                </a:cubicBezTo>
                <a:cubicBezTo>
                  <a:pt x="2007" y="120"/>
                  <a:pt x="2020" y="109"/>
                  <a:pt x="2028" y="107"/>
                </a:cubicBezTo>
                <a:cubicBezTo>
                  <a:pt x="2036" y="105"/>
                  <a:pt x="2038" y="113"/>
                  <a:pt x="2046" y="110"/>
                </a:cubicBezTo>
                <a:cubicBezTo>
                  <a:pt x="2054" y="107"/>
                  <a:pt x="2066" y="89"/>
                  <a:pt x="2078" y="90"/>
                </a:cubicBezTo>
                <a:cubicBezTo>
                  <a:pt x="2090" y="91"/>
                  <a:pt x="2112" y="110"/>
                  <a:pt x="2120" y="117"/>
                </a:cubicBezTo>
                <a:cubicBezTo>
                  <a:pt x="2128" y="124"/>
                  <a:pt x="2117" y="134"/>
                  <a:pt x="2127" y="135"/>
                </a:cubicBezTo>
                <a:cubicBezTo>
                  <a:pt x="2137" y="136"/>
                  <a:pt x="2173" y="132"/>
                  <a:pt x="2178" y="126"/>
                </a:cubicBezTo>
                <a:cubicBezTo>
                  <a:pt x="2183" y="120"/>
                  <a:pt x="2158" y="100"/>
                  <a:pt x="2159" y="96"/>
                </a:cubicBezTo>
                <a:cubicBezTo>
                  <a:pt x="2160" y="92"/>
                  <a:pt x="2177" y="103"/>
                  <a:pt x="2186" y="104"/>
                </a:cubicBezTo>
                <a:cubicBezTo>
                  <a:pt x="2195" y="105"/>
                  <a:pt x="2208" y="100"/>
                  <a:pt x="2213" y="104"/>
                </a:cubicBezTo>
                <a:cubicBezTo>
                  <a:pt x="2218" y="108"/>
                  <a:pt x="2210" y="120"/>
                  <a:pt x="2214" y="125"/>
                </a:cubicBezTo>
                <a:cubicBezTo>
                  <a:pt x="2218" y="130"/>
                  <a:pt x="2229" y="132"/>
                  <a:pt x="2235" y="137"/>
                </a:cubicBezTo>
                <a:cubicBezTo>
                  <a:pt x="2241" y="142"/>
                  <a:pt x="2242" y="154"/>
                  <a:pt x="2253" y="155"/>
                </a:cubicBezTo>
                <a:cubicBezTo>
                  <a:pt x="2264" y="156"/>
                  <a:pt x="2287" y="144"/>
                  <a:pt x="2300" y="144"/>
                </a:cubicBezTo>
                <a:cubicBezTo>
                  <a:pt x="2313" y="144"/>
                  <a:pt x="2321" y="154"/>
                  <a:pt x="2331" y="152"/>
                </a:cubicBezTo>
                <a:cubicBezTo>
                  <a:pt x="2341" y="150"/>
                  <a:pt x="2348" y="136"/>
                  <a:pt x="2358" y="135"/>
                </a:cubicBezTo>
                <a:cubicBezTo>
                  <a:pt x="2368" y="134"/>
                  <a:pt x="2380" y="146"/>
                  <a:pt x="2390" y="143"/>
                </a:cubicBezTo>
                <a:cubicBezTo>
                  <a:pt x="2400" y="140"/>
                  <a:pt x="2408" y="121"/>
                  <a:pt x="2418" y="117"/>
                </a:cubicBezTo>
                <a:cubicBezTo>
                  <a:pt x="2428" y="113"/>
                  <a:pt x="2437" y="120"/>
                  <a:pt x="2447" y="117"/>
                </a:cubicBezTo>
                <a:cubicBezTo>
                  <a:pt x="2457" y="114"/>
                  <a:pt x="2469" y="101"/>
                  <a:pt x="2478" y="102"/>
                </a:cubicBezTo>
                <a:cubicBezTo>
                  <a:pt x="2487" y="103"/>
                  <a:pt x="2496" y="124"/>
                  <a:pt x="2502" y="126"/>
                </a:cubicBezTo>
                <a:cubicBezTo>
                  <a:pt x="2508" y="128"/>
                  <a:pt x="2510" y="116"/>
                  <a:pt x="2517" y="117"/>
                </a:cubicBezTo>
                <a:cubicBezTo>
                  <a:pt x="2524" y="118"/>
                  <a:pt x="2541" y="125"/>
                  <a:pt x="2544" y="132"/>
                </a:cubicBezTo>
                <a:cubicBezTo>
                  <a:pt x="2547" y="139"/>
                  <a:pt x="2534" y="155"/>
                  <a:pt x="2535" y="162"/>
                </a:cubicBezTo>
                <a:cubicBezTo>
                  <a:pt x="2536" y="169"/>
                  <a:pt x="2549" y="170"/>
                  <a:pt x="2550" y="177"/>
                </a:cubicBezTo>
                <a:cubicBezTo>
                  <a:pt x="2551" y="184"/>
                  <a:pt x="2540" y="197"/>
                  <a:pt x="2541" y="203"/>
                </a:cubicBezTo>
                <a:cubicBezTo>
                  <a:pt x="2542" y="209"/>
                  <a:pt x="2554" y="210"/>
                  <a:pt x="2559" y="212"/>
                </a:cubicBezTo>
                <a:cubicBezTo>
                  <a:pt x="2564" y="214"/>
                  <a:pt x="2569" y="218"/>
                  <a:pt x="2574" y="215"/>
                </a:cubicBezTo>
                <a:cubicBezTo>
                  <a:pt x="2579" y="212"/>
                  <a:pt x="2580" y="200"/>
                  <a:pt x="2588" y="195"/>
                </a:cubicBezTo>
                <a:cubicBezTo>
                  <a:pt x="2596" y="190"/>
                  <a:pt x="2614" y="188"/>
                  <a:pt x="2621" y="183"/>
                </a:cubicBezTo>
                <a:cubicBezTo>
                  <a:pt x="2628" y="178"/>
                  <a:pt x="2626" y="165"/>
                  <a:pt x="2630" y="162"/>
                </a:cubicBezTo>
                <a:cubicBezTo>
                  <a:pt x="2634" y="159"/>
                  <a:pt x="2643" y="163"/>
                  <a:pt x="2645" y="167"/>
                </a:cubicBezTo>
                <a:cubicBezTo>
                  <a:pt x="2647" y="171"/>
                  <a:pt x="2638" y="182"/>
                  <a:pt x="2640" y="188"/>
                </a:cubicBezTo>
                <a:cubicBezTo>
                  <a:pt x="2642" y="194"/>
                  <a:pt x="2658" y="201"/>
                  <a:pt x="2657" y="206"/>
                </a:cubicBezTo>
                <a:cubicBezTo>
                  <a:pt x="2656" y="211"/>
                  <a:pt x="2640" y="216"/>
                  <a:pt x="2636" y="221"/>
                </a:cubicBezTo>
                <a:cubicBezTo>
                  <a:pt x="2632" y="226"/>
                  <a:pt x="2638" y="230"/>
                  <a:pt x="2634" y="237"/>
                </a:cubicBezTo>
                <a:cubicBezTo>
                  <a:pt x="2630" y="244"/>
                  <a:pt x="2624" y="255"/>
                  <a:pt x="2613" y="261"/>
                </a:cubicBezTo>
                <a:cubicBezTo>
                  <a:pt x="2602" y="267"/>
                  <a:pt x="2580" y="269"/>
                  <a:pt x="2570" y="275"/>
                </a:cubicBezTo>
                <a:cubicBezTo>
                  <a:pt x="2560" y="281"/>
                  <a:pt x="2555" y="289"/>
                  <a:pt x="2555" y="296"/>
                </a:cubicBezTo>
                <a:cubicBezTo>
                  <a:pt x="2555" y="303"/>
                  <a:pt x="2567" y="310"/>
                  <a:pt x="2571" y="317"/>
                </a:cubicBezTo>
                <a:cubicBezTo>
                  <a:pt x="2575" y="324"/>
                  <a:pt x="2578" y="328"/>
                  <a:pt x="2580" y="335"/>
                </a:cubicBezTo>
                <a:cubicBezTo>
                  <a:pt x="2582" y="342"/>
                  <a:pt x="2579" y="355"/>
                  <a:pt x="2582" y="360"/>
                </a:cubicBezTo>
                <a:cubicBezTo>
                  <a:pt x="2585" y="365"/>
                  <a:pt x="2595" y="362"/>
                  <a:pt x="2598" y="365"/>
                </a:cubicBezTo>
                <a:cubicBezTo>
                  <a:pt x="2601" y="368"/>
                  <a:pt x="2597" y="375"/>
                  <a:pt x="2603" y="381"/>
                </a:cubicBezTo>
                <a:cubicBezTo>
                  <a:pt x="2609" y="387"/>
                  <a:pt x="2630" y="394"/>
                  <a:pt x="2633" y="401"/>
                </a:cubicBezTo>
                <a:cubicBezTo>
                  <a:pt x="2636" y="408"/>
                  <a:pt x="2622" y="415"/>
                  <a:pt x="2621" y="426"/>
                </a:cubicBezTo>
                <a:cubicBezTo>
                  <a:pt x="2620" y="437"/>
                  <a:pt x="2630" y="455"/>
                  <a:pt x="2627" y="465"/>
                </a:cubicBezTo>
                <a:cubicBezTo>
                  <a:pt x="2624" y="475"/>
                  <a:pt x="2608" y="480"/>
                  <a:pt x="2603" y="489"/>
                </a:cubicBezTo>
                <a:cubicBezTo>
                  <a:pt x="2598" y="498"/>
                  <a:pt x="2603" y="513"/>
                  <a:pt x="2598" y="519"/>
                </a:cubicBezTo>
                <a:cubicBezTo>
                  <a:pt x="2593" y="525"/>
                  <a:pt x="2576" y="522"/>
                  <a:pt x="2570" y="525"/>
                </a:cubicBezTo>
                <a:lnTo>
                  <a:pt x="2561" y="536"/>
                </a:lnTo>
                <a:lnTo>
                  <a:pt x="0" y="533"/>
                </a:lnTo>
                <a:lnTo>
                  <a:pt x="0" y="352"/>
                </a:lnTo>
                <a:close/>
              </a:path>
            </a:pathLst>
          </a:custGeom>
          <a:blipFill rotWithShape="0">
            <a:blip r:embed="rId1">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90"/>
          <p:cNvSpPr/>
          <p:nvPr/>
        </p:nvSpPr>
        <p:spPr>
          <a:xfrm>
            <a:off x="2336760" y="3530520"/>
            <a:ext cx="1563840" cy="1155960"/>
          </a:xfrm>
          <a:custGeom>
            <a:avLst/>
            <a:gdLst>
              <a:gd name="textAreaLeft" fmla="*/ 0 w 1563840"/>
              <a:gd name="textAreaRight" fmla="*/ 1564200 w 1563840"/>
              <a:gd name="textAreaTop" fmla="*/ 0 h 1155960"/>
              <a:gd name="textAreaBottom" fmla="*/ 1156320 h 1155960"/>
            </a:gdLst>
            <a:ahLst/>
            <a:rect l="textAreaLeft" t="textAreaTop" r="textAreaRight" b="textAreaBottom"/>
            <a:pathLst>
              <a:path w="985" h="728">
                <a:moveTo>
                  <a:pt x="0" y="521"/>
                </a:moveTo>
                <a:lnTo>
                  <a:pt x="25" y="502"/>
                </a:lnTo>
                <a:cubicBezTo>
                  <a:pt x="64" y="466"/>
                  <a:pt x="184" y="360"/>
                  <a:pt x="232" y="307"/>
                </a:cubicBezTo>
                <a:cubicBezTo>
                  <a:pt x="280" y="254"/>
                  <a:pt x="290" y="229"/>
                  <a:pt x="315" y="185"/>
                </a:cubicBezTo>
                <a:cubicBezTo>
                  <a:pt x="340" y="141"/>
                  <a:pt x="361" y="74"/>
                  <a:pt x="381" y="44"/>
                </a:cubicBezTo>
                <a:cubicBezTo>
                  <a:pt x="401" y="14"/>
                  <a:pt x="417" y="8"/>
                  <a:pt x="435" y="4"/>
                </a:cubicBezTo>
                <a:cubicBezTo>
                  <a:pt x="453" y="0"/>
                  <a:pt x="470" y="18"/>
                  <a:pt x="487" y="22"/>
                </a:cubicBezTo>
                <a:cubicBezTo>
                  <a:pt x="504" y="26"/>
                  <a:pt x="516" y="10"/>
                  <a:pt x="540" y="29"/>
                </a:cubicBezTo>
                <a:cubicBezTo>
                  <a:pt x="564" y="48"/>
                  <a:pt x="599" y="117"/>
                  <a:pt x="628" y="134"/>
                </a:cubicBezTo>
                <a:cubicBezTo>
                  <a:pt x="657" y="151"/>
                  <a:pt x="689" y="137"/>
                  <a:pt x="714" y="130"/>
                </a:cubicBezTo>
                <a:cubicBezTo>
                  <a:pt x="739" y="123"/>
                  <a:pt x="762" y="100"/>
                  <a:pt x="777" y="92"/>
                </a:cubicBezTo>
                <a:cubicBezTo>
                  <a:pt x="792" y="84"/>
                  <a:pt x="794" y="82"/>
                  <a:pt x="802" y="82"/>
                </a:cubicBezTo>
                <a:cubicBezTo>
                  <a:pt x="810" y="82"/>
                  <a:pt x="819" y="94"/>
                  <a:pt x="826" y="94"/>
                </a:cubicBezTo>
                <a:cubicBezTo>
                  <a:pt x="833" y="94"/>
                  <a:pt x="835" y="76"/>
                  <a:pt x="846" y="85"/>
                </a:cubicBezTo>
                <a:cubicBezTo>
                  <a:pt x="857" y="94"/>
                  <a:pt x="889" y="134"/>
                  <a:pt x="895" y="146"/>
                </a:cubicBezTo>
                <a:lnTo>
                  <a:pt x="882" y="154"/>
                </a:lnTo>
                <a:cubicBezTo>
                  <a:pt x="877" y="159"/>
                  <a:pt x="870" y="171"/>
                  <a:pt x="864" y="178"/>
                </a:cubicBezTo>
                <a:cubicBezTo>
                  <a:pt x="858" y="185"/>
                  <a:pt x="848" y="188"/>
                  <a:pt x="844" y="196"/>
                </a:cubicBezTo>
                <a:cubicBezTo>
                  <a:pt x="840" y="204"/>
                  <a:pt x="832" y="219"/>
                  <a:pt x="840" y="226"/>
                </a:cubicBezTo>
                <a:cubicBezTo>
                  <a:pt x="848" y="233"/>
                  <a:pt x="880" y="238"/>
                  <a:pt x="891" y="236"/>
                </a:cubicBezTo>
                <a:cubicBezTo>
                  <a:pt x="902" y="234"/>
                  <a:pt x="903" y="221"/>
                  <a:pt x="904" y="215"/>
                </a:cubicBezTo>
                <a:cubicBezTo>
                  <a:pt x="905" y="209"/>
                  <a:pt x="896" y="205"/>
                  <a:pt x="898" y="199"/>
                </a:cubicBezTo>
                <a:cubicBezTo>
                  <a:pt x="900" y="193"/>
                  <a:pt x="910" y="182"/>
                  <a:pt x="915" y="179"/>
                </a:cubicBezTo>
                <a:cubicBezTo>
                  <a:pt x="920" y="176"/>
                  <a:pt x="927" y="178"/>
                  <a:pt x="931" y="179"/>
                </a:cubicBezTo>
                <a:cubicBezTo>
                  <a:pt x="935" y="180"/>
                  <a:pt x="939" y="175"/>
                  <a:pt x="942" y="187"/>
                </a:cubicBezTo>
                <a:cubicBezTo>
                  <a:pt x="945" y="199"/>
                  <a:pt x="944" y="233"/>
                  <a:pt x="949" y="250"/>
                </a:cubicBezTo>
                <a:cubicBezTo>
                  <a:pt x="954" y="267"/>
                  <a:pt x="972" y="280"/>
                  <a:pt x="975" y="290"/>
                </a:cubicBezTo>
                <a:cubicBezTo>
                  <a:pt x="978" y="300"/>
                  <a:pt x="967" y="305"/>
                  <a:pt x="967" y="313"/>
                </a:cubicBezTo>
                <a:cubicBezTo>
                  <a:pt x="967" y="321"/>
                  <a:pt x="983" y="329"/>
                  <a:pt x="972" y="341"/>
                </a:cubicBezTo>
                <a:cubicBezTo>
                  <a:pt x="961" y="353"/>
                  <a:pt x="908" y="373"/>
                  <a:pt x="901" y="388"/>
                </a:cubicBezTo>
                <a:cubicBezTo>
                  <a:pt x="894" y="403"/>
                  <a:pt x="928" y="419"/>
                  <a:pt x="931" y="431"/>
                </a:cubicBezTo>
                <a:cubicBezTo>
                  <a:pt x="934" y="443"/>
                  <a:pt x="925" y="450"/>
                  <a:pt x="922" y="461"/>
                </a:cubicBezTo>
                <a:cubicBezTo>
                  <a:pt x="919" y="472"/>
                  <a:pt x="916" y="486"/>
                  <a:pt x="913" y="496"/>
                </a:cubicBezTo>
                <a:cubicBezTo>
                  <a:pt x="910" y="506"/>
                  <a:pt x="893" y="510"/>
                  <a:pt x="903" y="521"/>
                </a:cubicBezTo>
                <a:cubicBezTo>
                  <a:pt x="913" y="532"/>
                  <a:pt x="967" y="554"/>
                  <a:pt x="976" y="565"/>
                </a:cubicBezTo>
                <a:cubicBezTo>
                  <a:pt x="985" y="576"/>
                  <a:pt x="962" y="580"/>
                  <a:pt x="958" y="590"/>
                </a:cubicBezTo>
                <a:cubicBezTo>
                  <a:pt x="954" y="600"/>
                  <a:pt x="956" y="620"/>
                  <a:pt x="951" y="625"/>
                </a:cubicBezTo>
                <a:cubicBezTo>
                  <a:pt x="946" y="630"/>
                  <a:pt x="936" y="620"/>
                  <a:pt x="930" y="622"/>
                </a:cubicBezTo>
                <a:cubicBezTo>
                  <a:pt x="924" y="624"/>
                  <a:pt x="918" y="634"/>
                  <a:pt x="912" y="637"/>
                </a:cubicBezTo>
                <a:cubicBezTo>
                  <a:pt x="906" y="640"/>
                  <a:pt x="895" y="639"/>
                  <a:pt x="891" y="643"/>
                </a:cubicBezTo>
                <a:cubicBezTo>
                  <a:pt x="887" y="647"/>
                  <a:pt x="890" y="659"/>
                  <a:pt x="885" y="664"/>
                </a:cubicBezTo>
                <a:cubicBezTo>
                  <a:pt x="880" y="669"/>
                  <a:pt x="867" y="670"/>
                  <a:pt x="858" y="674"/>
                </a:cubicBezTo>
                <a:cubicBezTo>
                  <a:pt x="849" y="678"/>
                  <a:pt x="839" y="687"/>
                  <a:pt x="831" y="691"/>
                </a:cubicBezTo>
                <a:cubicBezTo>
                  <a:pt x="823" y="695"/>
                  <a:pt x="818" y="698"/>
                  <a:pt x="808" y="698"/>
                </a:cubicBezTo>
                <a:cubicBezTo>
                  <a:pt x="798" y="698"/>
                  <a:pt x="780" y="695"/>
                  <a:pt x="768" y="689"/>
                </a:cubicBezTo>
                <a:cubicBezTo>
                  <a:pt x="756" y="683"/>
                  <a:pt x="748" y="667"/>
                  <a:pt x="738" y="662"/>
                </a:cubicBezTo>
                <a:cubicBezTo>
                  <a:pt x="728" y="657"/>
                  <a:pt x="715" y="666"/>
                  <a:pt x="708" y="661"/>
                </a:cubicBezTo>
                <a:cubicBezTo>
                  <a:pt x="701" y="656"/>
                  <a:pt x="698" y="640"/>
                  <a:pt x="693" y="634"/>
                </a:cubicBezTo>
                <a:cubicBezTo>
                  <a:pt x="688" y="628"/>
                  <a:pt x="677" y="629"/>
                  <a:pt x="679" y="626"/>
                </a:cubicBezTo>
                <a:cubicBezTo>
                  <a:pt x="681" y="623"/>
                  <a:pt x="704" y="619"/>
                  <a:pt x="705" y="614"/>
                </a:cubicBezTo>
                <a:cubicBezTo>
                  <a:pt x="706" y="609"/>
                  <a:pt x="691" y="596"/>
                  <a:pt x="684" y="596"/>
                </a:cubicBezTo>
                <a:cubicBezTo>
                  <a:pt x="677" y="596"/>
                  <a:pt x="670" y="612"/>
                  <a:pt x="663" y="614"/>
                </a:cubicBezTo>
                <a:cubicBezTo>
                  <a:pt x="656" y="616"/>
                  <a:pt x="648" y="607"/>
                  <a:pt x="642" y="607"/>
                </a:cubicBezTo>
                <a:cubicBezTo>
                  <a:pt x="636" y="607"/>
                  <a:pt x="634" y="617"/>
                  <a:pt x="627" y="614"/>
                </a:cubicBezTo>
                <a:cubicBezTo>
                  <a:pt x="620" y="611"/>
                  <a:pt x="608" y="591"/>
                  <a:pt x="600" y="587"/>
                </a:cubicBezTo>
                <a:cubicBezTo>
                  <a:pt x="592" y="583"/>
                  <a:pt x="585" y="591"/>
                  <a:pt x="577" y="590"/>
                </a:cubicBezTo>
                <a:cubicBezTo>
                  <a:pt x="569" y="589"/>
                  <a:pt x="556" y="581"/>
                  <a:pt x="549" y="581"/>
                </a:cubicBezTo>
                <a:cubicBezTo>
                  <a:pt x="542" y="581"/>
                  <a:pt x="537" y="586"/>
                  <a:pt x="532" y="587"/>
                </a:cubicBezTo>
                <a:cubicBezTo>
                  <a:pt x="527" y="588"/>
                  <a:pt x="524" y="581"/>
                  <a:pt x="517" y="584"/>
                </a:cubicBezTo>
                <a:cubicBezTo>
                  <a:pt x="510" y="587"/>
                  <a:pt x="498" y="604"/>
                  <a:pt x="492" y="607"/>
                </a:cubicBezTo>
                <a:cubicBezTo>
                  <a:pt x="486" y="610"/>
                  <a:pt x="490" y="597"/>
                  <a:pt x="481" y="602"/>
                </a:cubicBezTo>
                <a:cubicBezTo>
                  <a:pt x="472" y="607"/>
                  <a:pt x="442" y="627"/>
                  <a:pt x="435" y="637"/>
                </a:cubicBezTo>
                <a:cubicBezTo>
                  <a:pt x="428" y="647"/>
                  <a:pt x="441" y="654"/>
                  <a:pt x="441" y="661"/>
                </a:cubicBezTo>
                <a:cubicBezTo>
                  <a:pt x="441" y="668"/>
                  <a:pt x="429" y="673"/>
                  <a:pt x="432" y="680"/>
                </a:cubicBezTo>
                <a:cubicBezTo>
                  <a:pt x="435" y="687"/>
                  <a:pt x="460" y="697"/>
                  <a:pt x="462" y="703"/>
                </a:cubicBezTo>
                <a:cubicBezTo>
                  <a:pt x="464" y="709"/>
                  <a:pt x="451" y="718"/>
                  <a:pt x="445" y="719"/>
                </a:cubicBezTo>
                <a:cubicBezTo>
                  <a:pt x="439" y="720"/>
                  <a:pt x="436" y="709"/>
                  <a:pt x="426" y="710"/>
                </a:cubicBezTo>
                <a:cubicBezTo>
                  <a:pt x="416" y="711"/>
                  <a:pt x="400" y="728"/>
                  <a:pt x="387" y="725"/>
                </a:cubicBezTo>
                <a:cubicBezTo>
                  <a:pt x="374" y="722"/>
                  <a:pt x="366" y="701"/>
                  <a:pt x="349" y="694"/>
                </a:cubicBezTo>
                <a:cubicBezTo>
                  <a:pt x="332" y="687"/>
                  <a:pt x="301" y="692"/>
                  <a:pt x="286" y="682"/>
                </a:cubicBezTo>
                <a:cubicBezTo>
                  <a:pt x="271" y="672"/>
                  <a:pt x="267" y="646"/>
                  <a:pt x="258" y="637"/>
                </a:cubicBezTo>
                <a:cubicBezTo>
                  <a:pt x="249" y="628"/>
                  <a:pt x="237" y="631"/>
                  <a:pt x="229" y="626"/>
                </a:cubicBezTo>
                <a:cubicBezTo>
                  <a:pt x="221" y="621"/>
                  <a:pt x="218" y="606"/>
                  <a:pt x="211" y="604"/>
                </a:cubicBezTo>
                <a:cubicBezTo>
                  <a:pt x="204" y="602"/>
                  <a:pt x="192" y="606"/>
                  <a:pt x="186" y="611"/>
                </a:cubicBezTo>
                <a:cubicBezTo>
                  <a:pt x="180" y="616"/>
                  <a:pt x="180" y="632"/>
                  <a:pt x="172" y="631"/>
                </a:cubicBezTo>
                <a:cubicBezTo>
                  <a:pt x="164" y="630"/>
                  <a:pt x="152" y="612"/>
                  <a:pt x="138" y="602"/>
                </a:cubicBezTo>
                <a:cubicBezTo>
                  <a:pt x="124" y="592"/>
                  <a:pt x="103" y="580"/>
                  <a:pt x="87" y="574"/>
                </a:cubicBezTo>
                <a:cubicBezTo>
                  <a:pt x="71" y="568"/>
                  <a:pt x="54" y="572"/>
                  <a:pt x="39" y="563"/>
                </a:cubicBezTo>
                <a:cubicBezTo>
                  <a:pt x="24" y="554"/>
                  <a:pt x="0" y="521"/>
                  <a:pt x="0" y="521"/>
                </a:cubicBezTo>
                <a:close/>
              </a:path>
            </a:pathLst>
          </a:cu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87"/>
          <p:cNvSpPr/>
          <p:nvPr/>
        </p:nvSpPr>
        <p:spPr>
          <a:xfrm>
            <a:off x="2066760" y="2055960"/>
            <a:ext cx="2144880" cy="2303280"/>
          </a:xfrm>
          <a:custGeom>
            <a:avLst/>
            <a:gdLst>
              <a:gd name="textAreaLeft" fmla="*/ 0 w 2144880"/>
              <a:gd name="textAreaRight" fmla="*/ 2145240 w 2144880"/>
              <a:gd name="textAreaTop" fmla="*/ 0 h 2303280"/>
              <a:gd name="textAreaBottom" fmla="*/ 2303640 h 2303280"/>
            </a:gdLst>
            <a:ahLst/>
            <a:rect l="textAreaLeft" t="textAreaTop" r="textAreaRight" b="textAreaBottom"/>
            <a:pathLst>
              <a:path w="1351" h="1451">
                <a:moveTo>
                  <a:pt x="1332" y="73"/>
                </a:moveTo>
                <a:cubicBezTo>
                  <a:pt x="1330" y="60"/>
                  <a:pt x="1328" y="42"/>
                  <a:pt x="1302" y="31"/>
                </a:cubicBezTo>
                <a:cubicBezTo>
                  <a:pt x="1276" y="20"/>
                  <a:pt x="1213" y="0"/>
                  <a:pt x="1178" y="9"/>
                </a:cubicBezTo>
                <a:cubicBezTo>
                  <a:pt x="1143" y="18"/>
                  <a:pt x="1107" y="62"/>
                  <a:pt x="1090" y="83"/>
                </a:cubicBezTo>
                <a:cubicBezTo>
                  <a:pt x="1073" y="104"/>
                  <a:pt x="1085" y="120"/>
                  <a:pt x="1078" y="135"/>
                </a:cubicBezTo>
                <a:cubicBezTo>
                  <a:pt x="1071" y="150"/>
                  <a:pt x="1057" y="163"/>
                  <a:pt x="1046" y="173"/>
                </a:cubicBezTo>
                <a:cubicBezTo>
                  <a:pt x="1035" y="183"/>
                  <a:pt x="1038" y="171"/>
                  <a:pt x="1012" y="193"/>
                </a:cubicBezTo>
                <a:cubicBezTo>
                  <a:pt x="986" y="215"/>
                  <a:pt x="914" y="285"/>
                  <a:pt x="888" y="307"/>
                </a:cubicBezTo>
                <a:cubicBezTo>
                  <a:pt x="862" y="329"/>
                  <a:pt x="868" y="323"/>
                  <a:pt x="858" y="323"/>
                </a:cubicBezTo>
                <a:cubicBezTo>
                  <a:pt x="848" y="323"/>
                  <a:pt x="840" y="308"/>
                  <a:pt x="830" y="307"/>
                </a:cubicBezTo>
                <a:cubicBezTo>
                  <a:pt x="820" y="306"/>
                  <a:pt x="813" y="317"/>
                  <a:pt x="798" y="319"/>
                </a:cubicBezTo>
                <a:cubicBezTo>
                  <a:pt x="783" y="321"/>
                  <a:pt x="753" y="315"/>
                  <a:pt x="742" y="321"/>
                </a:cubicBezTo>
                <a:cubicBezTo>
                  <a:pt x="731" y="327"/>
                  <a:pt x="736" y="345"/>
                  <a:pt x="732" y="357"/>
                </a:cubicBezTo>
                <a:cubicBezTo>
                  <a:pt x="728" y="369"/>
                  <a:pt x="720" y="381"/>
                  <a:pt x="716" y="393"/>
                </a:cubicBezTo>
                <a:cubicBezTo>
                  <a:pt x="712" y="405"/>
                  <a:pt x="715" y="421"/>
                  <a:pt x="710" y="429"/>
                </a:cubicBezTo>
                <a:cubicBezTo>
                  <a:pt x="705" y="437"/>
                  <a:pt x="692" y="434"/>
                  <a:pt x="684" y="439"/>
                </a:cubicBezTo>
                <a:cubicBezTo>
                  <a:pt x="676" y="444"/>
                  <a:pt x="667" y="454"/>
                  <a:pt x="660" y="457"/>
                </a:cubicBezTo>
                <a:cubicBezTo>
                  <a:pt x="653" y="460"/>
                  <a:pt x="646" y="454"/>
                  <a:pt x="640" y="455"/>
                </a:cubicBezTo>
                <a:cubicBezTo>
                  <a:pt x="634" y="456"/>
                  <a:pt x="628" y="463"/>
                  <a:pt x="622" y="463"/>
                </a:cubicBezTo>
                <a:cubicBezTo>
                  <a:pt x="616" y="463"/>
                  <a:pt x="617" y="456"/>
                  <a:pt x="606" y="457"/>
                </a:cubicBezTo>
                <a:cubicBezTo>
                  <a:pt x="595" y="458"/>
                  <a:pt x="569" y="465"/>
                  <a:pt x="558" y="471"/>
                </a:cubicBezTo>
                <a:cubicBezTo>
                  <a:pt x="547" y="477"/>
                  <a:pt x="536" y="487"/>
                  <a:pt x="540" y="493"/>
                </a:cubicBezTo>
                <a:cubicBezTo>
                  <a:pt x="544" y="499"/>
                  <a:pt x="575" y="499"/>
                  <a:pt x="584" y="505"/>
                </a:cubicBezTo>
                <a:cubicBezTo>
                  <a:pt x="593" y="511"/>
                  <a:pt x="600" y="525"/>
                  <a:pt x="596" y="527"/>
                </a:cubicBezTo>
                <a:cubicBezTo>
                  <a:pt x="592" y="529"/>
                  <a:pt x="568" y="519"/>
                  <a:pt x="558" y="519"/>
                </a:cubicBezTo>
                <a:cubicBezTo>
                  <a:pt x="548" y="519"/>
                  <a:pt x="543" y="529"/>
                  <a:pt x="536" y="529"/>
                </a:cubicBezTo>
                <a:cubicBezTo>
                  <a:pt x="529" y="529"/>
                  <a:pt x="525" y="522"/>
                  <a:pt x="518" y="521"/>
                </a:cubicBezTo>
                <a:cubicBezTo>
                  <a:pt x="511" y="520"/>
                  <a:pt x="501" y="522"/>
                  <a:pt x="494" y="521"/>
                </a:cubicBezTo>
                <a:cubicBezTo>
                  <a:pt x="487" y="520"/>
                  <a:pt x="481" y="519"/>
                  <a:pt x="474" y="515"/>
                </a:cubicBezTo>
                <a:cubicBezTo>
                  <a:pt x="467" y="511"/>
                  <a:pt x="461" y="500"/>
                  <a:pt x="450" y="495"/>
                </a:cubicBezTo>
                <a:cubicBezTo>
                  <a:pt x="439" y="490"/>
                  <a:pt x="414" y="491"/>
                  <a:pt x="406" y="487"/>
                </a:cubicBezTo>
                <a:cubicBezTo>
                  <a:pt x="398" y="483"/>
                  <a:pt x="405" y="475"/>
                  <a:pt x="402" y="469"/>
                </a:cubicBezTo>
                <a:cubicBezTo>
                  <a:pt x="399" y="463"/>
                  <a:pt x="389" y="458"/>
                  <a:pt x="388" y="451"/>
                </a:cubicBezTo>
                <a:cubicBezTo>
                  <a:pt x="387" y="444"/>
                  <a:pt x="394" y="429"/>
                  <a:pt x="394" y="425"/>
                </a:cubicBezTo>
                <a:cubicBezTo>
                  <a:pt x="394" y="421"/>
                  <a:pt x="391" y="431"/>
                  <a:pt x="386" y="429"/>
                </a:cubicBezTo>
                <a:cubicBezTo>
                  <a:pt x="381" y="427"/>
                  <a:pt x="366" y="412"/>
                  <a:pt x="362" y="411"/>
                </a:cubicBezTo>
                <a:cubicBezTo>
                  <a:pt x="358" y="410"/>
                  <a:pt x="364" y="419"/>
                  <a:pt x="362" y="423"/>
                </a:cubicBezTo>
                <a:cubicBezTo>
                  <a:pt x="360" y="427"/>
                  <a:pt x="350" y="431"/>
                  <a:pt x="350" y="437"/>
                </a:cubicBezTo>
                <a:cubicBezTo>
                  <a:pt x="350" y="443"/>
                  <a:pt x="361" y="450"/>
                  <a:pt x="362" y="457"/>
                </a:cubicBezTo>
                <a:cubicBezTo>
                  <a:pt x="363" y="464"/>
                  <a:pt x="356" y="471"/>
                  <a:pt x="358" y="477"/>
                </a:cubicBezTo>
                <a:cubicBezTo>
                  <a:pt x="360" y="483"/>
                  <a:pt x="373" y="490"/>
                  <a:pt x="374" y="495"/>
                </a:cubicBezTo>
                <a:cubicBezTo>
                  <a:pt x="375" y="500"/>
                  <a:pt x="365" y="504"/>
                  <a:pt x="364" y="509"/>
                </a:cubicBezTo>
                <a:cubicBezTo>
                  <a:pt x="363" y="514"/>
                  <a:pt x="368" y="520"/>
                  <a:pt x="366" y="527"/>
                </a:cubicBezTo>
                <a:cubicBezTo>
                  <a:pt x="364" y="534"/>
                  <a:pt x="354" y="544"/>
                  <a:pt x="354" y="553"/>
                </a:cubicBezTo>
                <a:cubicBezTo>
                  <a:pt x="354" y="562"/>
                  <a:pt x="365" y="572"/>
                  <a:pt x="364" y="579"/>
                </a:cubicBezTo>
                <a:cubicBezTo>
                  <a:pt x="363" y="586"/>
                  <a:pt x="354" y="595"/>
                  <a:pt x="350" y="595"/>
                </a:cubicBezTo>
                <a:cubicBezTo>
                  <a:pt x="346" y="595"/>
                  <a:pt x="346" y="585"/>
                  <a:pt x="338" y="581"/>
                </a:cubicBezTo>
                <a:cubicBezTo>
                  <a:pt x="330" y="577"/>
                  <a:pt x="312" y="576"/>
                  <a:pt x="300" y="571"/>
                </a:cubicBezTo>
                <a:cubicBezTo>
                  <a:pt x="288" y="566"/>
                  <a:pt x="277" y="553"/>
                  <a:pt x="266" y="551"/>
                </a:cubicBezTo>
                <a:cubicBezTo>
                  <a:pt x="255" y="549"/>
                  <a:pt x="242" y="558"/>
                  <a:pt x="234" y="557"/>
                </a:cubicBezTo>
                <a:cubicBezTo>
                  <a:pt x="226" y="556"/>
                  <a:pt x="224" y="554"/>
                  <a:pt x="220" y="545"/>
                </a:cubicBezTo>
                <a:cubicBezTo>
                  <a:pt x="216" y="536"/>
                  <a:pt x="216" y="512"/>
                  <a:pt x="212" y="505"/>
                </a:cubicBezTo>
                <a:cubicBezTo>
                  <a:pt x="208" y="498"/>
                  <a:pt x="202" y="507"/>
                  <a:pt x="196" y="505"/>
                </a:cubicBezTo>
                <a:cubicBezTo>
                  <a:pt x="190" y="503"/>
                  <a:pt x="184" y="494"/>
                  <a:pt x="178" y="495"/>
                </a:cubicBezTo>
                <a:cubicBezTo>
                  <a:pt x="172" y="496"/>
                  <a:pt x="168" y="512"/>
                  <a:pt x="162" y="513"/>
                </a:cubicBezTo>
                <a:cubicBezTo>
                  <a:pt x="156" y="514"/>
                  <a:pt x="150" y="502"/>
                  <a:pt x="144" y="503"/>
                </a:cubicBezTo>
                <a:cubicBezTo>
                  <a:pt x="138" y="504"/>
                  <a:pt x="132" y="518"/>
                  <a:pt x="124" y="517"/>
                </a:cubicBezTo>
                <a:cubicBezTo>
                  <a:pt x="116" y="516"/>
                  <a:pt x="115" y="498"/>
                  <a:pt x="96" y="499"/>
                </a:cubicBezTo>
                <a:cubicBezTo>
                  <a:pt x="77" y="500"/>
                  <a:pt x="24" y="515"/>
                  <a:pt x="12" y="521"/>
                </a:cubicBezTo>
                <a:cubicBezTo>
                  <a:pt x="0" y="527"/>
                  <a:pt x="19" y="534"/>
                  <a:pt x="24" y="535"/>
                </a:cubicBezTo>
                <a:cubicBezTo>
                  <a:pt x="29" y="536"/>
                  <a:pt x="35" y="525"/>
                  <a:pt x="41" y="525"/>
                </a:cubicBezTo>
                <a:cubicBezTo>
                  <a:pt x="47" y="525"/>
                  <a:pt x="53" y="529"/>
                  <a:pt x="60" y="535"/>
                </a:cubicBezTo>
                <a:cubicBezTo>
                  <a:pt x="67" y="541"/>
                  <a:pt x="89" y="561"/>
                  <a:pt x="84" y="563"/>
                </a:cubicBezTo>
                <a:cubicBezTo>
                  <a:pt x="79" y="565"/>
                  <a:pt x="38" y="547"/>
                  <a:pt x="30" y="547"/>
                </a:cubicBezTo>
                <a:cubicBezTo>
                  <a:pt x="22" y="547"/>
                  <a:pt x="30" y="557"/>
                  <a:pt x="36" y="561"/>
                </a:cubicBezTo>
                <a:cubicBezTo>
                  <a:pt x="42" y="565"/>
                  <a:pt x="65" y="567"/>
                  <a:pt x="68" y="571"/>
                </a:cubicBezTo>
                <a:cubicBezTo>
                  <a:pt x="71" y="575"/>
                  <a:pt x="59" y="583"/>
                  <a:pt x="53" y="583"/>
                </a:cubicBezTo>
                <a:cubicBezTo>
                  <a:pt x="47" y="583"/>
                  <a:pt x="34" y="568"/>
                  <a:pt x="29" y="568"/>
                </a:cubicBezTo>
                <a:cubicBezTo>
                  <a:pt x="24" y="568"/>
                  <a:pt x="18" y="576"/>
                  <a:pt x="22" y="585"/>
                </a:cubicBezTo>
                <a:cubicBezTo>
                  <a:pt x="26" y="594"/>
                  <a:pt x="27" y="592"/>
                  <a:pt x="56" y="622"/>
                </a:cubicBezTo>
                <a:cubicBezTo>
                  <a:pt x="85" y="652"/>
                  <a:pt x="165" y="719"/>
                  <a:pt x="196" y="767"/>
                </a:cubicBezTo>
                <a:cubicBezTo>
                  <a:pt x="227" y="815"/>
                  <a:pt x="233" y="856"/>
                  <a:pt x="240" y="913"/>
                </a:cubicBezTo>
                <a:cubicBezTo>
                  <a:pt x="247" y="970"/>
                  <a:pt x="255" y="1035"/>
                  <a:pt x="238" y="1107"/>
                </a:cubicBezTo>
                <a:cubicBezTo>
                  <a:pt x="221" y="1179"/>
                  <a:pt x="156" y="1298"/>
                  <a:pt x="136" y="1343"/>
                </a:cubicBezTo>
                <a:lnTo>
                  <a:pt x="116" y="1375"/>
                </a:lnTo>
                <a:lnTo>
                  <a:pt x="134" y="1387"/>
                </a:lnTo>
                <a:lnTo>
                  <a:pt x="134" y="1435"/>
                </a:lnTo>
                <a:lnTo>
                  <a:pt x="172" y="1451"/>
                </a:lnTo>
                <a:cubicBezTo>
                  <a:pt x="221" y="1413"/>
                  <a:pt x="364" y="1288"/>
                  <a:pt x="430" y="1205"/>
                </a:cubicBezTo>
                <a:cubicBezTo>
                  <a:pt x="496" y="1122"/>
                  <a:pt x="528" y="994"/>
                  <a:pt x="566" y="952"/>
                </a:cubicBezTo>
                <a:cubicBezTo>
                  <a:pt x="604" y="910"/>
                  <a:pt x="635" y="950"/>
                  <a:pt x="659" y="951"/>
                </a:cubicBezTo>
                <a:cubicBezTo>
                  <a:pt x="683" y="952"/>
                  <a:pt x="688" y="941"/>
                  <a:pt x="710" y="959"/>
                </a:cubicBezTo>
                <a:cubicBezTo>
                  <a:pt x="732" y="977"/>
                  <a:pt x="764" y="1041"/>
                  <a:pt x="792" y="1059"/>
                </a:cubicBezTo>
                <a:cubicBezTo>
                  <a:pt x="820" y="1077"/>
                  <a:pt x="850" y="1073"/>
                  <a:pt x="878" y="1065"/>
                </a:cubicBezTo>
                <a:cubicBezTo>
                  <a:pt x="906" y="1057"/>
                  <a:pt x="943" y="1018"/>
                  <a:pt x="962" y="1011"/>
                </a:cubicBezTo>
                <a:cubicBezTo>
                  <a:pt x="981" y="1004"/>
                  <a:pt x="984" y="1024"/>
                  <a:pt x="994" y="1025"/>
                </a:cubicBezTo>
                <a:cubicBezTo>
                  <a:pt x="1004" y="1026"/>
                  <a:pt x="1009" y="1010"/>
                  <a:pt x="1020" y="1017"/>
                </a:cubicBezTo>
                <a:cubicBezTo>
                  <a:pt x="1031" y="1024"/>
                  <a:pt x="1049" y="1064"/>
                  <a:pt x="1062" y="1067"/>
                </a:cubicBezTo>
                <a:cubicBezTo>
                  <a:pt x="1075" y="1070"/>
                  <a:pt x="1086" y="1040"/>
                  <a:pt x="1096" y="1033"/>
                </a:cubicBezTo>
                <a:cubicBezTo>
                  <a:pt x="1106" y="1026"/>
                  <a:pt x="1111" y="1031"/>
                  <a:pt x="1122" y="1025"/>
                </a:cubicBezTo>
                <a:cubicBezTo>
                  <a:pt x="1133" y="1019"/>
                  <a:pt x="1155" y="1006"/>
                  <a:pt x="1164" y="997"/>
                </a:cubicBezTo>
                <a:cubicBezTo>
                  <a:pt x="1173" y="988"/>
                  <a:pt x="1167" y="975"/>
                  <a:pt x="1174" y="971"/>
                </a:cubicBezTo>
                <a:cubicBezTo>
                  <a:pt x="1181" y="967"/>
                  <a:pt x="1199" y="978"/>
                  <a:pt x="1208" y="973"/>
                </a:cubicBezTo>
                <a:cubicBezTo>
                  <a:pt x="1217" y="968"/>
                  <a:pt x="1223" y="944"/>
                  <a:pt x="1228" y="941"/>
                </a:cubicBezTo>
                <a:cubicBezTo>
                  <a:pt x="1233" y="938"/>
                  <a:pt x="1239" y="962"/>
                  <a:pt x="1240" y="955"/>
                </a:cubicBezTo>
                <a:cubicBezTo>
                  <a:pt x="1241" y="948"/>
                  <a:pt x="1235" y="921"/>
                  <a:pt x="1236" y="899"/>
                </a:cubicBezTo>
                <a:cubicBezTo>
                  <a:pt x="1237" y="877"/>
                  <a:pt x="1236" y="843"/>
                  <a:pt x="1244" y="825"/>
                </a:cubicBezTo>
                <a:cubicBezTo>
                  <a:pt x="1252" y="807"/>
                  <a:pt x="1279" y="800"/>
                  <a:pt x="1286" y="789"/>
                </a:cubicBezTo>
                <a:cubicBezTo>
                  <a:pt x="1293" y="778"/>
                  <a:pt x="1276" y="770"/>
                  <a:pt x="1284" y="757"/>
                </a:cubicBezTo>
                <a:cubicBezTo>
                  <a:pt x="1292" y="744"/>
                  <a:pt x="1351" y="731"/>
                  <a:pt x="1332" y="713"/>
                </a:cubicBezTo>
                <a:cubicBezTo>
                  <a:pt x="1313" y="695"/>
                  <a:pt x="1194" y="670"/>
                  <a:pt x="1170" y="651"/>
                </a:cubicBezTo>
                <a:cubicBezTo>
                  <a:pt x="1146" y="632"/>
                  <a:pt x="1189" y="618"/>
                  <a:pt x="1186" y="597"/>
                </a:cubicBezTo>
                <a:cubicBezTo>
                  <a:pt x="1183" y="576"/>
                  <a:pt x="1154" y="549"/>
                  <a:pt x="1152" y="523"/>
                </a:cubicBezTo>
                <a:cubicBezTo>
                  <a:pt x="1150" y="497"/>
                  <a:pt x="1177" y="460"/>
                  <a:pt x="1176" y="443"/>
                </a:cubicBezTo>
                <a:cubicBezTo>
                  <a:pt x="1175" y="426"/>
                  <a:pt x="1145" y="431"/>
                  <a:pt x="1146" y="420"/>
                </a:cubicBezTo>
                <a:cubicBezTo>
                  <a:pt x="1147" y="409"/>
                  <a:pt x="1176" y="399"/>
                  <a:pt x="1182" y="375"/>
                </a:cubicBezTo>
                <a:cubicBezTo>
                  <a:pt x="1188" y="351"/>
                  <a:pt x="1174" y="293"/>
                  <a:pt x="1182" y="275"/>
                </a:cubicBezTo>
                <a:cubicBezTo>
                  <a:pt x="1190" y="257"/>
                  <a:pt x="1210" y="278"/>
                  <a:pt x="1230" y="269"/>
                </a:cubicBezTo>
                <a:cubicBezTo>
                  <a:pt x="1250" y="260"/>
                  <a:pt x="1294" y="235"/>
                  <a:pt x="1300" y="219"/>
                </a:cubicBezTo>
                <a:cubicBezTo>
                  <a:pt x="1306" y="203"/>
                  <a:pt x="1269" y="183"/>
                  <a:pt x="1266" y="171"/>
                </a:cubicBezTo>
                <a:cubicBezTo>
                  <a:pt x="1263" y="159"/>
                  <a:pt x="1274" y="151"/>
                  <a:pt x="1282" y="147"/>
                </a:cubicBezTo>
                <a:cubicBezTo>
                  <a:pt x="1290" y="143"/>
                  <a:pt x="1308" y="153"/>
                  <a:pt x="1314" y="147"/>
                </a:cubicBezTo>
                <a:cubicBezTo>
                  <a:pt x="1320" y="141"/>
                  <a:pt x="1313" y="123"/>
                  <a:pt x="1316" y="111"/>
                </a:cubicBezTo>
                <a:cubicBezTo>
                  <a:pt x="1319" y="99"/>
                  <a:pt x="1335" y="83"/>
                  <a:pt x="1332" y="73"/>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47"/>
          <p:cNvSpPr/>
          <p:nvPr/>
        </p:nvSpPr>
        <p:spPr>
          <a:xfrm>
            <a:off x="4446720" y="1154160"/>
            <a:ext cx="392040" cy="693720"/>
          </a:xfrm>
          <a:custGeom>
            <a:avLst/>
            <a:gdLst>
              <a:gd name="textAreaLeft" fmla="*/ 0 w 392040"/>
              <a:gd name="textAreaRight" fmla="*/ 392400 w 392040"/>
              <a:gd name="textAreaTop" fmla="*/ 0 h 693720"/>
              <a:gd name="textAreaBottom" fmla="*/ 694080 h 693720"/>
            </a:gdLst>
            <a:ahLst/>
            <a:rect l="textAreaLeft" t="textAreaTop" r="textAreaRight" b="textAreaBottom"/>
            <a:pathLst>
              <a:path w="247" h="437">
                <a:moveTo>
                  <a:pt x="115" y="437"/>
                </a:moveTo>
                <a:lnTo>
                  <a:pt x="24" y="391"/>
                </a:lnTo>
                <a:lnTo>
                  <a:pt x="25" y="365"/>
                </a:lnTo>
                <a:cubicBezTo>
                  <a:pt x="26" y="358"/>
                  <a:pt x="36" y="357"/>
                  <a:pt x="33" y="350"/>
                </a:cubicBezTo>
                <a:cubicBezTo>
                  <a:pt x="30" y="343"/>
                  <a:pt x="11" y="337"/>
                  <a:pt x="6" y="322"/>
                </a:cubicBezTo>
                <a:cubicBezTo>
                  <a:pt x="1" y="307"/>
                  <a:pt x="0" y="277"/>
                  <a:pt x="0" y="260"/>
                </a:cubicBezTo>
                <a:cubicBezTo>
                  <a:pt x="0" y="243"/>
                  <a:pt x="2" y="240"/>
                  <a:pt x="6" y="217"/>
                </a:cubicBezTo>
                <a:cubicBezTo>
                  <a:pt x="10" y="194"/>
                  <a:pt x="13" y="144"/>
                  <a:pt x="24" y="121"/>
                </a:cubicBezTo>
                <a:cubicBezTo>
                  <a:pt x="35" y="98"/>
                  <a:pt x="56" y="83"/>
                  <a:pt x="72" y="77"/>
                </a:cubicBezTo>
                <a:cubicBezTo>
                  <a:pt x="88" y="71"/>
                  <a:pt x="105" y="79"/>
                  <a:pt x="120" y="83"/>
                </a:cubicBezTo>
                <a:cubicBezTo>
                  <a:pt x="135" y="87"/>
                  <a:pt x="153" y="103"/>
                  <a:pt x="163" y="100"/>
                </a:cubicBezTo>
                <a:cubicBezTo>
                  <a:pt x="173" y="97"/>
                  <a:pt x="173" y="74"/>
                  <a:pt x="178" y="67"/>
                </a:cubicBezTo>
                <a:cubicBezTo>
                  <a:pt x="183" y="60"/>
                  <a:pt x="193" y="64"/>
                  <a:pt x="196" y="59"/>
                </a:cubicBezTo>
                <a:cubicBezTo>
                  <a:pt x="199" y="54"/>
                  <a:pt x="192" y="43"/>
                  <a:pt x="196" y="38"/>
                </a:cubicBezTo>
                <a:cubicBezTo>
                  <a:pt x="200" y="33"/>
                  <a:pt x="215" y="35"/>
                  <a:pt x="223" y="29"/>
                </a:cubicBezTo>
                <a:cubicBezTo>
                  <a:pt x="231" y="23"/>
                  <a:pt x="247" y="0"/>
                  <a:pt x="247" y="5"/>
                </a:cubicBezTo>
                <a:cubicBezTo>
                  <a:pt x="247" y="10"/>
                  <a:pt x="229" y="49"/>
                  <a:pt x="226" y="61"/>
                </a:cubicBezTo>
                <a:cubicBezTo>
                  <a:pt x="223" y="73"/>
                  <a:pt x="231" y="68"/>
                  <a:pt x="231" y="74"/>
                </a:cubicBezTo>
                <a:cubicBezTo>
                  <a:pt x="231" y="80"/>
                  <a:pt x="230" y="90"/>
                  <a:pt x="226" y="97"/>
                </a:cubicBezTo>
                <a:cubicBezTo>
                  <a:pt x="222" y="104"/>
                  <a:pt x="211" y="109"/>
                  <a:pt x="207" y="116"/>
                </a:cubicBezTo>
                <a:cubicBezTo>
                  <a:pt x="203" y="123"/>
                  <a:pt x="206" y="130"/>
                  <a:pt x="202" y="136"/>
                </a:cubicBezTo>
                <a:cubicBezTo>
                  <a:pt x="198" y="142"/>
                  <a:pt x="184" y="149"/>
                  <a:pt x="181" y="154"/>
                </a:cubicBezTo>
                <a:cubicBezTo>
                  <a:pt x="178" y="159"/>
                  <a:pt x="183" y="162"/>
                  <a:pt x="186" y="163"/>
                </a:cubicBezTo>
                <a:cubicBezTo>
                  <a:pt x="189" y="164"/>
                  <a:pt x="201" y="160"/>
                  <a:pt x="202" y="163"/>
                </a:cubicBezTo>
                <a:cubicBezTo>
                  <a:pt x="203" y="166"/>
                  <a:pt x="191" y="178"/>
                  <a:pt x="190" y="184"/>
                </a:cubicBezTo>
                <a:cubicBezTo>
                  <a:pt x="189" y="190"/>
                  <a:pt x="193" y="195"/>
                  <a:pt x="198" y="200"/>
                </a:cubicBezTo>
                <a:cubicBezTo>
                  <a:pt x="203" y="205"/>
                  <a:pt x="215" y="212"/>
                  <a:pt x="219" y="217"/>
                </a:cubicBezTo>
                <a:cubicBezTo>
                  <a:pt x="223" y="222"/>
                  <a:pt x="226" y="228"/>
                  <a:pt x="225" y="232"/>
                </a:cubicBezTo>
                <a:cubicBezTo>
                  <a:pt x="224" y="236"/>
                  <a:pt x="216" y="241"/>
                  <a:pt x="211" y="242"/>
                </a:cubicBezTo>
                <a:cubicBezTo>
                  <a:pt x="206" y="243"/>
                  <a:pt x="200" y="233"/>
                  <a:pt x="195" y="238"/>
                </a:cubicBezTo>
                <a:cubicBezTo>
                  <a:pt x="190" y="243"/>
                  <a:pt x="191" y="264"/>
                  <a:pt x="183" y="274"/>
                </a:cubicBezTo>
                <a:cubicBezTo>
                  <a:pt x="175" y="284"/>
                  <a:pt x="159" y="279"/>
                  <a:pt x="148" y="296"/>
                </a:cubicBezTo>
                <a:cubicBezTo>
                  <a:pt x="137" y="313"/>
                  <a:pt x="116" y="353"/>
                  <a:pt x="114" y="374"/>
                </a:cubicBezTo>
                <a:cubicBezTo>
                  <a:pt x="112" y="395"/>
                  <a:pt x="135" y="412"/>
                  <a:pt x="135" y="422"/>
                </a:cubicBezTo>
                <a:cubicBezTo>
                  <a:pt x="135" y="432"/>
                  <a:pt x="119" y="434"/>
                  <a:pt x="115" y="437"/>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Picture 40" descr="German flag"/>
          <p:cNvPicPr/>
          <p:nvPr/>
        </p:nvPicPr>
        <p:blipFill>
          <a:blip r:embed="rId3"/>
          <a:stretch/>
        </p:blipFill>
        <p:spPr>
          <a:xfrm>
            <a:off x="4567320" y="2324160"/>
            <a:ext cx="430200" cy="257040"/>
          </a:xfrm>
          <a:prstGeom prst="rect">
            <a:avLst/>
          </a:prstGeom>
          <a:ln w="0">
            <a:noFill/>
          </a:ln>
        </p:spPr>
      </p:pic>
      <p:sp>
        <p:nvSpPr>
          <p:cNvPr id="51" name="Freeform 24"/>
          <p:cNvSpPr/>
          <p:nvPr/>
        </p:nvSpPr>
        <p:spPr>
          <a:xfrm>
            <a:off x="5495760" y="1914480"/>
            <a:ext cx="1268640" cy="1523880"/>
          </a:xfrm>
          <a:custGeom>
            <a:avLst/>
            <a:gdLst>
              <a:gd name="textAreaLeft" fmla="*/ 0 w 1268640"/>
              <a:gd name="textAreaRight" fmla="*/ 1269000 w 1268640"/>
              <a:gd name="textAreaTop" fmla="*/ 0 h 1523880"/>
              <a:gd name="textAreaBottom" fmla="*/ 1524240 h 1523880"/>
            </a:gdLst>
            <a:ahLst/>
            <a:rect l="textAreaLeft" t="textAreaTop" r="textAreaRight" b="textAreaBottom"/>
            <a:pathLst>
              <a:path w="799" h="960">
                <a:moveTo>
                  <a:pt x="207" y="0"/>
                </a:moveTo>
                <a:cubicBezTo>
                  <a:pt x="218" y="0"/>
                  <a:pt x="253" y="39"/>
                  <a:pt x="254" y="50"/>
                </a:cubicBezTo>
                <a:cubicBezTo>
                  <a:pt x="255" y="61"/>
                  <a:pt x="227" y="58"/>
                  <a:pt x="216" y="69"/>
                </a:cubicBezTo>
                <a:cubicBezTo>
                  <a:pt x="205" y="80"/>
                  <a:pt x="189" y="96"/>
                  <a:pt x="188" y="114"/>
                </a:cubicBezTo>
                <a:cubicBezTo>
                  <a:pt x="187" y="132"/>
                  <a:pt x="209" y="161"/>
                  <a:pt x="212" y="176"/>
                </a:cubicBezTo>
                <a:cubicBezTo>
                  <a:pt x="215" y="191"/>
                  <a:pt x="211" y="190"/>
                  <a:pt x="204" y="206"/>
                </a:cubicBezTo>
                <a:cubicBezTo>
                  <a:pt x="197" y="222"/>
                  <a:pt x="165" y="257"/>
                  <a:pt x="168" y="270"/>
                </a:cubicBezTo>
                <a:cubicBezTo>
                  <a:pt x="171" y="283"/>
                  <a:pt x="203" y="284"/>
                  <a:pt x="222" y="284"/>
                </a:cubicBezTo>
                <a:cubicBezTo>
                  <a:pt x="241" y="284"/>
                  <a:pt x="268" y="270"/>
                  <a:pt x="284" y="270"/>
                </a:cubicBezTo>
                <a:cubicBezTo>
                  <a:pt x="300" y="270"/>
                  <a:pt x="310" y="278"/>
                  <a:pt x="318" y="282"/>
                </a:cubicBezTo>
                <a:cubicBezTo>
                  <a:pt x="326" y="286"/>
                  <a:pt x="325" y="293"/>
                  <a:pt x="334" y="292"/>
                </a:cubicBezTo>
                <a:cubicBezTo>
                  <a:pt x="343" y="291"/>
                  <a:pt x="362" y="278"/>
                  <a:pt x="372" y="274"/>
                </a:cubicBezTo>
                <a:cubicBezTo>
                  <a:pt x="382" y="270"/>
                  <a:pt x="382" y="271"/>
                  <a:pt x="394" y="268"/>
                </a:cubicBezTo>
                <a:cubicBezTo>
                  <a:pt x="406" y="265"/>
                  <a:pt x="438" y="237"/>
                  <a:pt x="446" y="254"/>
                </a:cubicBezTo>
                <a:cubicBezTo>
                  <a:pt x="454" y="271"/>
                  <a:pt x="435" y="354"/>
                  <a:pt x="440" y="372"/>
                </a:cubicBezTo>
                <a:cubicBezTo>
                  <a:pt x="445" y="390"/>
                  <a:pt x="465" y="368"/>
                  <a:pt x="478" y="364"/>
                </a:cubicBezTo>
                <a:cubicBezTo>
                  <a:pt x="491" y="360"/>
                  <a:pt x="502" y="352"/>
                  <a:pt x="518" y="350"/>
                </a:cubicBezTo>
                <a:cubicBezTo>
                  <a:pt x="534" y="348"/>
                  <a:pt x="563" y="346"/>
                  <a:pt x="572" y="350"/>
                </a:cubicBezTo>
                <a:cubicBezTo>
                  <a:pt x="581" y="354"/>
                  <a:pt x="564" y="364"/>
                  <a:pt x="572" y="372"/>
                </a:cubicBezTo>
                <a:cubicBezTo>
                  <a:pt x="580" y="380"/>
                  <a:pt x="607" y="392"/>
                  <a:pt x="622" y="398"/>
                </a:cubicBezTo>
                <a:cubicBezTo>
                  <a:pt x="637" y="404"/>
                  <a:pt x="653" y="401"/>
                  <a:pt x="660" y="406"/>
                </a:cubicBezTo>
                <a:cubicBezTo>
                  <a:pt x="667" y="411"/>
                  <a:pt x="659" y="416"/>
                  <a:pt x="666" y="426"/>
                </a:cubicBezTo>
                <a:cubicBezTo>
                  <a:pt x="673" y="436"/>
                  <a:pt x="699" y="447"/>
                  <a:pt x="704" y="464"/>
                </a:cubicBezTo>
                <a:cubicBezTo>
                  <a:pt x="709" y="481"/>
                  <a:pt x="690" y="513"/>
                  <a:pt x="694" y="530"/>
                </a:cubicBezTo>
                <a:cubicBezTo>
                  <a:pt x="698" y="547"/>
                  <a:pt x="720" y="550"/>
                  <a:pt x="730" y="568"/>
                </a:cubicBezTo>
                <a:cubicBezTo>
                  <a:pt x="740" y="586"/>
                  <a:pt x="748" y="616"/>
                  <a:pt x="756" y="638"/>
                </a:cubicBezTo>
                <a:cubicBezTo>
                  <a:pt x="764" y="660"/>
                  <a:pt x="799" y="673"/>
                  <a:pt x="778" y="698"/>
                </a:cubicBezTo>
                <a:lnTo>
                  <a:pt x="632" y="786"/>
                </a:lnTo>
                <a:cubicBezTo>
                  <a:pt x="616" y="812"/>
                  <a:pt x="669" y="834"/>
                  <a:pt x="684" y="854"/>
                </a:cubicBezTo>
                <a:cubicBezTo>
                  <a:pt x="699" y="874"/>
                  <a:pt x="714" y="891"/>
                  <a:pt x="722" y="908"/>
                </a:cubicBezTo>
                <a:lnTo>
                  <a:pt x="730" y="956"/>
                </a:lnTo>
                <a:lnTo>
                  <a:pt x="708" y="960"/>
                </a:lnTo>
                <a:cubicBezTo>
                  <a:pt x="698" y="956"/>
                  <a:pt x="681" y="939"/>
                  <a:pt x="670" y="932"/>
                </a:cubicBezTo>
                <a:cubicBezTo>
                  <a:pt x="659" y="925"/>
                  <a:pt x="651" y="925"/>
                  <a:pt x="642" y="918"/>
                </a:cubicBezTo>
                <a:cubicBezTo>
                  <a:pt x="633" y="911"/>
                  <a:pt x="627" y="895"/>
                  <a:pt x="616" y="892"/>
                </a:cubicBezTo>
                <a:cubicBezTo>
                  <a:pt x="605" y="889"/>
                  <a:pt x="590" y="904"/>
                  <a:pt x="578" y="902"/>
                </a:cubicBezTo>
                <a:cubicBezTo>
                  <a:pt x="566" y="900"/>
                  <a:pt x="556" y="883"/>
                  <a:pt x="546" y="880"/>
                </a:cubicBezTo>
                <a:cubicBezTo>
                  <a:pt x="536" y="877"/>
                  <a:pt x="530" y="885"/>
                  <a:pt x="518" y="886"/>
                </a:cubicBezTo>
                <a:cubicBezTo>
                  <a:pt x="506" y="887"/>
                  <a:pt x="487" y="879"/>
                  <a:pt x="472" y="886"/>
                </a:cubicBezTo>
                <a:cubicBezTo>
                  <a:pt x="457" y="893"/>
                  <a:pt x="442" y="919"/>
                  <a:pt x="430" y="926"/>
                </a:cubicBezTo>
                <a:cubicBezTo>
                  <a:pt x="418" y="933"/>
                  <a:pt x="409" y="930"/>
                  <a:pt x="402" y="926"/>
                </a:cubicBezTo>
                <a:cubicBezTo>
                  <a:pt x="395" y="922"/>
                  <a:pt x="388" y="914"/>
                  <a:pt x="384" y="904"/>
                </a:cubicBezTo>
                <a:cubicBezTo>
                  <a:pt x="380" y="894"/>
                  <a:pt x="387" y="873"/>
                  <a:pt x="380" y="864"/>
                </a:cubicBezTo>
                <a:cubicBezTo>
                  <a:pt x="373" y="855"/>
                  <a:pt x="354" y="857"/>
                  <a:pt x="342" y="850"/>
                </a:cubicBezTo>
                <a:cubicBezTo>
                  <a:pt x="330" y="843"/>
                  <a:pt x="324" y="831"/>
                  <a:pt x="306" y="822"/>
                </a:cubicBezTo>
                <a:cubicBezTo>
                  <a:pt x="288" y="813"/>
                  <a:pt x="247" y="806"/>
                  <a:pt x="232" y="798"/>
                </a:cubicBezTo>
                <a:cubicBezTo>
                  <a:pt x="217" y="790"/>
                  <a:pt x="206" y="786"/>
                  <a:pt x="214" y="774"/>
                </a:cubicBezTo>
                <a:cubicBezTo>
                  <a:pt x="222" y="762"/>
                  <a:pt x="271" y="744"/>
                  <a:pt x="280" y="726"/>
                </a:cubicBezTo>
                <a:cubicBezTo>
                  <a:pt x="289" y="708"/>
                  <a:pt x="273" y="683"/>
                  <a:pt x="270" y="664"/>
                </a:cubicBezTo>
                <a:cubicBezTo>
                  <a:pt x="267" y="645"/>
                  <a:pt x="275" y="621"/>
                  <a:pt x="264" y="610"/>
                </a:cubicBezTo>
                <a:cubicBezTo>
                  <a:pt x="253" y="599"/>
                  <a:pt x="215" y="607"/>
                  <a:pt x="202" y="596"/>
                </a:cubicBezTo>
                <a:cubicBezTo>
                  <a:pt x="189" y="585"/>
                  <a:pt x="198" y="556"/>
                  <a:pt x="188" y="546"/>
                </a:cubicBezTo>
                <a:cubicBezTo>
                  <a:pt x="178" y="536"/>
                  <a:pt x="153" y="551"/>
                  <a:pt x="142" y="538"/>
                </a:cubicBezTo>
                <a:cubicBezTo>
                  <a:pt x="131" y="525"/>
                  <a:pt x="139" y="483"/>
                  <a:pt x="122" y="468"/>
                </a:cubicBezTo>
                <a:cubicBezTo>
                  <a:pt x="105" y="453"/>
                  <a:pt x="60" y="460"/>
                  <a:pt x="40" y="450"/>
                </a:cubicBezTo>
                <a:cubicBezTo>
                  <a:pt x="20" y="440"/>
                  <a:pt x="8" y="426"/>
                  <a:pt x="4" y="408"/>
                </a:cubicBezTo>
                <a:cubicBezTo>
                  <a:pt x="0" y="390"/>
                  <a:pt x="11" y="364"/>
                  <a:pt x="18" y="344"/>
                </a:cubicBezTo>
                <a:cubicBezTo>
                  <a:pt x="25" y="324"/>
                  <a:pt x="32" y="302"/>
                  <a:pt x="48" y="288"/>
                </a:cubicBezTo>
                <a:cubicBezTo>
                  <a:pt x="64" y="274"/>
                  <a:pt x="102" y="270"/>
                  <a:pt x="116" y="260"/>
                </a:cubicBezTo>
                <a:cubicBezTo>
                  <a:pt x="130" y="250"/>
                  <a:pt x="129" y="242"/>
                  <a:pt x="132" y="228"/>
                </a:cubicBezTo>
                <a:cubicBezTo>
                  <a:pt x="135" y="214"/>
                  <a:pt x="140" y="192"/>
                  <a:pt x="136" y="176"/>
                </a:cubicBezTo>
                <a:cubicBezTo>
                  <a:pt x="132" y="160"/>
                  <a:pt x="110" y="148"/>
                  <a:pt x="110" y="134"/>
                </a:cubicBezTo>
                <a:cubicBezTo>
                  <a:pt x="110" y="120"/>
                  <a:pt x="123" y="96"/>
                  <a:pt x="134" y="92"/>
                </a:cubicBezTo>
                <a:cubicBezTo>
                  <a:pt x="145" y="88"/>
                  <a:pt x="169" y="115"/>
                  <a:pt x="178" y="108"/>
                </a:cubicBezTo>
                <a:cubicBezTo>
                  <a:pt x="187" y="101"/>
                  <a:pt x="181" y="68"/>
                  <a:pt x="186" y="50"/>
                </a:cubicBezTo>
                <a:cubicBezTo>
                  <a:pt x="191" y="32"/>
                  <a:pt x="202" y="1"/>
                  <a:pt x="207" y="0"/>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4"/>
          <p:cNvSpPr/>
          <p:nvPr/>
        </p:nvSpPr>
        <p:spPr>
          <a:xfrm>
            <a:off x="4067280" y="1781280"/>
            <a:ext cx="1881000" cy="1930320"/>
          </a:xfrm>
          <a:custGeom>
            <a:avLst/>
            <a:gdLst>
              <a:gd name="textAreaLeft" fmla="*/ 0 w 1881000"/>
              <a:gd name="textAreaRight" fmla="*/ 1881360 w 1881000"/>
              <a:gd name="textAreaTop" fmla="*/ 0 h 1930320"/>
              <a:gd name="textAreaBottom" fmla="*/ 1930680 h 1930320"/>
            </a:gdLst>
            <a:ahLst/>
            <a:rect l="textAreaLeft" t="textAreaTop" r="textAreaRight" b="textAreaBottom"/>
            <a:pathLst>
              <a:path w="1185" h="1216">
                <a:moveTo>
                  <a:pt x="76" y="210"/>
                </a:moveTo>
                <a:cubicBezTo>
                  <a:pt x="82" y="199"/>
                  <a:pt x="105" y="179"/>
                  <a:pt x="114" y="174"/>
                </a:cubicBezTo>
                <a:cubicBezTo>
                  <a:pt x="123" y="169"/>
                  <a:pt x="125" y="178"/>
                  <a:pt x="132" y="178"/>
                </a:cubicBezTo>
                <a:cubicBezTo>
                  <a:pt x="139" y="178"/>
                  <a:pt x="147" y="166"/>
                  <a:pt x="156" y="172"/>
                </a:cubicBezTo>
                <a:cubicBezTo>
                  <a:pt x="165" y="178"/>
                  <a:pt x="176" y="208"/>
                  <a:pt x="184" y="212"/>
                </a:cubicBezTo>
                <a:cubicBezTo>
                  <a:pt x="192" y="216"/>
                  <a:pt x="199" y="199"/>
                  <a:pt x="204" y="198"/>
                </a:cubicBezTo>
                <a:cubicBezTo>
                  <a:pt x="209" y="197"/>
                  <a:pt x="215" y="211"/>
                  <a:pt x="216" y="208"/>
                </a:cubicBezTo>
                <a:cubicBezTo>
                  <a:pt x="217" y="205"/>
                  <a:pt x="206" y="186"/>
                  <a:pt x="208" y="178"/>
                </a:cubicBezTo>
                <a:cubicBezTo>
                  <a:pt x="210" y="170"/>
                  <a:pt x="223" y="163"/>
                  <a:pt x="230" y="160"/>
                </a:cubicBezTo>
                <a:cubicBezTo>
                  <a:pt x="237" y="157"/>
                  <a:pt x="246" y="167"/>
                  <a:pt x="250" y="160"/>
                </a:cubicBezTo>
                <a:cubicBezTo>
                  <a:pt x="254" y="153"/>
                  <a:pt x="249" y="136"/>
                  <a:pt x="252" y="120"/>
                </a:cubicBezTo>
                <a:cubicBezTo>
                  <a:pt x="255" y="104"/>
                  <a:pt x="268" y="80"/>
                  <a:pt x="270" y="66"/>
                </a:cubicBezTo>
                <a:cubicBezTo>
                  <a:pt x="272" y="52"/>
                  <a:pt x="262" y="49"/>
                  <a:pt x="262" y="38"/>
                </a:cubicBezTo>
                <a:cubicBezTo>
                  <a:pt x="262" y="27"/>
                  <a:pt x="255" y="0"/>
                  <a:pt x="270" y="0"/>
                </a:cubicBezTo>
                <a:lnTo>
                  <a:pt x="352" y="40"/>
                </a:lnTo>
                <a:cubicBezTo>
                  <a:pt x="373" y="55"/>
                  <a:pt x="380" y="81"/>
                  <a:pt x="394" y="90"/>
                </a:cubicBezTo>
                <a:cubicBezTo>
                  <a:pt x="408" y="99"/>
                  <a:pt x="424" y="90"/>
                  <a:pt x="438" y="94"/>
                </a:cubicBezTo>
                <a:cubicBezTo>
                  <a:pt x="452" y="98"/>
                  <a:pt x="474" y="106"/>
                  <a:pt x="480" y="114"/>
                </a:cubicBezTo>
                <a:cubicBezTo>
                  <a:pt x="486" y="122"/>
                  <a:pt x="478" y="137"/>
                  <a:pt x="472" y="144"/>
                </a:cubicBezTo>
                <a:cubicBezTo>
                  <a:pt x="466" y="151"/>
                  <a:pt x="450" y="151"/>
                  <a:pt x="444" y="156"/>
                </a:cubicBezTo>
                <a:cubicBezTo>
                  <a:pt x="438" y="161"/>
                  <a:pt x="432" y="170"/>
                  <a:pt x="434" y="174"/>
                </a:cubicBezTo>
                <a:cubicBezTo>
                  <a:pt x="436" y="178"/>
                  <a:pt x="448" y="181"/>
                  <a:pt x="454" y="180"/>
                </a:cubicBezTo>
                <a:cubicBezTo>
                  <a:pt x="460" y="179"/>
                  <a:pt x="463" y="170"/>
                  <a:pt x="470" y="168"/>
                </a:cubicBezTo>
                <a:cubicBezTo>
                  <a:pt x="477" y="166"/>
                  <a:pt x="489" y="172"/>
                  <a:pt x="498" y="168"/>
                </a:cubicBezTo>
                <a:cubicBezTo>
                  <a:pt x="507" y="164"/>
                  <a:pt x="516" y="148"/>
                  <a:pt x="524" y="146"/>
                </a:cubicBezTo>
                <a:cubicBezTo>
                  <a:pt x="532" y="144"/>
                  <a:pt x="540" y="156"/>
                  <a:pt x="548" y="156"/>
                </a:cubicBezTo>
                <a:cubicBezTo>
                  <a:pt x="556" y="156"/>
                  <a:pt x="568" y="153"/>
                  <a:pt x="572" y="148"/>
                </a:cubicBezTo>
                <a:cubicBezTo>
                  <a:pt x="576" y="143"/>
                  <a:pt x="567" y="130"/>
                  <a:pt x="574" y="124"/>
                </a:cubicBezTo>
                <a:cubicBezTo>
                  <a:pt x="581" y="118"/>
                  <a:pt x="606" y="113"/>
                  <a:pt x="614" y="112"/>
                </a:cubicBezTo>
                <a:cubicBezTo>
                  <a:pt x="622" y="111"/>
                  <a:pt x="617" y="118"/>
                  <a:pt x="621" y="119"/>
                </a:cubicBezTo>
                <a:cubicBezTo>
                  <a:pt x="625" y="120"/>
                  <a:pt x="633" y="117"/>
                  <a:pt x="636" y="120"/>
                </a:cubicBezTo>
                <a:cubicBezTo>
                  <a:pt x="639" y="123"/>
                  <a:pt x="635" y="132"/>
                  <a:pt x="639" y="137"/>
                </a:cubicBezTo>
                <a:cubicBezTo>
                  <a:pt x="643" y="142"/>
                  <a:pt x="656" y="148"/>
                  <a:pt x="660" y="153"/>
                </a:cubicBezTo>
                <a:cubicBezTo>
                  <a:pt x="664" y="158"/>
                  <a:pt x="660" y="163"/>
                  <a:pt x="663" y="165"/>
                </a:cubicBezTo>
                <a:cubicBezTo>
                  <a:pt x="666" y="167"/>
                  <a:pt x="677" y="168"/>
                  <a:pt x="681" y="168"/>
                </a:cubicBezTo>
                <a:cubicBezTo>
                  <a:pt x="685" y="168"/>
                  <a:pt x="686" y="163"/>
                  <a:pt x="690" y="164"/>
                </a:cubicBezTo>
                <a:cubicBezTo>
                  <a:pt x="694" y="165"/>
                  <a:pt x="703" y="175"/>
                  <a:pt x="708" y="177"/>
                </a:cubicBezTo>
                <a:cubicBezTo>
                  <a:pt x="713" y="179"/>
                  <a:pt x="717" y="174"/>
                  <a:pt x="723" y="179"/>
                </a:cubicBezTo>
                <a:cubicBezTo>
                  <a:pt x="729" y="184"/>
                  <a:pt x="742" y="200"/>
                  <a:pt x="744" y="207"/>
                </a:cubicBezTo>
                <a:cubicBezTo>
                  <a:pt x="746" y="214"/>
                  <a:pt x="743" y="219"/>
                  <a:pt x="738" y="222"/>
                </a:cubicBezTo>
                <a:cubicBezTo>
                  <a:pt x="733" y="225"/>
                  <a:pt x="713" y="220"/>
                  <a:pt x="716" y="224"/>
                </a:cubicBezTo>
                <a:cubicBezTo>
                  <a:pt x="719" y="228"/>
                  <a:pt x="745" y="250"/>
                  <a:pt x="758" y="246"/>
                </a:cubicBezTo>
                <a:cubicBezTo>
                  <a:pt x="771" y="242"/>
                  <a:pt x="783" y="211"/>
                  <a:pt x="794" y="200"/>
                </a:cubicBezTo>
                <a:cubicBezTo>
                  <a:pt x="805" y="189"/>
                  <a:pt x="805" y="185"/>
                  <a:pt x="824" y="178"/>
                </a:cubicBezTo>
                <a:cubicBezTo>
                  <a:pt x="843" y="171"/>
                  <a:pt x="887" y="173"/>
                  <a:pt x="912" y="160"/>
                </a:cubicBezTo>
                <a:cubicBezTo>
                  <a:pt x="937" y="147"/>
                  <a:pt x="953" y="112"/>
                  <a:pt x="976" y="98"/>
                </a:cubicBezTo>
                <a:cubicBezTo>
                  <a:pt x="999" y="84"/>
                  <a:pt x="1029" y="77"/>
                  <a:pt x="1052" y="74"/>
                </a:cubicBezTo>
                <a:cubicBezTo>
                  <a:pt x="1075" y="71"/>
                  <a:pt x="1106" y="69"/>
                  <a:pt x="1112" y="78"/>
                </a:cubicBezTo>
                <a:lnTo>
                  <a:pt x="1086" y="126"/>
                </a:lnTo>
                <a:cubicBezTo>
                  <a:pt x="1082" y="142"/>
                  <a:pt x="1088" y="165"/>
                  <a:pt x="1086" y="176"/>
                </a:cubicBezTo>
                <a:cubicBezTo>
                  <a:pt x="1084" y="187"/>
                  <a:pt x="1080" y="190"/>
                  <a:pt x="1072" y="190"/>
                </a:cubicBezTo>
                <a:cubicBezTo>
                  <a:pt x="1064" y="190"/>
                  <a:pt x="1045" y="173"/>
                  <a:pt x="1036" y="176"/>
                </a:cubicBezTo>
                <a:cubicBezTo>
                  <a:pt x="1027" y="179"/>
                  <a:pt x="1016" y="190"/>
                  <a:pt x="1016" y="206"/>
                </a:cubicBezTo>
                <a:cubicBezTo>
                  <a:pt x="1016" y="222"/>
                  <a:pt x="1037" y="250"/>
                  <a:pt x="1038" y="272"/>
                </a:cubicBezTo>
                <a:cubicBezTo>
                  <a:pt x="1039" y="294"/>
                  <a:pt x="1039" y="319"/>
                  <a:pt x="1024" y="336"/>
                </a:cubicBezTo>
                <a:cubicBezTo>
                  <a:pt x="1009" y="353"/>
                  <a:pt x="966" y="355"/>
                  <a:pt x="946" y="376"/>
                </a:cubicBezTo>
                <a:cubicBezTo>
                  <a:pt x="926" y="397"/>
                  <a:pt x="909" y="437"/>
                  <a:pt x="906" y="462"/>
                </a:cubicBezTo>
                <a:cubicBezTo>
                  <a:pt x="903" y="487"/>
                  <a:pt x="906" y="510"/>
                  <a:pt x="926" y="526"/>
                </a:cubicBezTo>
                <a:cubicBezTo>
                  <a:pt x="946" y="542"/>
                  <a:pt x="1005" y="542"/>
                  <a:pt x="1024" y="558"/>
                </a:cubicBezTo>
                <a:cubicBezTo>
                  <a:pt x="1043" y="574"/>
                  <a:pt x="1030" y="608"/>
                  <a:pt x="1040" y="620"/>
                </a:cubicBezTo>
                <a:cubicBezTo>
                  <a:pt x="1050" y="632"/>
                  <a:pt x="1076" y="618"/>
                  <a:pt x="1086" y="628"/>
                </a:cubicBezTo>
                <a:cubicBezTo>
                  <a:pt x="1096" y="638"/>
                  <a:pt x="1087" y="671"/>
                  <a:pt x="1098" y="680"/>
                </a:cubicBezTo>
                <a:cubicBezTo>
                  <a:pt x="1109" y="689"/>
                  <a:pt x="1140" y="676"/>
                  <a:pt x="1152" y="680"/>
                </a:cubicBezTo>
                <a:cubicBezTo>
                  <a:pt x="1164" y="684"/>
                  <a:pt x="1165" y="690"/>
                  <a:pt x="1168" y="702"/>
                </a:cubicBezTo>
                <a:cubicBezTo>
                  <a:pt x="1171" y="714"/>
                  <a:pt x="1167" y="736"/>
                  <a:pt x="1170" y="750"/>
                </a:cubicBezTo>
                <a:cubicBezTo>
                  <a:pt x="1173" y="764"/>
                  <a:pt x="1185" y="772"/>
                  <a:pt x="1184" y="784"/>
                </a:cubicBezTo>
                <a:cubicBezTo>
                  <a:pt x="1183" y="796"/>
                  <a:pt x="1177" y="811"/>
                  <a:pt x="1166" y="822"/>
                </a:cubicBezTo>
                <a:cubicBezTo>
                  <a:pt x="1155" y="833"/>
                  <a:pt x="1133" y="848"/>
                  <a:pt x="1116" y="850"/>
                </a:cubicBezTo>
                <a:lnTo>
                  <a:pt x="1066" y="834"/>
                </a:lnTo>
                <a:cubicBezTo>
                  <a:pt x="1054" y="829"/>
                  <a:pt x="1049" y="826"/>
                  <a:pt x="1046" y="820"/>
                </a:cubicBezTo>
                <a:cubicBezTo>
                  <a:pt x="1043" y="814"/>
                  <a:pt x="1053" y="807"/>
                  <a:pt x="1050" y="800"/>
                </a:cubicBezTo>
                <a:cubicBezTo>
                  <a:pt x="1047" y="793"/>
                  <a:pt x="1035" y="780"/>
                  <a:pt x="1026" y="776"/>
                </a:cubicBezTo>
                <a:cubicBezTo>
                  <a:pt x="1017" y="772"/>
                  <a:pt x="1007" y="778"/>
                  <a:pt x="996" y="778"/>
                </a:cubicBezTo>
                <a:cubicBezTo>
                  <a:pt x="985" y="778"/>
                  <a:pt x="972" y="774"/>
                  <a:pt x="962" y="776"/>
                </a:cubicBezTo>
                <a:cubicBezTo>
                  <a:pt x="952" y="778"/>
                  <a:pt x="942" y="794"/>
                  <a:pt x="936" y="790"/>
                </a:cubicBezTo>
                <a:cubicBezTo>
                  <a:pt x="930" y="786"/>
                  <a:pt x="933" y="764"/>
                  <a:pt x="928" y="752"/>
                </a:cubicBezTo>
                <a:cubicBezTo>
                  <a:pt x="923" y="740"/>
                  <a:pt x="914" y="724"/>
                  <a:pt x="906" y="716"/>
                </a:cubicBezTo>
                <a:cubicBezTo>
                  <a:pt x="898" y="708"/>
                  <a:pt x="891" y="704"/>
                  <a:pt x="882" y="702"/>
                </a:cubicBezTo>
                <a:cubicBezTo>
                  <a:pt x="873" y="700"/>
                  <a:pt x="864" y="707"/>
                  <a:pt x="854" y="704"/>
                </a:cubicBezTo>
                <a:cubicBezTo>
                  <a:pt x="844" y="701"/>
                  <a:pt x="831" y="683"/>
                  <a:pt x="822" y="682"/>
                </a:cubicBezTo>
                <a:cubicBezTo>
                  <a:pt x="813" y="681"/>
                  <a:pt x="812" y="698"/>
                  <a:pt x="798" y="696"/>
                </a:cubicBezTo>
                <a:cubicBezTo>
                  <a:pt x="784" y="694"/>
                  <a:pt x="751" y="670"/>
                  <a:pt x="736" y="670"/>
                </a:cubicBezTo>
                <a:cubicBezTo>
                  <a:pt x="721" y="670"/>
                  <a:pt x="718" y="689"/>
                  <a:pt x="710" y="694"/>
                </a:cubicBezTo>
                <a:cubicBezTo>
                  <a:pt x="702" y="699"/>
                  <a:pt x="698" y="695"/>
                  <a:pt x="690" y="698"/>
                </a:cubicBezTo>
                <a:cubicBezTo>
                  <a:pt x="682" y="701"/>
                  <a:pt x="669" y="705"/>
                  <a:pt x="662" y="710"/>
                </a:cubicBezTo>
                <a:cubicBezTo>
                  <a:pt x="655" y="715"/>
                  <a:pt x="654" y="724"/>
                  <a:pt x="646" y="726"/>
                </a:cubicBezTo>
                <a:cubicBezTo>
                  <a:pt x="638" y="728"/>
                  <a:pt x="625" y="721"/>
                  <a:pt x="614" y="724"/>
                </a:cubicBezTo>
                <a:cubicBezTo>
                  <a:pt x="603" y="727"/>
                  <a:pt x="589" y="743"/>
                  <a:pt x="578" y="746"/>
                </a:cubicBezTo>
                <a:cubicBezTo>
                  <a:pt x="567" y="749"/>
                  <a:pt x="556" y="739"/>
                  <a:pt x="546" y="740"/>
                </a:cubicBezTo>
                <a:cubicBezTo>
                  <a:pt x="536" y="741"/>
                  <a:pt x="531" y="751"/>
                  <a:pt x="520" y="752"/>
                </a:cubicBezTo>
                <a:cubicBezTo>
                  <a:pt x="509" y="753"/>
                  <a:pt x="487" y="745"/>
                  <a:pt x="478" y="748"/>
                </a:cubicBezTo>
                <a:cubicBezTo>
                  <a:pt x="469" y="751"/>
                  <a:pt x="465" y="763"/>
                  <a:pt x="464" y="770"/>
                </a:cubicBezTo>
                <a:cubicBezTo>
                  <a:pt x="463" y="777"/>
                  <a:pt x="467" y="782"/>
                  <a:pt x="474" y="790"/>
                </a:cubicBezTo>
                <a:cubicBezTo>
                  <a:pt x="481" y="798"/>
                  <a:pt x="498" y="809"/>
                  <a:pt x="504" y="820"/>
                </a:cubicBezTo>
                <a:cubicBezTo>
                  <a:pt x="510" y="831"/>
                  <a:pt x="503" y="844"/>
                  <a:pt x="510" y="858"/>
                </a:cubicBezTo>
                <a:cubicBezTo>
                  <a:pt x="517" y="872"/>
                  <a:pt x="537" y="889"/>
                  <a:pt x="544" y="902"/>
                </a:cubicBezTo>
                <a:cubicBezTo>
                  <a:pt x="551" y="915"/>
                  <a:pt x="540" y="924"/>
                  <a:pt x="552" y="936"/>
                </a:cubicBezTo>
                <a:cubicBezTo>
                  <a:pt x="564" y="948"/>
                  <a:pt x="606" y="961"/>
                  <a:pt x="618" y="976"/>
                </a:cubicBezTo>
                <a:lnTo>
                  <a:pt x="624" y="1026"/>
                </a:lnTo>
                <a:cubicBezTo>
                  <a:pt x="621" y="1035"/>
                  <a:pt x="610" y="1021"/>
                  <a:pt x="600" y="1028"/>
                </a:cubicBezTo>
                <a:cubicBezTo>
                  <a:pt x="590" y="1035"/>
                  <a:pt x="576" y="1059"/>
                  <a:pt x="564" y="1066"/>
                </a:cubicBezTo>
                <a:cubicBezTo>
                  <a:pt x="552" y="1073"/>
                  <a:pt x="534" y="1062"/>
                  <a:pt x="528" y="1072"/>
                </a:cubicBezTo>
                <a:cubicBezTo>
                  <a:pt x="522" y="1082"/>
                  <a:pt x="522" y="1114"/>
                  <a:pt x="526" y="1128"/>
                </a:cubicBezTo>
                <a:cubicBezTo>
                  <a:pt x="530" y="1142"/>
                  <a:pt x="546" y="1146"/>
                  <a:pt x="550" y="1158"/>
                </a:cubicBezTo>
                <a:cubicBezTo>
                  <a:pt x="554" y="1170"/>
                  <a:pt x="552" y="1193"/>
                  <a:pt x="548" y="1202"/>
                </a:cubicBezTo>
                <a:cubicBezTo>
                  <a:pt x="544" y="1211"/>
                  <a:pt x="535" y="1216"/>
                  <a:pt x="524" y="1210"/>
                </a:cubicBezTo>
                <a:cubicBezTo>
                  <a:pt x="513" y="1204"/>
                  <a:pt x="494" y="1173"/>
                  <a:pt x="484" y="1166"/>
                </a:cubicBezTo>
                <a:cubicBezTo>
                  <a:pt x="474" y="1159"/>
                  <a:pt x="477" y="1167"/>
                  <a:pt x="467" y="1169"/>
                </a:cubicBezTo>
                <a:cubicBezTo>
                  <a:pt x="457" y="1171"/>
                  <a:pt x="436" y="1178"/>
                  <a:pt x="426" y="1178"/>
                </a:cubicBezTo>
                <a:cubicBezTo>
                  <a:pt x="416" y="1178"/>
                  <a:pt x="418" y="1165"/>
                  <a:pt x="404" y="1170"/>
                </a:cubicBezTo>
                <a:cubicBezTo>
                  <a:pt x="390" y="1175"/>
                  <a:pt x="361" y="1207"/>
                  <a:pt x="342" y="1208"/>
                </a:cubicBezTo>
                <a:cubicBezTo>
                  <a:pt x="323" y="1209"/>
                  <a:pt x="307" y="1178"/>
                  <a:pt x="292" y="1178"/>
                </a:cubicBezTo>
                <a:cubicBezTo>
                  <a:pt x="277" y="1178"/>
                  <a:pt x="260" y="1203"/>
                  <a:pt x="251" y="1208"/>
                </a:cubicBezTo>
                <a:cubicBezTo>
                  <a:pt x="242" y="1213"/>
                  <a:pt x="247" y="1215"/>
                  <a:pt x="240" y="1208"/>
                </a:cubicBezTo>
                <a:cubicBezTo>
                  <a:pt x="233" y="1201"/>
                  <a:pt x="219" y="1174"/>
                  <a:pt x="208" y="1168"/>
                </a:cubicBezTo>
                <a:cubicBezTo>
                  <a:pt x="197" y="1162"/>
                  <a:pt x="189" y="1176"/>
                  <a:pt x="176" y="1174"/>
                </a:cubicBezTo>
                <a:cubicBezTo>
                  <a:pt x="163" y="1172"/>
                  <a:pt x="141" y="1162"/>
                  <a:pt x="130" y="1154"/>
                </a:cubicBezTo>
                <a:cubicBezTo>
                  <a:pt x="119" y="1146"/>
                  <a:pt x="118" y="1130"/>
                  <a:pt x="108" y="1128"/>
                </a:cubicBezTo>
                <a:cubicBezTo>
                  <a:pt x="98" y="1126"/>
                  <a:pt x="79" y="1141"/>
                  <a:pt x="68" y="1142"/>
                </a:cubicBezTo>
                <a:cubicBezTo>
                  <a:pt x="57" y="1143"/>
                  <a:pt x="42" y="1143"/>
                  <a:pt x="40" y="1134"/>
                </a:cubicBezTo>
                <a:lnTo>
                  <a:pt x="56" y="1086"/>
                </a:lnTo>
                <a:cubicBezTo>
                  <a:pt x="79" y="1036"/>
                  <a:pt x="166" y="902"/>
                  <a:pt x="176" y="834"/>
                </a:cubicBezTo>
                <a:cubicBezTo>
                  <a:pt x="186" y="766"/>
                  <a:pt x="143" y="742"/>
                  <a:pt x="116" y="680"/>
                </a:cubicBezTo>
                <a:cubicBezTo>
                  <a:pt x="89" y="618"/>
                  <a:pt x="33" y="504"/>
                  <a:pt x="14" y="462"/>
                </a:cubicBezTo>
                <a:lnTo>
                  <a:pt x="0" y="430"/>
                </a:lnTo>
                <a:cubicBezTo>
                  <a:pt x="5" y="418"/>
                  <a:pt x="40" y="405"/>
                  <a:pt x="42" y="392"/>
                </a:cubicBezTo>
                <a:cubicBezTo>
                  <a:pt x="44" y="379"/>
                  <a:pt x="17" y="363"/>
                  <a:pt x="12" y="352"/>
                </a:cubicBezTo>
                <a:cubicBezTo>
                  <a:pt x="7" y="341"/>
                  <a:pt x="7" y="329"/>
                  <a:pt x="14" y="324"/>
                </a:cubicBezTo>
                <a:cubicBezTo>
                  <a:pt x="21" y="319"/>
                  <a:pt x="46" y="330"/>
                  <a:pt x="54" y="324"/>
                </a:cubicBezTo>
                <a:cubicBezTo>
                  <a:pt x="62" y="318"/>
                  <a:pt x="57" y="302"/>
                  <a:pt x="62" y="288"/>
                </a:cubicBezTo>
                <a:cubicBezTo>
                  <a:pt x="67" y="274"/>
                  <a:pt x="84" y="253"/>
                  <a:pt x="86" y="240"/>
                </a:cubicBezTo>
                <a:cubicBezTo>
                  <a:pt x="88" y="227"/>
                  <a:pt x="78" y="216"/>
                  <a:pt x="76" y="210"/>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5756400" y="1717560"/>
            <a:ext cx="736560" cy="662040"/>
          </a:xfrm>
          <a:custGeom>
            <a:avLst/>
            <a:gdLst>
              <a:gd name="textAreaLeft" fmla="*/ 0 w 736560"/>
              <a:gd name="textAreaRight" fmla="*/ 736920 w 736560"/>
              <a:gd name="textAreaTop" fmla="*/ 0 h 662040"/>
              <a:gd name="textAreaBottom" fmla="*/ 662400 h 662040"/>
            </a:gdLst>
            <a:ahLst/>
            <a:rect l="textAreaLeft" t="textAreaTop" r="textAreaRight" b="textAreaBottom"/>
            <a:pathLst>
              <a:path w="464" h="417">
                <a:moveTo>
                  <a:pt x="282" y="12"/>
                </a:moveTo>
                <a:cubicBezTo>
                  <a:pt x="269" y="26"/>
                  <a:pt x="236" y="85"/>
                  <a:pt x="222" y="100"/>
                </a:cubicBezTo>
                <a:cubicBezTo>
                  <a:pt x="208" y="115"/>
                  <a:pt x="208" y="98"/>
                  <a:pt x="200" y="100"/>
                </a:cubicBezTo>
                <a:cubicBezTo>
                  <a:pt x="192" y="102"/>
                  <a:pt x="178" y="102"/>
                  <a:pt x="172" y="112"/>
                </a:cubicBezTo>
                <a:cubicBezTo>
                  <a:pt x="166" y="122"/>
                  <a:pt x="174" y="146"/>
                  <a:pt x="166" y="160"/>
                </a:cubicBezTo>
                <a:cubicBezTo>
                  <a:pt x="158" y="174"/>
                  <a:pt x="135" y="186"/>
                  <a:pt x="124" y="198"/>
                </a:cubicBezTo>
                <a:cubicBezTo>
                  <a:pt x="113" y="210"/>
                  <a:pt x="110" y="232"/>
                  <a:pt x="102" y="234"/>
                </a:cubicBezTo>
                <a:cubicBezTo>
                  <a:pt x="94" y="236"/>
                  <a:pt x="83" y="217"/>
                  <a:pt x="74" y="210"/>
                </a:cubicBezTo>
                <a:cubicBezTo>
                  <a:pt x="65" y="203"/>
                  <a:pt x="58" y="192"/>
                  <a:pt x="50" y="194"/>
                </a:cubicBezTo>
                <a:cubicBezTo>
                  <a:pt x="42" y="196"/>
                  <a:pt x="30" y="214"/>
                  <a:pt x="26" y="224"/>
                </a:cubicBezTo>
                <a:cubicBezTo>
                  <a:pt x="22" y="234"/>
                  <a:pt x="22" y="239"/>
                  <a:pt x="26" y="254"/>
                </a:cubicBezTo>
                <a:cubicBezTo>
                  <a:pt x="30" y="269"/>
                  <a:pt x="54" y="293"/>
                  <a:pt x="50" y="314"/>
                </a:cubicBezTo>
                <a:cubicBezTo>
                  <a:pt x="46" y="335"/>
                  <a:pt x="8" y="363"/>
                  <a:pt x="4" y="380"/>
                </a:cubicBezTo>
                <a:cubicBezTo>
                  <a:pt x="0" y="397"/>
                  <a:pt x="3" y="411"/>
                  <a:pt x="24" y="414"/>
                </a:cubicBezTo>
                <a:cubicBezTo>
                  <a:pt x="45" y="417"/>
                  <a:pt x="107" y="396"/>
                  <a:pt x="132" y="396"/>
                </a:cubicBezTo>
                <a:cubicBezTo>
                  <a:pt x="157" y="396"/>
                  <a:pt x="161" y="413"/>
                  <a:pt x="176" y="412"/>
                </a:cubicBezTo>
                <a:cubicBezTo>
                  <a:pt x="191" y="411"/>
                  <a:pt x="202" y="394"/>
                  <a:pt x="220" y="388"/>
                </a:cubicBezTo>
                <a:cubicBezTo>
                  <a:pt x="238" y="382"/>
                  <a:pt x="267" y="386"/>
                  <a:pt x="282" y="378"/>
                </a:cubicBezTo>
                <a:cubicBezTo>
                  <a:pt x="297" y="370"/>
                  <a:pt x="299" y="345"/>
                  <a:pt x="312" y="340"/>
                </a:cubicBezTo>
                <a:cubicBezTo>
                  <a:pt x="325" y="335"/>
                  <a:pt x="344" y="354"/>
                  <a:pt x="358" y="350"/>
                </a:cubicBezTo>
                <a:cubicBezTo>
                  <a:pt x="372" y="346"/>
                  <a:pt x="385" y="322"/>
                  <a:pt x="398" y="316"/>
                </a:cubicBezTo>
                <a:cubicBezTo>
                  <a:pt x="411" y="310"/>
                  <a:pt x="424" y="320"/>
                  <a:pt x="434" y="316"/>
                </a:cubicBezTo>
                <a:cubicBezTo>
                  <a:pt x="444" y="312"/>
                  <a:pt x="452" y="299"/>
                  <a:pt x="456" y="290"/>
                </a:cubicBezTo>
                <a:cubicBezTo>
                  <a:pt x="460" y="281"/>
                  <a:pt x="464" y="266"/>
                  <a:pt x="456" y="260"/>
                </a:cubicBezTo>
                <a:cubicBezTo>
                  <a:pt x="448" y="254"/>
                  <a:pt x="412" y="264"/>
                  <a:pt x="410" y="252"/>
                </a:cubicBezTo>
                <a:cubicBezTo>
                  <a:pt x="408" y="240"/>
                  <a:pt x="439" y="208"/>
                  <a:pt x="446" y="188"/>
                </a:cubicBezTo>
                <a:cubicBezTo>
                  <a:pt x="453" y="168"/>
                  <a:pt x="459" y="149"/>
                  <a:pt x="454" y="134"/>
                </a:cubicBezTo>
                <a:cubicBezTo>
                  <a:pt x="449" y="119"/>
                  <a:pt x="429" y="105"/>
                  <a:pt x="416" y="100"/>
                </a:cubicBezTo>
                <a:cubicBezTo>
                  <a:pt x="403" y="95"/>
                  <a:pt x="391" y="106"/>
                  <a:pt x="374" y="102"/>
                </a:cubicBezTo>
                <a:cubicBezTo>
                  <a:pt x="357" y="98"/>
                  <a:pt x="327" y="89"/>
                  <a:pt x="316" y="78"/>
                </a:cubicBezTo>
                <a:cubicBezTo>
                  <a:pt x="305" y="67"/>
                  <a:pt x="311" y="45"/>
                  <a:pt x="308" y="34"/>
                </a:cubicBezTo>
                <a:cubicBezTo>
                  <a:pt x="305" y="23"/>
                  <a:pt x="304" y="18"/>
                  <a:pt x="300" y="14"/>
                </a:cubicBezTo>
                <a:cubicBezTo>
                  <a:pt x="296" y="10"/>
                  <a:pt x="296" y="0"/>
                  <a:pt x="282" y="12"/>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Picture 7" descr="nazi"/>
          <p:cNvPicPr/>
          <p:nvPr/>
        </p:nvPicPr>
        <p:blipFill>
          <a:blip r:embed="rId4"/>
          <a:stretch/>
        </p:blipFill>
        <p:spPr>
          <a:xfrm>
            <a:off x="4562640" y="2320920"/>
            <a:ext cx="444240" cy="264960"/>
          </a:xfrm>
          <a:prstGeom prst="rect">
            <a:avLst/>
          </a:prstGeom>
          <a:ln w="0">
            <a:noFill/>
          </a:ln>
        </p:spPr>
      </p:pic>
      <p:pic>
        <p:nvPicPr>
          <p:cNvPr id="55" name="Picture 11" descr="union-jack"/>
          <p:cNvPicPr/>
          <p:nvPr/>
        </p:nvPicPr>
        <p:blipFill>
          <a:blip r:embed="rId5"/>
          <a:stretch/>
        </p:blipFill>
        <p:spPr>
          <a:xfrm>
            <a:off x="2698920" y="2130480"/>
            <a:ext cx="438120" cy="203040"/>
          </a:xfrm>
          <a:prstGeom prst="rect">
            <a:avLst/>
          </a:prstGeom>
          <a:ln w="0">
            <a:noFill/>
          </a:ln>
        </p:spPr>
      </p:pic>
      <p:sp>
        <p:nvSpPr>
          <p:cNvPr id="56" name="Freeform 12"/>
          <p:cNvSpPr/>
          <p:nvPr/>
        </p:nvSpPr>
        <p:spPr>
          <a:xfrm>
            <a:off x="3882960" y="2467080"/>
            <a:ext cx="468360" cy="1114200"/>
          </a:xfrm>
          <a:custGeom>
            <a:avLst/>
            <a:gdLst>
              <a:gd name="textAreaLeft" fmla="*/ 0 w 468360"/>
              <a:gd name="textAreaRight" fmla="*/ 468720 w 468360"/>
              <a:gd name="textAreaTop" fmla="*/ 0 h 1114200"/>
              <a:gd name="textAreaBottom" fmla="*/ 1114560 h 1114200"/>
            </a:gdLst>
            <a:ahLst/>
            <a:rect l="textAreaLeft" t="textAreaTop" r="textAreaRight" b="textAreaBottom"/>
            <a:pathLst>
              <a:path w="295" h="702">
                <a:moveTo>
                  <a:pt x="114" y="0"/>
                </a:moveTo>
                <a:cubicBezTo>
                  <a:pt x="132" y="26"/>
                  <a:pt x="179" y="133"/>
                  <a:pt x="197" y="171"/>
                </a:cubicBezTo>
                <a:cubicBezTo>
                  <a:pt x="215" y="209"/>
                  <a:pt x="214" y="208"/>
                  <a:pt x="223" y="227"/>
                </a:cubicBezTo>
                <a:cubicBezTo>
                  <a:pt x="232" y="246"/>
                  <a:pt x="244" y="270"/>
                  <a:pt x="253" y="287"/>
                </a:cubicBezTo>
                <a:cubicBezTo>
                  <a:pt x="262" y="304"/>
                  <a:pt x="270" y="312"/>
                  <a:pt x="277" y="326"/>
                </a:cubicBezTo>
                <a:cubicBezTo>
                  <a:pt x="284" y="340"/>
                  <a:pt x="293" y="352"/>
                  <a:pt x="294" y="370"/>
                </a:cubicBezTo>
                <a:cubicBezTo>
                  <a:pt x="295" y="388"/>
                  <a:pt x="291" y="413"/>
                  <a:pt x="283" y="437"/>
                </a:cubicBezTo>
                <a:cubicBezTo>
                  <a:pt x="275" y="461"/>
                  <a:pt x="265" y="483"/>
                  <a:pt x="248" y="516"/>
                </a:cubicBezTo>
                <a:cubicBezTo>
                  <a:pt x="231" y="549"/>
                  <a:pt x="198" y="605"/>
                  <a:pt x="182" y="636"/>
                </a:cubicBezTo>
                <a:cubicBezTo>
                  <a:pt x="166" y="667"/>
                  <a:pt x="167" y="692"/>
                  <a:pt x="154" y="702"/>
                </a:cubicBezTo>
                <a:lnTo>
                  <a:pt x="102" y="696"/>
                </a:lnTo>
                <a:cubicBezTo>
                  <a:pt x="93" y="674"/>
                  <a:pt x="94" y="600"/>
                  <a:pt x="100" y="572"/>
                </a:cubicBezTo>
                <a:cubicBezTo>
                  <a:pt x="106" y="544"/>
                  <a:pt x="132" y="543"/>
                  <a:pt x="140" y="530"/>
                </a:cubicBezTo>
                <a:cubicBezTo>
                  <a:pt x="148" y="517"/>
                  <a:pt x="142" y="502"/>
                  <a:pt x="146" y="496"/>
                </a:cubicBezTo>
                <a:cubicBezTo>
                  <a:pt x="150" y="490"/>
                  <a:pt x="157" y="495"/>
                  <a:pt x="162" y="492"/>
                </a:cubicBezTo>
                <a:cubicBezTo>
                  <a:pt x="167" y="489"/>
                  <a:pt x="170" y="482"/>
                  <a:pt x="176" y="476"/>
                </a:cubicBezTo>
                <a:cubicBezTo>
                  <a:pt x="182" y="470"/>
                  <a:pt x="205" y="466"/>
                  <a:pt x="196" y="458"/>
                </a:cubicBezTo>
                <a:cubicBezTo>
                  <a:pt x="187" y="450"/>
                  <a:pt x="149" y="438"/>
                  <a:pt x="120" y="426"/>
                </a:cubicBezTo>
                <a:cubicBezTo>
                  <a:pt x="91" y="414"/>
                  <a:pt x="33" y="403"/>
                  <a:pt x="20" y="388"/>
                </a:cubicBezTo>
                <a:cubicBezTo>
                  <a:pt x="7" y="373"/>
                  <a:pt x="44" y="358"/>
                  <a:pt x="42" y="336"/>
                </a:cubicBezTo>
                <a:cubicBezTo>
                  <a:pt x="40" y="314"/>
                  <a:pt x="9" y="279"/>
                  <a:pt x="8" y="254"/>
                </a:cubicBezTo>
                <a:cubicBezTo>
                  <a:pt x="7" y="229"/>
                  <a:pt x="37" y="199"/>
                  <a:pt x="38" y="186"/>
                </a:cubicBezTo>
                <a:cubicBezTo>
                  <a:pt x="39" y="173"/>
                  <a:pt x="22" y="178"/>
                  <a:pt x="16" y="174"/>
                </a:cubicBezTo>
                <a:cubicBezTo>
                  <a:pt x="10" y="170"/>
                  <a:pt x="0" y="171"/>
                  <a:pt x="4" y="160"/>
                </a:cubicBezTo>
                <a:cubicBezTo>
                  <a:pt x="8" y="149"/>
                  <a:pt x="34" y="131"/>
                  <a:pt x="40" y="106"/>
                </a:cubicBezTo>
                <a:cubicBezTo>
                  <a:pt x="46" y="81"/>
                  <a:pt x="30" y="27"/>
                  <a:pt x="38" y="12"/>
                </a:cubicBezTo>
                <a:lnTo>
                  <a:pt x="86" y="16"/>
                </a:lnTo>
                <a:lnTo>
                  <a:pt x="114" y="0"/>
                </a:ln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3"/>
          <p:cNvSpPr/>
          <p:nvPr/>
        </p:nvSpPr>
        <p:spPr>
          <a:xfrm>
            <a:off x="4330800" y="3365640"/>
            <a:ext cx="1271520" cy="628560"/>
          </a:xfrm>
          <a:custGeom>
            <a:avLst/>
            <a:gdLst>
              <a:gd name="textAreaLeft" fmla="*/ 0 w 1271520"/>
              <a:gd name="textAreaRight" fmla="*/ 1271880 w 1271520"/>
              <a:gd name="textAreaTop" fmla="*/ 0 h 628560"/>
              <a:gd name="textAreaBottom" fmla="*/ 628920 h 628560"/>
            </a:gdLst>
            <a:ahLst/>
            <a:rect l="textAreaLeft" t="textAreaTop" r="textAreaRight" b="textAreaBottom"/>
            <a:pathLst>
              <a:path w="801" h="396">
                <a:moveTo>
                  <a:pt x="17" y="174"/>
                </a:moveTo>
                <a:cubicBezTo>
                  <a:pt x="21" y="170"/>
                  <a:pt x="40" y="174"/>
                  <a:pt x="50" y="181"/>
                </a:cubicBezTo>
                <a:cubicBezTo>
                  <a:pt x="60" y="188"/>
                  <a:pt x="69" y="212"/>
                  <a:pt x="79" y="213"/>
                </a:cubicBezTo>
                <a:cubicBezTo>
                  <a:pt x="89" y="214"/>
                  <a:pt x="101" y="192"/>
                  <a:pt x="110" y="187"/>
                </a:cubicBezTo>
                <a:cubicBezTo>
                  <a:pt x="119" y="182"/>
                  <a:pt x="123" y="180"/>
                  <a:pt x="134" y="183"/>
                </a:cubicBezTo>
                <a:cubicBezTo>
                  <a:pt x="145" y="186"/>
                  <a:pt x="158" y="210"/>
                  <a:pt x="175" y="208"/>
                </a:cubicBezTo>
                <a:cubicBezTo>
                  <a:pt x="192" y="206"/>
                  <a:pt x="224" y="173"/>
                  <a:pt x="239" y="169"/>
                </a:cubicBezTo>
                <a:cubicBezTo>
                  <a:pt x="254" y="165"/>
                  <a:pt x="251" y="183"/>
                  <a:pt x="263" y="183"/>
                </a:cubicBezTo>
                <a:cubicBezTo>
                  <a:pt x="275" y="183"/>
                  <a:pt x="301" y="169"/>
                  <a:pt x="313" y="169"/>
                </a:cubicBezTo>
                <a:cubicBezTo>
                  <a:pt x="325" y="169"/>
                  <a:pt x="329" y="173"/>
                  <a:pt x="337" y="181"/>
                </a:cubicBezTo>
                <a:cubicBezTo>
                  <a:pt x="345" y="189"/>
                  <a:pt x="354" y="213"/>
                  <a:pt x="361" y="217"/>
                </a:cubicBezTo>
                <a:cubicBezTo>
                  <a:pt x="368" y="221"/>
                  <a:pt x="377" y="210"/>
                  <a:pt x="380" y="204"/>
                </a:cubicBezTo>
                <a:cubicBezTo>
                  <a:pt x="383" y="198"/>
                  <a:pt x="381" y="187"/>
                  <a:pt x="382" y="180"/>
                </a:cubicBezTo>
                <a:cubicBezTo>
                  <a:pt x="383" y="173"/>
                  <a:pt x="393" y="170"/>
                  <a:pt x="389" y="163"/>
                </a:cubicBezTo>
                <a:cubicBezTo>
                  <a:pt x="385" y="156"/>
                  <a:pt x="363" y="146"/>
                  <a:pt x="358" y="135"/>
                </a:cubicBezTo>
                <a:cubicBezTo>
                  <a:pt x="353" y="124"/>
                  <a:pt x="356" y="107"/>
                  <a:pt x="358" y="96"/>
                </a:cubicBezTo>
                <a:cubicBezTo>
                  <a:pt x="360" y="85"/>
                  <a:pt x="362" y="72"/>
                  <a:pt x="368" y="67"/>
                </a:cubicBezTo>
                <a:cubicBezTo>
                  <a:pt x="374" y="62"/>
                  <a:pt x="380" y="75"/>
                  <a:pt x="392" y="69"/>
                </a:cubicBezTo>
                <a:cubicBezTo>
                  <a:pt x="404" y="63"/>
                  <a:pt x="425" y="35"/>
                  <a:pt x="442" y="30"/>
                </a:cubicBezTo>
                <a:cubicBezTo>
                  <a:pt x="459" y="25"/>
                  <a:pt x="484" y="31"/>
                  <a:pt x="496" y="36"/>
                </a:cubicBezTo>
                <a:cubicBezTo>
                  <a:pt x="508" y="41"/>
                  <a:pt x="509" y="58"/>
                  <a:pt x="517" y="60"/>
                </a:cubicBezTo>
                <a:cubicBezTo>
                  <a:pt x="525" y="62"/>
                  <a:pt x="533" y="47"/>
                  <a:pt x="547" y="48"/>
                </a:cubicBezTo>
                <a:cubicBezTo>
                  <a:pt x="561" y="49"/>
                  <a:pt x="588" y="72"/>
                  <a:pt x="601" y="67"/>
                </a:cubicBezTo>
                <a:cubicBezTo>
                  <a:pt x="614" y="62"/>
                  <a:pt x="616" y="29"/>
                  <a:pt x="625" y="18"/>
                </a:cubicBezTo>
                <a:cubicBezTo>
                  <a:pt x="634" y="7"/>
                  <a:pt x="645" y="5"/>
                  <a:pt x="653" y="3"/>
                </a:cubicBezTo>
                <a:cubicBezTo>
                  <a:pt x="661" y="1"/>
                  <a:pt x="669" y="0"/>
                  <a:pt x="674" y="7"/>
                </a:cubicBezTo>
                <a:cubicBezTo>
                  <a:pt x="679" y="14"/>
                  <a:pt x="678" y="35"/>
                  <a:pt x="686" y="43"/>
                </a:cubicBezTo>
                <a:cubicBezTo>
                  <a:pt x="694" y="51"/>
                  <a:pt x="709" y="53"/>
                  <a:pt x="721" y="54"/>
                </a:cubicBezTo>
                <a:cubicBezTo>
                  <a:pt x="733" y="55"/>
                  <a:pt x="751" y="43"/>
                  <a:pt x="760" y="51"/>
                </a:cubicBezTo>
                <a:cubicBezTo>
                  <a:pt x="769" y="59"/>
                  <a:pt x="768" y="94"/>
                  <a:pt x="775" y="105"/>
                </a:cubicBezTo>
                <a:cubicBezTo>
                  <a:pt x="782" y="116"/>
                  <a:pt x="797" y="109"/>
                  <a:pt x="799" y="117"/>
                </a:cubicBezTo>
                <a:cubicBezTo>
                  <a:pt x="801" y="125"/>
                  <a:pt x="792" y="140"/>
                  <a:pt x="788" y="154"/>
                </a:cubicBezTo>
                <a:cubicBezTo>
                  <a:pt x="784" y="168"/>
                  <a:pt x="782" y="190"/>
                  <a:pt x="776" y="201"/>
                </a:cubicBezTo>
                <a:cubicBezTo>
                  <a:pt x="770" y="212"/>
                  <a:pt x="754" y="209"/>
                  <a:pt x="749" y="217"/>
                </a:cubicBezTo>
                <a:cubicBezTo>
                  <a:pt x="744" y="225"/>
                  <a:pt x="754" y="238"/>
                  <a:pt x="748" y="250"/>
                </a:cubicBezTo>
                <a:cubicBezTo>
                  <a:pt x="742" y="262"/>
                  <a:pt x="726" y="282"/>
                  <a:pt x="715" y="289"/>
                </a:cubicBezTo>
                <a:cubicBezTo>
                  <a:pt x="704" y="296"/>
                  <a:pt x="692" y="290"/>
                  <a:pt x="685" y="295"/>
                </a:cubicBezTo>
                <a:cubicBezTo>
                  <a:pt x="678" y="300"/>
                  <a:pt x="679" y="311"/>
                  <a:pt x="674" y="318"/>
                </a:cubicBezTo>
                <a:cubicBezTo>
                  <a:pt x="669" y="325"/>
                  <a:pt x="662" y="338"/>
                  <a:pt x="652" y="339"/>
                </a:cubicBezTo>
                <a:cubicBezTo>
                  <a:pt x="642" y="340"/>
                  <a:pt x="625" y="324"/>
                  <a:pt x="613" y="324"/>
                </a:cubicBezTo>
                <a:cubicBezTo>
                  <a:pt x="601" y="324"/>
                  <a:pt x="588" y="338"/>
                  <a:pt x="577" y="339"/>
                </a:cubicBezTo>
                <a:cubicBezTo>
                  <a:pt x="566" y="340"/>
                  <a:pt x="553" y="328"/>
                  <a:pt x="545" y="331"/>
                </a:cubicBezTo>
                <a:cubicBezTo>
                  <a:pt x="537" y="334"/>
                  <a:pt x="539" y="347"/>
                  <a:pt x="526" y="357"/>
                </a:cubicBezTo>
                <a:cubicBezTo>
                  <a:pt x="513" y="367"/>
                  <a:pt x="503" y="396"/>
                  <a:pt x="467" y="393"/>
                </a:cubicBezTo>
                <a:cubicBezTo>
                  <a:pt x="431" y="390"/>
                  <a:pt x="343" y="346"/>
                  <a:pt x="311" y="339"/>
                </a:cubicBezTo>
                <a:cubicBezTo>
                  <a:pt x="279" y="332"/>
                  <a:pt x="292" y="350"/>
                  <a:pt x="277" y="349"/>
                </a:cubicBezTo>
                <a:cubicBezTo>
                  <a:pt x="262" y="348"/>
                  <a:pt x="236" y="342"/>
                  <a:pt x="223" y="336"/>
                </a:cubicBezTo>
                <a:cubicBezTo>
                  <a:pt x="210" y="330"/>
                  <a:pt x="208" y="318"/>
                  <a:pt x="197" y="313"/>
                </a:cubicBezTo>
                <a:cubicBezTo>
                  <a:pt x="186" y="308"/>
                  <a:pt x="165" y="306"/>
                  <a:pt x="154" y="306"/>
                </a:cubicBezTo>
                <a:cubicBezTo>
                  <a:pt x="143" y="306"/>
                  <a:pt x="136" y="310"/>
                  <a:pt x="133" y="315"/>
                </a:cubicBezTo>
                <a:cubicBezTo>
                  <a:pt x="130" y="320"/>
                  <a:pt x="141" y="332"/>
                  <a:pt x="134" y="334"/>
                </a:cubicBezTo>
                <a:cubicBezTo>
                  <a:pt x="127" y="336"/>
                  <a:pt x="94" y="335"/>
                  <a:pt x="88" y="327"/>
                </a:cubicBezTo>
                <a:cubicBezTo>
                  <a:pt x="82" y="319"/>
                  <a:pt x="100" y="296"/>
                  <a:pt x="100" y="288"/>
                </a:cubicBezTo>
                <a:cubicBezTo>
                  <a:pt x="100" y="280"/>
                  <a:pt x="93" y="276"/>
                  <a:pt x="85" y="276"/>
                </a:cubicBezTo>
                <a:cubicBezTo>
                  <a:pt x="77" y="276"/>
                  <a:pt x="60" y="289"/>
                  <a:pt x="53" y="285"/>
                </a:cubicBezTo>
                <a:cubicBezTo>
                  <a:pt x="46" y="281"/>
                  <a:pt x="52" y="263"/>
                  <a:pt x="44" y="253"/>
                </a:cubicBezTo>
                <a:cubicBezTo>
                  <a:pt x="36" y="243"/>
                  <a:pt x="8" y="235"/>
                  <a:pt x="4" y="222"/>
                </a:cubicBezTo>
                <a:cubicBezTo>
                  <a:pt x="0" y="209"/>
                  <a:pt x="14" y="184"/>
                  <a:pt x="17" y="174"/>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Picture 14" descr="nazi"/>
          <p:cNvPicPr/>
          <p:nvPr/>
        </p:nvPicPr>
        <p:blipFill>
          <a:blip r:embed="rId6"/>
          <a:stretch/>
        </p:blipFill>
        <p:spPr>
          <a:xfrm>
            <a:off x="5019840" y="3533760"/>
            <a:ext cx="215640" cy="128520"/>
          </a:xfrm>
          <a:prstGeom prst="rect">
            <a:avLst/>
          </a:prstGeom>
          <a:ln w="0">
            <a:noFill/>
          </a:ln>
        </p:spPr>
      </p:pic>
      <p:sp>
        <p:nvSpPr>
          <p:cNvPr id="59" name="Freeform 15"/>
          <p:cNvSpPr/>
          <p:nvPr/>
        </p:nvSpPr>
        <p:spPr>
          <a:xfrm>
            <a:off x="4797360" y="2836800"/>
            <a:ext cx="1041480" cy="378000"/>
          </a:xfrm>
          <a:custGeom>
            <a:avLst/>
            <a:gdLst>
              <a:gd name="textAreaLeft" fmla="*/ 0 w 1041480"/>
              <a:gd name="textAreaRight" fmla="*/ 1041480 w 1041480"/>
              <a:gd name="textAreaTop" fmla="*/ 0 h 378000"/>
              <a:gd name="textAreaBottom" fmla="*/ 378360 h 378000"/>
            </a:gdLst>
            <a:ahLst/>
            <a:rect l="textAreaLeft" t="textAreaTop" r="textAreaRight" b="textAreaBottom"/>
            <a:pathLst>
              <a:path w="656" h="238">
                <a:moveTo>
                  <a:pt x="656" y="196"/>
                </a:moveTo>
                <a:lnTo>
                  <a:pt x="625" y="238"/>
                </a:lnTo>
                <a:cubicBezTo>
                  <a:pt x="600" y="235"/>
                  <a:pt x="534" y="185"/>
                  <a:pt x="508" y="175"/>
                </a:cubicBezTo>
                <a:cubicBezTo>
                  <a:pt x="482" y="165"/>
                  <a:pt x="479" y="179"/>
                  <a:pt x="469" y="178"/>
                </a:cubicBezTo>
                <a:cubicBezTo>
                  <a:pt x="459" y="177"/>
                  <a:pt x="453" y="175"/>
                  <a:pt x="448" y="168"/>
                </a:cubicBezTo>
                <a:cubicBezTo>
                  <a:pt x="443" y="161"/>
                  <a:pt x="446" y="146"/>
                  <a:pt x="440" y="133"/>
                </a:cubicBezTo>
                <a:cubicBezTo>
                  <a:pt x="434" y="120"/>
                  <a:pt x="418" y="94"/>
                  <a:pt x="410" y="90"/>
                </a:cubicBezTo>
                <a:cubicBezTo>
                  <a:pt x="402" y="86"/>
                  <a:pt x="402" y="107"/>
                  <a:pt x="391" y="106"/>
                </a:cubicBezTo>
                <a:cubicBezTo>
                  <a:pt x="380" y="105"/>
                  <a:pt x="354" y="85"/>
                  <a:pt x="344" y="82"/>
                </a:cubicBezTo>
                <a:cubicBezTo>
                  <a:pt x="334" y="79"/>
                  <a:pt x="335" y="87"/>
                  <a:pt x="329" y="88"/>
                </a:cubicBezTo>
                <a:cubicBezTo>
                  <a:pt x="323" y="89"/>
                  <a:pt x="315" y="93"/>
                  <a:pt x="308" y="90"/>
                </a:cubicBezTo>
                <a:cubicBezTo>
                  <a:pt x="301" y="87"/>
                  <a:pt x="311" y="70"/>
                  <a:pt x="289" y="72"/>
                </a:cubicBezTo>
                <a:cubicBezTo>
                  <a:pt x="267" y="74"/>
                  <a:pt x="207" y="89"/>
                  <a:pt x="173" y="103"/>
                </a:cubicBezTo>
                <a:cubicBezTo>
                  <a:pt x="139" y="117"/>
                  <a:pt x="104" y="145"/>
                  <a:pt x="83" y="154"/>
                </a:cubicBezTo>
                <a:lnTo>
                  <a:pt x="49" y="156"/>
                </a:lnTo>
                <a:cubicBezTo>
                  <a:pt x="36" y="149"/>
                  <a:pt x="8" y="124"/>
                  <a:pt x="4" y="111"/>
                </a:cubicBezTo>
                <a:cubicBezTo>
                  <a:pt x="0" y="98"/>
                  <a:pt x="13" y="82"/>
                  <a:pt x="23" y="79"/>
                </a:cubicBezTo>
                <a:cubicBezTo>
                  <a:pt x="33" y="76"/>
                  <a:pt x="53" y="90"/>
                  <a:pt x="65" y="90"/>
                </a:cubicBezTo>
                <a:cubicBezTo>
                  <a:pt x="77" y="90"/>
                  <a:pt x="85" y="80"/>
                  <a:pt x="94" y="78"/>
                </a:cubicBezTo>
                <a:cubicBezTo>
                  <a:pt x="103" y="76"/>
                  <a:pt x="114" y="82"/>
                  <a:pt x="122" y="79"/>
                </a:cubicBezTo>
                <a:cubicBezTo>
                  <a:pt x="130" y="76"/>
                  <a:pt x="131" y="61"/>
                  <a:pt x="142" y="58"/>
                </a:cubicBezTo>
                <a:cubicBezTo>
                  <a:pt x="153" y="55"/>
                  <a:pt x="178" y="63"/>
                  <a:pt x="187" y="60"/>
                </a:cubicBezTo>
                <a:cubicBezTo>
                  <a:pt x="196" y="57"/>
                  <a:pt x="188" y="45"/>
                  <a:pt x="196" y="40"/>
                </a:cubicBezTo>
                <a:cubicBezTo>
                  <a:pt x="204" y="35"/>
                  <a:pt x="222" y="37"/>
                  <a:pt x="235" y="31"/>
                </a:cubicBezTo>
                <a:cubicBezTo>
                  <a:pt x="248" y="25"/>
                  <a:pt x="260" y="2"/>
                  <a:pt x="277" y="1"/>
                </a:cubicBezTo>
                <a:cubicBezTo>
                  <a:pt x="294" y="0"/>
                  <a:pt x="324" y="24"/>
                  <a:pt x="338" y="27"/>
                </a:cubicBezTo>
                <a:cubicBezTo>
                  <a:pt x="352" y="30"/>
                  <a:pt x="352" y="16"/>
                  <a:pt x="362" y="19"/>
                </a:cubicBezTo>
                <a:cubicBezTo>
                  <a:pt x="372" y="22"/>
                  <a:pt x="391" y="43"/>
                  <a:pt x="401" y="45"/>
                </a:cubicBezTo>
                <a:cubicBezTo>
                  <a:pt x="411" y="47"/>
                  <a:pt x="414" y="28"/>
                  <a:pt x="424" y="33"/>
                </a:cubicBezTo>
                <a:cubicBezTo>
                  <a:pt x="434" y="38"/>
                  <a:pt x="456" y="62"/>
                  <a:pt x="464" y="78"/>
                </a:cubicBezTo>
                <a:cubicBezTo>
                  <a:pt x="472" y="94"/>
                  <a:pt x="468" y="123"/>
                  <a:pt x="475" y="129"/>
                </a:cubicBezTo>
                <a:cubicBezTo>
                  <a:pt x="482" y="135"/>
                  <a:pt x="494" y="115"/>
                  <a:pt x="505" y="112"/>
                </a:cubicBezTo>
                <a:cubicBezTo>
                  <a:pt x="516" y="109"/>
                  <a:pt x="528" y="113"/>
                  <a:pt x="539" y="114"/>
                </a:cubicBezTo>
                <a:cubicBezTo>
                  <a:pt x="550" y="115"/>
                  <a:pt x="562" y="112"/>
                  <a:pt x="571" y="115"/>
                </a:cubicBezTo>
                <a:cubicBezTo>
                  <a:pt x="580" y="118"/>
                  <a:pt x="589" y="127"/>
                  <a:pt x="592" y="135"/>
                </a:cubicBezTo>
                <a:cubicBezTo>
                  <a:pt x="595" y="143"/>
                  <a:pt x="583" y="159"/>
                  <a:pt x="589" y="166"/>
                </a:cubicBezTo>
                <a:cubicBezTo>
                  <a:pt x="595" y="173"/>
                  <a:pt x="618" y="172"/>
                  <a:pt x="629" y="177"/>
                </a:cubicBezTo>
                <a:cubicBezTo>
                  <a:pt x="640" y="182"/>
                  <a:pt x="651" y="192"/>
                  <a:pt x="656" y="196"/>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6"/>
          <p:cNvSpPr/>
          <p:nvPr/>
        </p:nvSpPr>
        <p:spPr>
          <a:xfrm>
            <a:off x="4875120" y="3081240"/>
            <a:ext cx="674640" cy="395280"/>
          </a:xfrm>
          <a:custGeom>
            <a:avLst/>
            <a:gdLst>
              <a:gd name="textAreaLeft" fmla="*/ 0 w 674640"/>
              <a:gd name="textAreaRight" fmla="*/ 675000 w 674640"/>
              <a:gd name="textAreaTop" fmla="*/ 0 h 395280"/>
              <a:gd name="textAreaBottom" fmla="*/ 395640 h 395280"/>
            </a:gdLst>
            <a:ahLst/>
            <a:rect l="textAreaLeft" t="textAreaTop" r="textAreaRight" b="textAreaBottom"/>
            <a:pathLst>
              <a:path w="425" h="249">
                <a:moveTo>
                  <a:pt x="0" y="2"/>
                </a:moveTo>
                <a:lnTo>
                  <a:pt x="34" y="0"/>
                </a:lnTo>
                <a:cubicBezTo>
                  <a:pt x="41" y="8"/>
                  <a:pt x="29" y="26"/>
                  <a:pt x="43" y="50"/>
                </a:cubicBezTo>
                <a:cubicBezTo>
                  <a:pt x="57" y="74"/>
                  <a:pt x="99" y="124"/>
                  <a:pt x="120" y="146"/>
                </a:cubicBezTo>
                <a:cubicBezTo>
                  <a:pt x="141" y="168"/>
                  <a:pt x="158" y="177"/>
                  <a:pt x="171" y="182"/>
                </a:cubicBezTo>
                <a:cubicBezTo>
                  <a:pt x="184" y="187"/>
                  <a:pt x="188" y="175"/>
                  <a:pt x="196" y="179"/>
                </a:cubicBezTo>
                <a:cubicBezTo>
                  <a:pt x="204" y="183"/>
                  <a:pt x="203" y="202"/>
                  <a:pt x="217" y="206"/>
                </a:cubicBezTo>
                <a:cubicBezTo>
                  <a:pt x="231" y="210"/>
                  <a:pt x="269" y="207"/>
                  <a:pt x="280" y="204"/>
                </a:cubicBezTo>
                <a:cubicBezTo>
                  <a:pt x="291" y="201"/>
                  <a:pt x="279" y="193"/>
                  <a:pt x="283" y="189"/>
                </a:cubicBezTo>
                <a:cubicBezTo>
                  <a:pt x="287" y="185"/>
                  <a:pt x="301" y="189"/>
                  <a:pt x="304" y="182"/>
                </a:cubicBezTo>
                <a:cubicBezTo>
                  <a:pt x="307" y="175"/>
                  <a:pt x="292" y="150"/>
                  <a:pt x="301" y="149"/>
                </a:cubicBezTo>
                <a:cubicBezTo>
                  <a:pt x="310" y="148"/>
                  <a:pt x="346" y="167"/>
                  <a:pt x="358" y="174"/>
                </a:cubicBezTo>
                <a:cubicBezTo>
                  <a:pt x="370" y="181"/>
                  <a:pt x="370" y="188"/>
                  <a:pt x="376" y="191"/>
                </a:cubicBezTo>
                <a:cubicBezTo>
                  <a:pt x="382" y="194"/>
                  <a:pt x="390" y="187"/>
                  <a:pt x="397" y="192"/>
                </a:cubicBezTo>
                <a:cubicBezTo>
                  <a:pt x="404" y="197"/>
                  <a:pt x="425" y="218"/>
                  <a:pt x="417" y="224"/>
                </a:cubicBezTo>
                <a:cubicBezTo>
                  <a:pt x="409" y="230"/>
                  <a:pt x="366" y="235"/>
                  <a:pt x="351" y="228"/>
                </a:cubicBezTo>
                <a:cubicBezTo>
                  <a:pt x="336" y="221"/>
                  <a:pt x="335" y="188"/>
                  <a:pt x="324" y="182"/>
                </a:cubicBezTo>
                <a:cubicBezTo>
                  <a:pt x="313" y="176"/>
                  <a:pt x="292" y="183"/>
                  <a:pt x="285" y="191"/>
                </a:cubicBezTo>
                <a:cubicBezTo>
                  <a:pt x="278" y="199"/>
                  <a:pt x="285" y="224"/>
                  <a:pt x="279" y="233"/>
                </a:cubicBezTo>
                <a:cubicBezTo>
                  <a:pt x="273" y="242"/>
                  <a:pt x="261" y="249"/>
                  <a:pt x="249" y="248"/>
                </a:cubicBezTo>
                <a:cubicBezTo>
                  <a:pt x="237" y="247"/>
                  <a:pt x="220" y="227"/>
                  <a:pt x="207" y="225"/>
                </a:cubicBezTo>
                <a:cubicBezTo>
                  <a:pt x="194" y="223"/>
                  <a:pt x="179" y="241"/>
                  <a:pt x="171" y="239"/>
                </a:cubicBezTo>
                <a:cubicBezTo>
                  <a:pt x="163" y="237"/>
                  <a:pt x="165" y="221"/>
                  <a:pt x="156" y="216"/>
                </a:cubicBezTo>
                <a:cubicBezTo>
                  <a:pt x="147" y="211"/>
                  <a:pt x="123" y="216"/>
                  <a:pt x="115" y="206"/>
                </a:cubicBezTo>
                <a:lnTo>
                  <a:pt x="108" y="158"/>
                </a:lnTo>
                <a:cubicBezTo>
                  <a:pt x="99" y="145"/>
                  <a:pt x="71" y="133"/>
                  <a:pt x="60" y="126"/>
                </a:cubicBezTo>
                <a:cubicBezTo>
                  <a:pt x="49" y="119"/>
                  <a:pt x="45" y="120"/>
                  <a:pt x="42" y="113"/>
                </a:cubicBezTo>
                <a:cubicBezTo>
                  <a:pt x="39" y="106"/>
                  <a:pt x="45" y="93"/>
                  <a:pt x="39" y="83"/>
                </a:cubicBezTo>
                <a:cubicBezTo>
                  <a:pt x="33" y="73"/>
                  <a:pt x="13" y="66"/>
                  <a:pt x="7" y="53"/>
                </a:cubicBezTo>
                <a:cubicBezTo>
                  <a:pt x="1" y="40"/>
                  <a:pt x="1" y="13"/>
                  <a:pt x="0" y="2"/>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7"/>
          <p:cNvSpPr/>
          <p:nvPr/>
        </p:nvSpPr>
        <p:spPr>
          <a:xfrm>
            <a:off x="4932360" y="2949480"/>
            <a:ext cx="1952640" cy="760680"/>
          </a:xfrm>
          <a:custGeom>
            <a:avLst/>
            <a:gdLst>
              <a:gd name="textAreaLeft" fmla="*/ 0 w 1952640"/>
              <a:gd name="textAreaRight" fmla="*/ 1952640 w 1952640"/>
              <a:gd name="textAreaTop" fmla="*/ 0 h 760680"/>
              <a:gd name="textAreaBottom" fmla="*/ 761040 h 760680"/>
            </a:gdLst>
            <a:ahLst/>
            <a:rect l="textAreaLeft" t="textAreaTop" r="textAreaRight" b="textAreaBottom"/>
            <a:pathLst>
              <a:path w="1230" h="479">
                <a:moveTo>
                  <a:pt x="0" y="85"/>
                </a:moveTo>
                <a:cubicBezTo>
                  <a:pt x="17" y="69"/>
                  <a:pt x="62" y="42"/>
                  <a:pt x="97" y="28"/>
                </a:cubicBezTo>
                <a:cubicBezTo>
                  <a:pt x="132" y="14"/>
                  <a:pt x="186" y="2"/>
                  <a:pt x="208" y="1"/>
                </a:cubicBezTo>
                <a:cubicBezTo>
                  <a:pt x="230" y="0"/>
                  <a:pt x="220" y="20"/>
                  <a:pt x="228" y="22"/>
                </a:cubicBezTo>
                <a:cubicBezTo>
                  <a:pt x="236" y="24"/>
                  <a:pt x="245" y="9"/>
                  <a:pt x="258" y="11"/>
                </a:cubicBezTo>
                <a:cubicBezTo>
                  <a:pt x="271" y="13"/>
                  <a:pt x="295" y="34"/>
                  <a:pt x="306" y="35"/>
                </a:cubicBezTo>
                <a:cubicBezTo>
                  <a:pt x="317" y="36"/>
                  <a:pt x="314" y="17"/>
                  <a:pt x="322" y="20"/>
                </a:cubicBezTo>
                <a:cubicBezTo>
                  <a:pt x="330" y="23"/>
                  <a:pt x="344" y="38"/>
                  <a:pt x="352" y="52"/>
                </a:cubicBezTo>
                <a:cubicBezTo>
                  <a:pt x="360" y="66"/>
                  <a:pt x="358" y="98"/>
                  <a:pt x="369" y="106"/>
                </a:cubicBezTo>
                <a:cubicBezTo>
                  <a:pt x="380" y="114"/>
                  <a:pt x="391" y="93"/>
                  <a:pt x="420" y="103"/>
                </a:cubicBezTo>
                <a:cubicBezTo>
                  <a:pt x="449" y="113"/>
                  <a:pt x="517" y="162"/>
                  <a:pt x="541" y="166"/>
                </a:cubicBezTo>
                <a:lnTo>
                  <a:pt x="567" y="127"/>
                </a:lnTo>
                <a:cubicBezTo>
                  <a:pt x="573" y="122"/>
                  <a:pt x="570" y="132"/>
                  <a:pt x="574" y="136"/>
                </a:cubicBezTo>
                <a:cubicBezTo>
                  <a:pt x="578" y="140"/>
                  <a:pt x="582" y="148"/>
                  <a:pt x="594" y="154"/>
                </a:cubicBezTo>
                <a:cubicBezTo>
                  <a:pt x="606" y="160"/>
                  <a:pt x="633" y="166"/>
                  <a:pt x="649" y="170"/>
                </a:cubicBezTo>
                <a:cubicBezTo>
                  <a:pt x="665" y="174"/>
                  <a:pt x="681" y="176"/>
                  <a:pt x="690" y="181"/>
                </a:cubicBezTo>
                <a:cubicBezTo>
                  <a:pt x="699" y="186"/>
                  <a:pt x="700" y="198"/>
                  <a:pt x="706" y="203"/>
                </a:cubicBezTo>
                <a:cubicBezTo>
                  <a:pt x="712" y="208"/>
                  <a:pt x="721" y="208"/>
                  <a:pt x="726" y="211"/>
                </a:cubicBezTo>
                <a:cubicBezTo>
                  <a:pt x="731" y="214"/>
                  <a:pt x="734" y="210"/>
                  <a:pt x="738" y="220"/>
                </a:cubicBezTo>
                <a:cubicBezTo>
                  <a:pt x="742" y="230"/>
                  <a:pt x="743" y="265"/>
                  <a:pt x="751" y="274"/>
                </a:cubicBezTo>
                <a:cubicBezTo>
                  <a:pt x="759" y="283"/>
                  <a:pt x="775" y="283"/>
                  <a:pt x="787" y="277"/>
                </a:cubicBezTo>
                <a:cubicBezTo>
                  <a:pt x="799" y="271"/>
                  <a:pt x="813" y="246"/>
                  <a:pt x="825" y="238"/>
                </a:cubicBezTo>
                <a:cubicBezTo>
                  <a:pt x="837" y="230"/>
                  <a:pt x="850" y="230"/>
                  <a:pt x="858" y="229"/>
                </a:cubicBezTo>
                <a:cubicBezTo>
                  <a:pt x="866" y="228"/>
                  <a:pt x="867" y="235"/>
                  <a:pt x="873" y="235"/>
                </a:cubicBezTo>
                <a:cubicBezTo>
                  <a:pt x="879" y="235"/>
                  <a:pt x="885" y="227"/>
                  <a:pt x="895" y="229"/>
                </a:cubicBezTo>
                <a:cubicBezTo>
                  <a:pt x="905" y="231"/>
                  <a:pt x="920" y="246"/>
                  <a:pt x="933" y="248"/>
                </a:cubicBezTo>
                <a:cubicBezTo>
                  <a:pt x="946" y="250"/>
                  <a:pt x="961" y="238"/>
                  <a:pt x="972" y="242"/>
                </a:cubicBezTo>
                <a:cubicBezTo>
                  <a:pt x="983" y="246"/>
                  <a:pt x="994" y="268"/>
                  <a:pt x="1003" y="274"/>
                </a:cubicBezTo>
                <a:cubicBezTo>
                  <a:pt x="1012" y="280"/>
                  <a:pt x="1018" y="272"/>
                  <a:pt x="1027" y="278"/>
                </a:cubicBezTo>
                <a:cubicBezTo>
                  <a:pt x="1036" y="284"/>
                  <a:pt x="1050" y="305"/>
                  <a:pt x="1060" y="310"/>
                </a:cubicBezTo>
                <a:cubicBezTo>
                  <a:pt x="1070" y="315"/>
                  <a:pt x="1080" y="305"/>
                  <a:pt x="1089" y="311"/>
                </a:cubicBezTo>
                <a:cubicBezTo>
                  <a:pt x="1098" y="317"/>
                  <a:pt x="1101" y="340"/>
                  <a:pt x="1113" y="347"/>
                </a:cubicBezTo>
                <a:cubicBezTo>
                  <a:pt x="1125" y="354"/>
                  <a:pt x="1154" y="345"/>
                  <a:pt x="1161" y="352"/>
                </a:cubicBezTo>
                <a:cubicBezTo>
                  <a:pt x="1168" y="359"/>
                  <a:pt x="1150" y="382"/>
                  <a:pt x="1156" y="391"/>
                </a:cubicBezTo>
                <a:cubicBezTo>
                  <a:pt x="1162" y="400"/>
                  <a:pt x="1188" y="396"/>
                  <a:pt x="1197" y="407"/>
                </a:cubicBezTo>
                <a:cubicBezTo>
                  <a:pt x="1206" y="418"/>
                  <a:pt x="1204" y="446"/>
                  <a:pt x="1210" y="458"/>
                </a:cubicBezTo>
                <a:lnTo>
                  <a:pt x="1230" y="479"/>
                </a:lnTo>
                <a:cubicBezTo>
                  <a:pt x="1219" y="477"/>
                  <a:pt x="1165" y="453"/>
                  <a:pt x="1146" y="448"/>
                </a:cubicBezTo>
                <a:cubicBezTo>
                  <a:pt x="1127" y="443"/>
                  <a:pt x="1124" y="454"/>
                  <a:pt x="1116" y="451"/>
                </a:cubicBezTo>
                <a:cubicBezTo>
                  <a:pt x="1108" y="448"/>
                  <a:pt x="1103" y="433"/>
                  <a:pt x="1096" y="431"/>
                </a:cubicBezTo>
                <a:cubicBezTo>
                  <a:pt x="1089" y="429"/>
                  <a:pt x="1083" y="443"/>
                  <a:pt x="1074" y="439"/>
                </a:cubicBezTo>
                <a:cubicBezTo>
                  <a:pt x="1065" y="435"/>
                  <a:pt x="1054" y="410"/>
                  <a:pt x="1041" y="406"/>
                </a:cubicBezTo>
                <a:cubicBezTo>
                  <a:pt x="1028" y="402"/>
                  <a:pt x="1005" y="417"/>
                  <a:pt x="993" y="413"/>
                </a:cubicBezTo>
                <a:cubicBezTo>
                  <a:pt x="981" y="409"/>
                  <a:pt x="977" y="386"/>
                  <a:pt x="970" y="382"/>
                </a:cubicBezTo>
                <a:cubicBezTo>
                  <a:pt x="963" y="378"/>
                  <a:pt x="956" y="384"/>
                  <a:pt x="948" y="386"/>
                </a:cubicBezTo>
                <a:cubicBezTo>
                  <a:pt x="940" y="388"/>
                  <a:pt x="933" y="394"/>
                  <a:pt x="922" y="392"/>
                </a:cubicBezTo>
                <a:cubicBezTo>
                  <a:pt x="911" y="390"/>
                  <a:pt x="894" y="372"/>
                  <a:pt x="882" y="371"/>
                </a:cubicBezTo>
                <a:cubicBezTo>
                  <a:pt x="870" y="370"/>
                  <a:pt x="860" y="386"/>
                  <a:pt x="852" y="388"/>
                </a:cubicBezTo>
                <a:cubicBezTo>
                  <a:pt x="844" y="390"/>
                  <a:pt x="838" y="380"/>
                  <a:pt x="831" y="383"/>
                </a:cubicBezTo>
                <a:cubicBezTo>
                  <a:pt x="824" y="386"/>
                  <a:pt x="821" y="399"/>
                  <a:pt x="811" y="404"/>
                </a:cubicBezTo>
                <a:cubicBezTo>
                  <a:pt x="801" y="409"/>
                  <a:pt x="781" y="406"/>
                  <a:pt x="769" y="412"/>
                </a:cubicBezTo>
                <a:cubicBezTo>
                  <a:pt x="757" y="418"/>
                  <a:pt x="748" y="437"/>
                  <a:pt x="736" y="439"/>
                </a:cubicBezTo>
                <a:cubicBezTo>
                  <a:pt x="724" y="441"/>
                  <a:pt x="714" y="421"/>
                  <a:pt x="697" y="422"/>
                </a:cubicBezTo>
                <a:cubicBezTo>
                  <a:pt x="680" y="423"/>
                  <a:pt x="655" y="444"/>
                  <a:pt x="636" y="446"/>
                </a:cubicBezTo>
                <a:cubicBezTo>
                  <a:pt x="617" y="448"/>
                  <a:pt x="595" y="434"/>
                  <a:pt x="585" y="437"/>
                </a:cubicBezTo>
                <a:cubicBezTo>
                  <a:pt x="575" y="440"/>
                  <a:pt x="586" y="458"/>
                  <a:pt x="573" y="463"/>
                </a:cubicBezTo>
                <a:cubicBezTo>
                  <a:pt x="560" y="468"/>
                  <a:pt x="521" y="469"/>
                  <a:pt x="507" y="466"/>
                </a:cubicBezTo>
                <a:cubicBezTo>
                  <a:pt x="493" y="463"/>
                  <a:pt x="499" y="452"/>
                  <a:pt x="486" y="443"/>
                </a:cubicBezTo>
                <a:cubicBezTo>
                  <a:pt x="473" y="434"/>
                  <a:pt x="441" y="423"/>
                  <a:pt x="426" y="410"/>
                </a:cubicBezTo>
                <a:cubicBezTo>
                  <a:pt x="411" y="397"/>
                  <a:pt x="403" y="376"/>
                  <a:pt x="397" y="364"/>
                </a:cubicBezTo>
                <a:cubicBezTo>
                  <a:pt x="391" y="352"/>
                  <a:pt x="392" y="351"/>
                  <a:pt x="390" y="340"/>
                </a:cubicBezTo>
                <a:cubicBezTo>
                  <a:pt x="388" y="329"/>
                  <a:pt x="387" y="309"/>
                  <a:pt x="382" y="298"/>
                </a:cubicBezTo>
                <a:cubicBezTo>
                  <a:pt x="377" y="287"/>
                  <a:pt x="363" y="275"/>
                  <a:pt x="357" y="272"/>
                </a:cubicBezTo>
                <a:cubicBezTo>
                  <a:pt x="351" y="269"/>
                  <a:pt x="348" y="279"/>
                  <a:pt x="343" y="277"/>
                </a:cubicBezTo>
                <a:lnTo>
                  <a:pt x="324" y="257"/>
                </a:lnTo>
                <a:lnTo>
                  <a:pt x="264" y="229"/>
                </a:lnTo>
                <a:lnTo>
                  <a:pt x="265" y="260"/>
                </a:lnTo>
                <a:lnTo>
                  <a:pt x="252" y="272"/>
                </a:lnTo>
                <a:lnTo>
                  <a:pt x="238" y="290"/>
                </a:lnTo>
                <a:lnTo>
                  <a:pt x="189" y="293"/>
                </a:lnTo>
                <a:lnTo>
                  <a:pt x="175" y="286"/>
                </a:lnTo>
                <a:lnTo>
                  <a:pt x="160" y="260"/>
                </a:lnTo>
                <a:lnTo>
                  <a:pt x="138" y="265"/>
                </a:lnTo>
                <a:cubicBezTo>
                  <a:pt x="131" y="264"/>
                  <a:pt x="125" y="261"/>
                  <a:pt x="115" y="254"/>
                </a:cubicBezTo>
                <a:cubicBezTo>
                  <a:pt x="105" y="247"/>
                  <a:pt x="97" y="245"/>
                  <a:pt x="78" y="223"/>
                </a:cubicBezTo>
                <a:cubicBezTo>
                  <a:pt x="59" y="201"/>
                  <a:pt x="13" y="147"/>
                  <a:pt x="0" y="124"/>
                </a:cubicBezTo>
                <a:lnTo>
                  <a:pt x="0" y="85"/>
                </a:ln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18" descr="nazi"/>
          <p:cNvPicPr/>
          <p:nvPr/>
        </p:nvPicPr>
        <p:blipFill>
          <a:blip r:embed="rId7"/>
          <a:stretch/>
        </p:blipFill>
        <p:spPr>
          <a:xfrm>
            <a:off x="5462640" y="3079800"/>
            <a:ext cx="216000" cy="128520"/>
          </a:xfrm>
          <a:prstGeom prst="rect">
            <a:avLst/>
          </a:prstGeom>
          <a:ln w="0">
            <a:noFill/>
          </a:ln>
        </p:spPr>
      </p:pic>
      <p:sp>
        <p:nvSpPr>
          <p:cNvPr id="63" name="Freeform 19"/>
          <p:cNvSpPr/>
          <p:nvPr/>
        </p:nvSpPr>
        <p:spPr>
          <a:xfrm>
            <a:off x="5532480" y="2370240"/>
            <a:ext cx="511200" cy="158760"/>
          </a:xfrm>
          <a:custGeom>
            <a:avLst/>
            <a:gdLst>
              <a:gd name="textAreaLeft" fmla="*/ 0 w 511200"/>
              <a:gd name="textAreaRight" fmla="*/ 511200 w 511200"/>
              <a:gd name="textAreaTop" fmla="*/ 0 h 158760"/>
              <a:gd name="textAreaBottom" fmla="*/ 159120 h 158760"/>
            </a:gdLst>
            <a:ahLst/>
            <a:rect l="textAreaLeft" t="textAreaTop" r="textAreaRight" b="textAreaBottom"/>
            <a:pathLst>
              <a:path w="322" h="100">
                <a:moveTo>
                  <a:pt x="0" y="0"/>
                </a:moveTo>
                <a:cubicBezTo>
                  <a:pt x="24" y="11"/>
                  <a:pt x="90" y="50"/>
                  <a:pt x="144" y="67"/>
                </a:cubicBezTo>
                <a:cubicBezTo>
                  <a:pt x="198" y="84"/>
                  <a:pt x="285" y="93"/>
                  <a:pt x="322" y="10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2"/>
          <p:cNvSpPr/>
          <p:nvPr/>
        </p:nvSpPr>
        <p:spPr>
          <a:xfrm>
            <a:off x="5851440" y="2573280"/>
            <a:ext cx="426960" cy="525600"/>
          </a:xfrm>
          <a:custGeom>
            <a:avLst/>
            <a:gdLst>
              <a:gd name="textAreaLeft" fmla="*/ 0 w 426960"/>
              <a:gd name="textAreaRight" fmla="*/ 427320 w 426960"/>
              <a:gd name="textAreaTop" fmla="*/ 0 h 525600"/>
              <a:gd name="textAreaBottom" fmla="*/ 525960 h 525600"/>
            </a:gdLst>
            <a:ahLst/>
            <a:rect l="textAreaLeft" t="textAreaTop" r="textAreaRight" b="textAreaBottom"/>
            <a:pathLst>
              <a:path w="269" h="331">
                <a:moveTo>
                  <a:pt x="0" y="331"/>
                </a:moveTo>
                <a:cubicBezTo>
                  <a:pt x="38" y="310"/>
                  <a:pt x="183" y="260"/>
                  <a:pt x="226" y="205"/>
                </a:cubicBezTo>
                <a:cubicBezTo>
                  <a:pt x="269" y="150"/>
                  <a:pt x="254" y="43"/>
                  <a:pt x="261"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3"/>
          <p:cNvSpPr/>
          <p:nvPr/>
        </p:nvSpPr>
        <p:spPr>
          <a:xfrm>
            <a:off x="6013440" y="2709720"/>
            <a:ext cx="568440" cy="547920"/>
          </a:xfrm>
          <a:custGeom>
            <a:avLst/>
            <a:gdLst>
              <a:gd name="textAreaLeft" fmla="*/ 0 w 568440"/>
              <a:gd name="textAreaRight" fmla="*/ 568800 w 568440"/>
              <a:gd name="textAreaTop" fmla="*/ 0 h 547920"/>
              <a:gd name="textAreaBottom" fmla="*/ 548280 h 547920"/>
            </a:gdLst>
            <a:ahLst/>
            <a:rect l="textAreaLeft" t="textAreaTop" r="textAreaRight" b="textAreaBottom"/>
            <a:pathLst>
              <a:path w="358" h="345">
                <a:moveTo>
                  <a:pt x="0" y="345"/>
                </a:moveTo>
                <a:cubicBezTo>
                  <a:pt x="49" y="330"/>
                  <a:pt x="234" y="314"/>
                  <a:pt x="294" y="257"/>
                </a:cubicBezTo>
                <a:cubicBezTo>
                  <a:pt x="354" y="200"/>
                  <a:pt x="345" y="54"/>
                  <a:pt x="358"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5"/>
          <p:cNvSpPr/>
          <p:nvPr/>
        </p:nvSpPr>
        <p:spPr>
          <a:xfrm>
            <a:off x="6188040" y="1623960"/>
            <a:ext cx="1127160" cy="2095560"/>
          </a:xfrm>
          <a:custGeom>
            <a:avLst/>
            <a:gdLst>
              <a:gd name="textAreaLeft" fmla="*/ 0 w 1127160"/>
              <a:gd name="textAreaRight" fmla="*/ 1127520 w 1127160"/>
              <a:gd name="textAreaTop" fmla="*/ 0 h 2095560"/>
              <a:gd name="textAreaBottom" fmla="*/ 2095560 h 2095560"/>
            </a:gdLst>
            <a:ahLst/>
            <a:rect l="textAreaLeft" t="textAreaTop" r="textAreaRight" b="textAreaBottom"/>
            <a:pathLst>
              <a:path w="710" h="1320">
                <a:moveTo>
                  <a:pt x="494" y="11"/>
                </a:moveTo>
                <a:cubicBezTo>
                  <a:pt x="501" y="7"/>
                  <a:pt x="513" y="8"/>
                  <a:pt x="532" y="7"/>
                </a:cubicBezTo>
                <a:cubicBezTo>
                  <a:pt x="551" y="6"/>
                  <a:pt x="586" y="0"/>
                  <a:pt x="608" y="7"/>
                </a:cubicBezTo>
                <a:cubicBezTo>
                  <a:pt x="630" y="14"/>
                  <a:pt x="647" y="29"/>
                  <a:pt x="664" y="47"/>
                </a:cubicBezTo>
                <a:cubicBezTo>
                  <a:pt x="681" y="65"/>
                  <a:pt x="710" y="98"/>
                  <a:pt x="708" y="117"/>
                </a:cubicBezTo>
                <a:cubicBezTo>
                  <a:pt x="706" y="136"/>
                  <a:pt x="665" y="145"/>
                  <a:pt x="654" y="159"/>
                </a:cubicBezTo>
                <a:cubicBezTo>
                  <a:pt x="643" y="173"/>
                  <a:pt x="652" y="190"/>
                  <a:pt x="640" y="199"/>
                </a:cubicBezTo>
                <a:cubicBezTo>
                  <a:pt x="628" y="208"/>
                  <a:pt x="600" y="202"/>
                  <a:pt x="584" y="211"/>
                </a:cubicBezTo>
                <a:cubicBezTo>
                  <a:pt x="568" y="220"/>
                  <a:pt x="548" y="245"/>
                  <a:pt x="544" y="255"/>
                </a:cubicBezTo>
                <a:cubicBezTo>
                  <a:pt x="540" y="265"/>
                  <a:pt x="557" y="264"/>
                  <a:pt x="558" y="273"/>
                </a:cubicBezTo>
                <a:cubicBezTo>
                  <a:pt x="559" y="282"/>
                  <a:pt x="551" y="294"/>
                  <a:pt x="552" y="307"/>
                </a:cubicBezTo>
                <a:cubicBezTo>
                  <a:pt x="553" y="320"/>
                  <a:pt x="564" y="340"/>
                  <a:pt x="564" y="351"/>
                </a:cubicBezTo>
                <a:cubicBezTo>
                  <a:pt x="564" y="362"/>
                  <a:pt x="557" y="363"/>
                  <a:pt x="552" y="375"/>
                </a:cubicBezTo>
                <a:cubicBezTo>
                  <a:pt x="547" y="387"/>
                  <a:pt x="532" y="405"/>
                  <a:pt x="532" y="421"/>
                </a:cubicBezTo>
                <a:cubicBezTo>
                  <a:pt x="532" y="437"/>
                  <a:pt x="547" y="457"/>
                  <a:pt x="554" y="473"/>
                </a:cubicBezTo>
                <a:cubicBezTo>
                  <a:pt x="561" y="489"/>
                  <a:pt x="564" y="502"/>
                  <a:pt x="572" y="515"/>
                </a:cubicBezTo>
                <a:cubicBezTo>
                  <a:pt x="580" y="528"/>
                  <a:pt x="594" y="540"/>
                  <a:pt x="604" y="551"/>
                </a:cubicBezTo>
                <a:cubicBezTo>
                  <a:pt x="614" y="562"/>
                  <a:pt x="639" y="558"/>
                  <a:pt x="632" y="583"/>
                </a:cubicBezTo>
                <a:cubicBezTo>
                  <a:pt x="625" y="608"/>
                  <a:pt x="574" y="672"/>
                  <a:pt x="562" y="701"/>
                </a:cubicBezTo>
                <a:cubicBezTo>
                  <a:pt x="550" y="730"/>
                  <a:pt x="552" y="742"/>
                  <a:pt x="558" y="759"/>
                </a:cubicBezTo>
                <a:cubicBezTo>
                  <a:pt x="564" y="776"/>
                  <a:pt x="589" y="781"/>
                  <a:pt x="596" y="801"/>
                </a:cubicBezTo>
                <a:cubicBezTo>
                  <a:pt x="603" y="821"/>
                  <a:pt x="609" y="856"/>
                  <a:pt x="600" y="881"/>
                </a:cubicBezTo>
                <a:cubicBezTo>
                  <a:pt x="591" y="906"/>
                  <a:pt x="548" y="907"/>
                  <a:pt x="542" y="949"/>
                </a:cubicBezTo>
                <a:cubicBezTo>
                  <a:pt x="536" y="991"/>
                  <a:pt x="567" y="1100"/>
                  <a:pt x="564" y="1131"/>
                </a:cubicBezTo>
                <a:lnTo>
                  <a:pt x="526" y="1137"/>
                </a:lnTo>
                <a:cubicBezTo>
                  <a:pt x="511" y="1138"/>
                  <a:pt x="482" y="1132"/>
                  <a:pt x="472" y="1139"/>
                </a:cubicBezTo>
                <a:cubicBezTo>
                  <a:pt x="462" y="1146"/>
                  <a:pt x="471" y="1163"/>
                  <a:pt x="466" y="1177"/>
                </a:cubicBezTo>
                <a:cubicBezTo>
                  <a:pt x="461" y="1191"/>
                  <a:pt x="442" y="1200"/>
                  <a:pt x="440" y="1221"/>
                </a:cubicBezTo>
                <a:cubicBezTo>
                  <a:pt x="438" y="1242"/>
                  <a:pt x="454" y="1290"/>
                  <a:pt x="454" y="1305"/>
                </a:cubicBezTo>
                <a:cubicBezTo>
                  <a:pt x="454" y="1320"/>
                  <a:pt x="448" y="1316"/>
                  <a:pt x="442" y="1313"/>
                </a:cubicBezTo>
                <a:cubicBezTo>
                  <a:pt x="436" y="1310"/>
                  <a:pt x="424" y="1302"/>
                  <a:pt x="418" y="1289"/>
                </a:cubicBezTo>
                <a:cubicBezTo>
                  <a:pt x="412" y="1276"/>
                  <a:pt x="414" y="1248"/>
                  <a:pt x="406" y="1237"/>
                </a:cubicBezTo>
                <a:cubicBezTo>
                  <a:pt x="398" y="1226"/>
                  <a:pt x="375" y="1234"/>
                  <a:pt x="368" y="1225"/>
                </a:cubicBezTo>
                <a:cubicBezTo>
                  <a:pt x="361" y="1216"/>
                  <a:pt x="373" y="1188"/>
                  <a:pt x="366" y="1181"/>
                </a:cubicBezTo>
                <a:cubicBezTo>
                  <a:pt x="359" y="1174"/>
                  <a:pt x="337" y="1189"/>
                  <a:pt x="326" y="1183"/>
                </a:cubicBezTo>
                <a:cubicBezTo>
                  <a:pt x="315" y="1177"/>
                  <a:pt x="306" y="1161"/>
                  <a:pt x="298" y="1143"/>
                </a:cubicBezTo>
                <a:cubicBezTo>
                  <a:pt x="290" y="1125"/>
                  <a:pt x="286" y="1094"/>
                  <a:pt x="276" y="1075"/>
                </a:cubicBezTo>
                <a:cubicBezTo>
                  <a:pt x="266" y="1056"/>
                  <a:pt x="250" y="1043"/>
                  <a:pt x="236" y="1027"/>
                </a:cubicBezTo>
                <a:cubicBezTo>
                  <a:pt x="222" y="1011"/>
                  <a:pt x="183" y="998"/>
                  <a:pt x="192" y="979"/>
                </a:cubicBezTo>
                <a:cubicBezTo>
                  <a:pt x="201" y="960"/>
                  <a:pt x="263" y="930"/>
                  <a:pt x="288" y="913"/>
                </a:cubicBezTo>
                <a:cubicBezTo>
                  <a:pt x="313" y="896"/>
                  <a:pt x="334" y="894"/>
                  <a:pt x="340" y="879"/>
                </a:cubicBezTo>
                <a:cubicBezTo>
                  <a:pt x="346" y="864"/>
                  <a:pt x="329" y="843"/>
                  <a:pt x="322" y="823"/>
                </a:cubicBezTo>
                <a:cubicBezTo>
                  <a:pt x="315" y="803"/>
                  <a:pt x="310" y="776"/>
                  <a:pt x="300" y="759"/>
                </a:cubicBezTo>
                <a:cubicBezTo>
                  <a:pt x="290" y="742"/>
                  <a:pt x="267" y="737"/>
                  <a:pt x="262" y="717"/>
                </a:cubicBezTo>
                <a:cubicBezTo>
                  <a:pt x="257" y="697"/>
                  <a:pt x="272" y="656"/>
                  <a:pt x="268" y="639"/>
                </a:cubicBezTo>
                <a:cubicBezTo>
                  <a:pt x="264" y="622"/>
                  <a:pt x="248" y="622"/>
                  <a:pt x="240" y="613"/>
                </a:cubicBezTo>
                <a:cubicBezTo>
                  <a:pt x="232" y="604"/>
                  <a:pt x="227" y="592"/>
                  <a:pt x="218" y="587"/>
                </a:cubicBezTo>
                <a:cubicBezTo>
                  <a:pt x="209" y="582"/>
                  <a:pt x="197" y="588"/>
                  <a:pt x="184" y="583"/>
                </a:cubicBezTo>
                <a:cubicBezTo>
                  <a:pt x="171" y="578"/>
                  <a:pt x="152" y="565"/>
                  <a:pt x="142" y="555"/>
                </a:cubicBezTo>
                <a:cubicBezTo>
                  <a:pt x="132" y="545"/>
                  <a:pt x="146" y="526"/>
                  <a:pt x="122" y="525"/>
                </a:cubicBezTo>
                <a:cubicBezTo>
                  <a:pt x="98" y="524"/>
                  <a:pt x="18" y="566"/>
                  <a:pt x="0" y="551"/>
                </a:cubicBezTo>
                <a:lnTo>
                  <a:pt x="12" y="435"/>
                </a:lnTo>
                <a:cubicBezTo>
                  <a:pt x="18" y="410"/>
                  <a:pt x="26" y="403"/>
                  <a:pt x="38" y="399"/>
                </a:cubicBezTo>
                <a:cubicBezTo>
                  <a:pt x="50" y="395"/>
                  <a:pt x="70" y="412"/>
                  <a:pt x="86" y="409"/>
                </a:cubicBezTo>
                <a:cubicBezTo>
                  <a:pt x="102" y="406"/>
                  <a:pt x="120" y="386"/>
                  <a:pt x="132" y="381"/>
                </a:cubicBezTo>
                <a:cubicBezTo>
                  <a:pt x="144" y="376"/>
                  <a:pt x="150" y="382"/>
                  <a:pt x="158" y="377"/>
                </a:cubicBezTo>
                <a:cubicBezTo>
                  <a:pt x="166" y="372"/>
                  <a:pt x="160" y="363"/>
                  <a:pt x="182" y="351"/>
                </a:cubicBezTo>
                <a:cubicBezTo>
                  <a:pt x="204" y="339"/>
                  <a:pt x="270" y="321"/>
                  <a:pt x="290" y="307"/>
                </a:cubicBezTo>
                <a:cubicBezTo>
                  <a:pt x="310" y="293"/>
                  <a:pt x="292" y="281"/>
                  <a:pt x="300" y="265"/>
                </a:cubicBezTo>
                <a:cubicBezTo>
                  <a:pt x="308" y="249"/>
                  <a:pt x="324" y="227"/>
                  <a:pt x="336" y="209"/>
                </a:cubicBezTo>
                <a:cubicBezTo>
                  <a:pt x="348" y="191"/>
                  <a:pt x="351" y="173"/>
                  <a:pt x="372" y="157"/>
                </a:cubicBezTo>
                <a:cubicBezTo>
                  <a:pt x="393" y="141"/>
                  <a:pt x="444" y="127"/>
                  <a:pt x="460" y="111"/>
                </a:cubicBezTo>
                <a:lnTo>
                  <a:pt x="468" y="63"/>
                </a:lnTo>
                <a:lnTo>
                  <a:pt x="492" y="31"/>
                </a:lnTo>
                <a:lnTo>
                  <a:pt x="494" y="11"/>
                </a:lnTo>
                <a:close/>
              </a:path>
            </a:pathLst>
          </a:custGeom>
          <a:blipFill rotWithShape="0">
            <a:blip r:embed="rId8">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26"/>
          <p:cNvSpPr/>
          <p:nvPr/>
        </p:nvSpPr>
        <p:spPr>
          <a:xfrm>
            <a:off x="5443560" y="3544920"/>
            <a:ext cx="1066680" cy="620640"/>
          </a:xfrm>
          <a:custGeom>
            <a:avLst/>
            <a:gdLst>
              <a:gd name="textAreaLeft" fmla="*/ 0 w 1066680"/>
              <a:gd name="textAreaRight" fmla="*/ 1067040 w 1066680"/>
              <a:gd name="textAreaTop" fmla="*/ 0 h 620640"/>
              <a:gd name="textAreaBottom" fmla="*/ 621000 h 620640"/>
            </a:gdLst>
            <a:ahLst/>
            <a:rect l="textAreaLeft" t="textAreaTop" r="textAreaRight" b="textAreaBottom"/>
            <a:pathLst>
              <a:path w="672" h="391">
                <a:moveTo>
                  <a:pt x="97" y="37"/>
                </a:moveTo>
                <a:cubicBezTo>
                  <a:pt x="108" y="29"/>
                  <a:pt x="115" y="48"/>
                  <a:pt x="127" y="53"/>
                </a:cubicBezTo>
                <a:cubicBezTo>
                  <a:pt x="139" y="58"/>
                  <a:pt x="156" y="62"/>
                  <a:pt x="167" y="69"/>
                </a:cubicBezTo>
                <a:cubicBezTo>
                  <a:pt x="178" y="76"/>
                  <a:pt x="182" y="93"/>
                  <a:pt x="191" y="97"/>
                </a:cubicBezTo>
                <a:cubicBezTo>
                  <a:pt x="200" y="101"/>
                  <a:pt x="208" y="96"/>
                  <a:pt x="219" y="95"/>
                </a:cubicBezTo>
                <a:cubicBezTo>
                  <a:pt x="230" y="94"/>
                  <a:pt x="247" y="96"/>
                  <a:pt x="255" y="91"/>
                </a:cubicBezTo>
                <a:cubicBezTo>
                  <a:pt x="263" y="86"/>
                  <a:pt x="256" y="66"/>
                  <a:pt x="265" y="63"/>
                </a:cubicBezTo>
                <a:cubicBezTo>
                  <a:pt x="274" y="60"/>
                  <a:pt x="292" y="76"/>
                  <a:pt x="311" y="73"/>
                </a:cubicBezTo>
                <a:cubicBezTo>
                  <a:pt x="330" y="70"/>
                  <a:pt x="362" y="49"/>
                  <a:pt x="379" y="47"/>
                </a:cubicBezTo>
                <a:cubicBezTo>
                  <a:pt x="396" y="45"/>
                  <a:pt x="404" y="63"/>
                  <a:pt x="415" y="63"/>
                </a:cubicBezTo>
                <a:cubicBezTo>
                  <a:pt x="426" y="63"/>
                  <a:pt x="437" y="52"/>
                  <a:pt x="445" y="47"/>
                </a:cubicBezTo>
                <a:cubicBezTo>
                  <a:pt x="453" y="42"/>
                  <a:pt x="454" y="34"/>
                  <a:pt x="461" y="31"/>
                </a:cubicBezTo>
                <a:cubicBezTo>
                  <a:pt x="468" y="28"/>
                  <a:pt x="478" y="30"/>
                  <a:pt x="487" y="27"/>
                </a:cubicBezTo>
                <a:cubicBezTo>
                  <a:pt x="496" y="24"/>
                  <a:pt x="505" y="15"/>
                  <a:pt x="513" y="13"/>
                </a:cubicBezTo>
                <a:cubicBezTo>
                  <a:pt x="521" y="11"/>
                  <a:pt x="523" y="15"/>
                  <a:pt x="533" y="13"/>
                </a:cubicBezTo>
                <a:cubicBezTo>
                  <a:pt x="543" y="11"/>
                  <a:pt x="560" y="0"/>
                  <a:pt x="571" y="1"/>
                </a:cubicBezTo>
                <a:cubicBezTo>
                  <a:pt x="582" y="2"/>
                  <a:pt x="589" y="16"/>
                  <a:pt x="601" y="17"/>
                </a:cubicBezTo>
                <a:cubicBezTo>
                  <a:pt x="613" y="18"/>
                  <a:pt x="630" y="1"/>
                  <a:pt x="641" y="5"/>
                </a:cubicBezTo>
                <a:cubicBezTo>
                  <a:pt x="652" y="9"/>
                  <a:pt x="672" y="27"/>
                  <a:pt x="669" y="41"/>
                </a:cubicBezTo>
                <a:cubicBezTo>
                  <a:pt x="666" y="55"/>
                  <a:pt x="631" y="73"/>
                  <a:pt x="621" y="87"/>
                </a:cubicBezTo>
                <a:cubicBezTo>
                  <a:pt x="611" y="101"/>
                  <a:pt x="622" y="106"/>
                  <a:pt x="609" y="127"/>
                </a:cubicBezTo>
                <a:cubicBezTo>
                  <a:pt x="596" y="148"/>
                  <a:pt x="557" y="191"/>
                  <a:pt x="545" y="211"/>
                </a:cubicBezTo>
                <a:cubicBezTo>
                  <a:pt x="533" y="231"/>
                  <a:pt x="552" y="230"/>
                  <a:pt x="539" y="249"/>
                </a:cubicBezTo>
                <a:cubicBezTo>
                  <a:pt x="526" y="268"/>
                  <a:pt x="492" y="311"/>
                  <a:pt x="469" y="323"/>
                </a:cubicBezTo>
                <a:cubicBezTo>
                  <a:pt x="446" y="335"/>
                  <a:pt x="424" y="318"/>
                  <a:pt x="399" y="323"/>
                </a:cubicBezTo>
                <a:cubicBezTo>
                  <a:pt x="374" y="328"/>
                  <a:pt x="339" y="350"/>
                  <a:pt x="319" y="355"/>
                </a:cubicBezTo>
                <a:cubicBezTo>
                  <a:pt x="299" y="360"/>
                  <a:pt x="296" y="350"/>
                  <a:pt x="281" y="355"/>
                </a:cubicBezTo>
                <a:cubicBezTo>
                  <a:pt x="266" y="360"/>
                  <a:pt x="244" y="379"/>
                  <a:pt x="229" y="383"/>
                </a:cubicBezTo>
                <a:cubicBezTo>
                  <a:pt x="214" y="387"/>
                  <a:pt x="207" y="381"/>
                  <a:pt x="193" y="379"/>
                </a:cubicBezTo>
                <a:cubicBezTo>
                  <a:pt x="179" y="377"/>
                  <a:pt x="170" y="391"/>
                  <a:pt x="143" y="373"/>
                </a:cubicBezTo>
                <a:cubicBezTo>
                  <a:pt x="116" y="355"/>
                  <a:pt x="52" y="292"/>
                  <a:pt x="31" y="271"/>
                </a:cubicBezTo>
                <a:cubicBezTo>
                  <a:pt x="10" y="250"/>
                  <a:pt x="24" y="258"/>
                  <a:pt x="19" y="245"/>
                </a:cubicBezTo>
                <a:cubicBezTo>
                  <a:pt x="14" y="232"/>
                  <a:pt x="0" y="208"/>
                  <a:pt x="1" y="195"/>
                </a:cubicBezTo>
                <a:cubicBezTo>
                  <a:pt x="2" y="182"/>
                  <a:pt x="15" y="178"/>
                  <a:pt x="23" y="169"/>
                </a:cubicBezTo>
                <a:cubicBezTo>
                  <a:pt x="31" y="160"/>
                  <a:pt x="43" y="153"/>
                  <a:pt x="49" y="141"/>
                </a:cubicBezTo>
                <a:cubicBezTo>
                  <a:pt x="55" y="129"/>
                  <a:pt x="51" y="116"/>
                  <a:pt x="59" y="99"/>
                </a:cubicBezTo>
                <a:cubicBezTo>
                  <a:pt x="67" y="82"/>
                  <a:pt x="86" y="46"/>
                  <a:pt x="97" y="37"/>
                </a:cubicBezTo>
                <a:close/>
              </a:path>
            </a:pathLst>
          </a:custGeom>
          <a:blipFill rotWithShape="0">
            <a:blip r:embed="rId9">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27"/>
          <p:cNvSpPr/>
          <p:nvPr/>
        </p:nvSpPr>
        <p:spPr>
          <a:xfrm>
            <a:off x="6392880" y="2062080"/>
            <a:ext cx="252360" cy="115920"/>
          </a:xfrm>
          <a:custGeom>
            <a:avLst/>
            <a:gdLst>
              <a:gd name="textAreaLeft" fmla="*/ 0 w 252360"/>
              <a:gd name="textAreaRight" fmla="*/ 252720 w 252360"/>
              <a:gd name="textAreaTop" fmla="*/ 0 h 115920"/>
              <a:gd name="textAreaBottom" fmla="*/ 116280 h 115920"/>
            </a:gdLst>
            <a:ahLst/>
            <a:rect l="textAreaLeft" t="textAreaTop" r="textAreaRight" b="textAreaBottom"/>
            <a:pathLst>
              <a:path w="159" h="73">
                <a:moveTo>
                  <a:pt x="53" y="73"/>
                </a:moveTo>
                <a:lnTo>
                  <a:pt x="153" y="35"/>
                </a:lnTo>
                <a:cubicBezTo>
                  <a:pt x="159" y="27"/>
                  <a:pt x="102" y="32"/>
                  <a:pt x="87" y="27"/>
                </a:cubicBezTo>
                <a:cubicBezTo>
                  <a:pt x="72" y="22"/>
                  <a:pt x="73" y="11"/>
                  <a:pt x="65" y="7"/>
                </a:cubicBezTo>
                <a:cubicBezTo>
                  <a:pt x="57" y="3"/>
                  <a:pt x="47" y="0"/>
                  <a:pt x="37" y="5"/>
                </a:cubicBezTo>
                <a:cubicBezTo>
                  <a:pt x="27" y="10"/>
                  <a:pt x="0" y="29"/>
                  <a:pt x="3" y="35"/>
                </a:cubicBezTo>
                <a:cubicBezTo>
                  <a:pt x="6" y="41"/>
                  <a:pt x="47" y="37"/>
                  <a:pt x="55" y="43"/>
                </a:cubicBezTo>
                <a:cubicBezTo>
                  <a:pt x="63" y="49"/>
                  <a:pt x="53" y="73"/>
                  <a:pt x="53" y="73"/>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Picture 9" descr="ussr"/>
          <p:cNvPicPr/>
          <p:nvPr/>
        </p:nvPicPr>
        <p:blipFill>
          <a:blip r:embed="rId10"/>
          <a:stretch/>
        </p:blipFill>
        <p:spPr>
          <a:xfrm>
            <a:off x="8491680" y="1528920"/>
            <a:ext cx="455400" cy="225360"/>
          </a:xfrm>
          <a:prstGeom prst="rect">
            <a:avLst/>
          </a:prstGeom>
          <a:ln w="0">
            <a:noFill/>
          </a:ln>
        </p:spPr>
      </p:pic>
      <p:pic>
        <p:nvPicPr>
          <p:cNvPr id="70" name="Picture 28" descr="ussr"/>
          <p:cNvPicPr/>
          <p:nvPr/>
        </p:nvPicPr>
        <p:blipFill>
          <a:blip r:embed="rId11"/>
          <a:stretch/>
        </p:blipFill>
        <p:spPr>
          <a:xfrm>
            <a:off x="6647040" y="2338560"/>
            <a:ext cx="250560" cy="123480"/>
          </a:xfrm>
          <a:prstGeom prst="rect">
            <a:avLst/>
          </a:prstGeom>
          <a:ln w="0">
            <a:noFill/>
          </a:ln>
        </p:spPr>
      </p:pic>
      <p:sp>
        <p:nvSpPr>
          <p:cNvPr id="71" name="Freeform 20"/>
          <p:cNvSpPr/>
          <p:nvPr/>
        </p:nvSpPr>
        <p:spPr>
          <a:xfrm>
            <a:off x="6161040" y="2290680"/>
            <a:ext cx="95400" cy="208080"/>
          </a:xfrm>
          <a:custGeom>
            <a:avLst/>
            <a:gdLst>
              <a:gd name="textAreaLeft" fmla="*/ 0 w 95400"/>
              <a:gd name="textAreaRight" fmla="*/ 95760 w 95400"/>
              <a:gd name="textAreaTop" fmla="*/ 0 h 208080"/>
              <a:gd name="textAreaBottom" fmla="*/ 208440 h 208080"/>
            </a:gdLst>
            <a:ahLst/>
            <a:rect l="textAreaLeft" t="textAreaTop" r="textAreaRight" b="textAreaBottom"/>
            <a:pathLst>
              <a:path w="60" h="131">
                <a:moveTo>
                  <a:pt x="0" y="0"/>
                </a:moveTo>
                <a:cubicBezTo>
                  <a:pt x="8" y="10"/>
                  <a:pt x="39" y="40"/>
                  <a:pt x="49" y="62"/>
                </a:cubicBezTo>
                <a:cubicBezTo>
                  <a:pt x="59" y="84"/>
                  <a:pt x="58" y="117"/>
                  <a:pt x="60" y="13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21"/>
          <p:cNvSpPr/>
          <p:nvPr/>
        </p:nvSpPr>
        <p:spPr>
          <a:xfrm>
            <a:off x="6308640" y="2205000"/>
            <a:ext cx="285840" cy="433440"/>
          </a:xfrm>
          <a:custGeom>
            <a:avLst/>
            <a:gdLst>
              <a:gd name="textAreaLeft" fmla="*/ 0 w 285840"/>
              <a:gd name="textAreaRight" fmla="*/ 286200 w 285840"/>
              <a:gd name="textAreaTop" fmla="*/ 0 h 433440"/>
              <a:gd name="textAreaBottom" fmla="*/ 433800 h 433440"/>
            </a:gdLst>
            <a:ahLst/>
            <a:rect l="textAreaLeft" t="textAreaTop" r="textAreaRight" b="textAreaBottom"/>
            <a:pathLst>
              <a:path w="180" h="273">
                <a:moveTo>
                  <a:pt x="0" y="0"/>
                </a:moveTo>
                <a:cubicBezTo>
                  <a:pt x="22" y="23"/>
                  <a:pt x="102" y="96"/>
                  <a:pt x="132" y="141"/>
                </a:cubicBezTo>
                <a:cubicBezTo>
                  <a:pt x="162" y="186"/>
                  <a:pt x="170" y="245"/>
                  <a:pt x="180" y="273"/>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30"/>
          <p:cNvSpPr/>
          <p:nvPr/>
        </p:nvSpPr>
        <p:spPr>
          <a:xfrm>
            <a:off x="6157800" y="3397320"/>
            <a:ext cx="1690920" cy="1301760"/>
          </a:xfrm>
          <a:custGeom>
            <a:avLst/>
            <a:gdLst>
              <a:gd name="textAreaLeft" fmla="*/ 0 w 1690920"/>
              <a:gd name="textAreaRight" fmla="*/ 1691280 w 1690920"/>
              <a:gd name="textAreaTop" fmla="*/ 0 h 1301760"/>
              <a:gd name="textAreaBottom" fmla="*/ 1302120 h 1301760"/>
            </a:gdLst>
            <a:ahLst/>
            <a:rect l="textAreaLeft" t="textAreaTop" r="textAreaRight" b="textAreaBottom"/>
            <a:pathLst>
              <a:path w="1065" h="820">
                <a:moveTo>
                  <a:pt x="227" y="134"/>
                </a:moveTo>
                <a:cubicBezTo>
                  <a:pt x="243" y="124"/>
                  <a:pt x="255" y="123"/>
                  <a:pt x="267" y="126"/>
                </a:cubicBezTo>
                <a:cubicBezTo>
                  <a:pt x="279" y="129"/>
                  <a:pt x="290" y="150"/>
                  <a:pt x="299" y="154"/>
                </a:cubicBezTo>
                <a:cubicBezTo>
                  <a:pt x="308" y="158"/>
                  <a:pt x="313" y="149"/>
                  <a:pt x="321" y="152"/>
                </a:cubicBezTo>
                <a:cubicBezTo>
                  <a:pt x="329" y="155"/>
                  <a:pt x="336" y="167"/>
                  <a:pt x="345" y="170"/>
                </a:cubicBezTo>
                <a:cubicBezTo>
                  <a:pt x="354" y="173"/>
                  <a:pt x="358" y="165"/>
                  <a:pt x="375" y="170"/>
                </a:cubicBezTo>
                <a:cubicBezTo>
                  <a:pt x="392" y="175"/>
                  <a:pt x="432" y="197"/>
                  <a:pt x="447" y="200"/>
                </a:cubicBezTo>
                <a:cubicBezTo>
                  <a:pt x="462" y="203"/>
                  <a:pt x="465" y="204"/>
                  <a:pt x="467" y="188"/>
                </a:cubicBezTo>
                <a:cubicBezTo>
                  <a:pt x="469" y="172"/>
                  <a:pt x="457" y="128"/>
                  <a:pt x="461" y="106"/>
                </a:cubicBezTo>
                <a:cubicBezTo>
                  <a:pt x="465" y="84"/>
                  <a:pt x="486" y="68"/>
                  <a:pt x="493" y="54"/>
                </a:cubicBezTo>
                <a:cubicBezTo>
                  <a:pt x="500" y="40"/>
                  <a:pt x="483" y="26"/>
                  <a:pt x="503" y="20"/>
                </a:cubicBezTo>
                <a:cubicBezTo>
                  <a:pt x="523" y="14"/>
                  <a:pt x="583" y="23"/>
                  <a:pt x="613" y="20"/>
                </a:cubicBezTo>
                <a:cubicBezTo>
                  <a:pt x="643" y="17"/>
                  <a:pt x="658" y="0"/>
                  <a:pt x="685" y="4"/>
                </a:cubicBezTo>
                <a:cubicBezTo>
                  <a:pt x="712" y="8"/>
                  <a:pt x="751" y="36"/>
                  <a:pt x="777" y="46"/>
                </a:cubicBezTo>
                <a:cubicBezTo>
                  <a:pt x="803" y="56"/>
                  <a:pt x="822" y="39"/>
                  <a:pt x="843" y="62"/>
                </a:cubicBezTo>
                <a:cubicBezTo>
                  <a:pt x="864" y="85"/>
                  <a:pt x="882" y="149"/>
                  <a:pt x="901" y="186"/>
                </a:cubicBezTo>
                <a:cubicBezTo>
                  <a:pt x="920" y="223"/>
                  <a:pt x="941" y="264"/>
                  <a:pt x="957" y="284"/>
                </a:cubicBezTo>
                <a:cubicBezTo>
                  <a:pt x="973" y="304"/>
                  <a:pt x="978" y="294"/>
                  <a:pt x="995" y="306"/>
                </a:cubicBezTo>
                <a:cubicBezTo>
                  <a:pt x="1012" y="318"/>
                  <a:pt x="1053" y="339"/>
                  <a:pt x="1059" y="356"/>
                </a:cubicBezTo>
                <a:cubicBezTo>
                  <a:pt x="1065" y="373"/>
                  <a:pt x="1043" y="390"/>
                  <a:pt x="1031" y="406"/>
                </a:cubicBezTo>
                <a:cubicBezTo>
                  <a:pt x="1019" y="422"/>
                  <a:pt x="996" y="434"/>
                  <a:pt x="989" y="452"/>
                </a:cubicBezTo>
                <a:cubicBezTo>
                  <a:pt x="982" y="470"/>
                  <a:pt x="988" y="496"/>
                  <a:pt x="989" y="514"/>
                </a:cubicBezTo>
                <a:cubicBezTo>
                  <a:pt x="990" y="532"/>
                  <a:pt x="1002" y="554"/>
                  <a:pt x="993" y="558"/>
                </a:cubicBezTo>
                <a:cubicBezTo>
                  <a:pt x="984" y="562"/>
                  <a:pt x="946" y="531"/>
                  <a:pt x="935" y="536"/>
                </a:cubicBezTo>
                <a:cubicBezTo>
                  <a:pt x="924" y="541"/>
                  <a:pt x="923" y="576"/>
                  <a:pt x="925" y="586"/>
                </a:cubicBezTo>
                <a:cubicBezTo>
                  <a:pt x="927" y="596"/>
                  <a:pt x="948" y="588"/>
                  <a:pt x="947" y="598"/>
                </a:cubicBezTo>
                <a:cubicBezTo>
                  <a:pt x="946" y="608"/>
                  <a:pt x="925" y="624"/>
                  <a:pt x="917" y="644"/>
                </a:cubicBezTo>
                <a:cubicBezTo>
                  <a:pt x="909" y="664"/>
                  <a:pt x="900" y="699"/>
                  <a:pt x="899" y="718"/>
                </a:cubicBezTo>
                <a:cubicBezTo>
                  <a:pt x="898" y="737"/>
                  <a:pt x="909" y="748"/>
                  <a:pt x="909" y="760"/>
                </a:cubicBezTo>
                <a:cubicBezTo>
                  <a:pt x="909" y="772"/>
                  <a:pt x="905" y="784"/>
                  <a:pt x="897" y="792"/>
                </a:cubicBezTo>
                <a:cubicBezTo>
                  <a:pt x="889" y="800"/>
                  <a:pt x="873" y="802"/>
                  <a:pt x="863" y="806"/>
                </a:cubicBezTo>
                <a:cubicBezTo>
                  <a:pt x="853" y="810"/>
                  <a:pt x="851" y="820"/>
                  <a:pt x="839" y="818"/>
                </a:cubicBezTo>
                <a:cubicBezTo>
                  <a:pt x="827" y="816"/>
                  <a:pt x="805" y="803"/>
                  <a:pt x="793" y="794"/>
                </a:cubicBezTo>
                <a:cubicBezTo>
                  <a:pt x="781" y="785"/>
                  <a:pt x="780" y="774"/>
                  <a:pt x="767" y="764"/>
                </a:cubicBezTo>
                <a:cubicBezTo>
                  <a:pt x="754" y="754"/>
                  <a:pt x="728" y="735"/>
                  <a:pt x="713" y="734"/>
                </a:cubicBezTo>
                <a:cubicBezTo>
                  <a:pt x="698" y="733"/>
                  <a:pt x="691" y="755"/>
                  <a:pt x="677" y="758"/>
                </a:cubicBezTo>
                <a:cubicBezTo>
                  <a:pt x="663" y="761"/>
                  <a:pt x="650" y="752"/>
                  <a:pt x="631" y="752"/>
                </a:cubicBezTo>
                <a:cubicBezTo>
                  <a:pt x="612" y="752"/>
                  <a:pt x="583" y="754"/>
                  <a:pt x="565" y="758"/>
                </a:cubicBezTo>
                <a:cubicBezTo>
                  <a:pt x="547" y="762"/>
                  <a:pt x="551" y="772"/>
                  <a:pt x="525" y="776"/>
                </a:cubicBezTo>
                <a:cubicBezTo>
                  <a:pt x="499" y="780"/>
                  <a:pt x="441" y="785"/>
                  <a:pt x="411" y="784"/>
                </a:cubicBezTo>
                <a:cubicBezTo>
                  <a:pt x="381" y="783"/>
                  <a:pt x="367" y="773"/>
                  <a:pt x="347" y="770"/>
                </a:cubicBezTo>
                <a:cubicBezTo>
                  <a:pt x="327" y="767"/>
                  <a:pt x="311" y="774"/>
                  <a:pt x="293" y="766"/>
                </a:cubicBezTo>
                <a:cubicBezTo>
                  <a:pt x="275" y="758"/>
                  <a:pt x="249" y="732"/>
                  <a:pt x="239" y="720"/>
                </a:cubicBezTo>
                <a:cubicBezTo>
                  <a:pt x="229" y="708"/>
                  <a:pt x="241" y="701"/>
                  <a:pt x="235" y="692"/>
                </a:cubicBezTo>
                <a:cubicBezTo>
                  <a:pt x="229" y="683"/>
                  <a:pt x="215" y="669"/>
                  <a:pt x="205" y="666"/>
                </a:cubicBezTo>
                <a:cubicBezTo>
                  <a:pt x="195" y="663"/>
                  <a:pt x="184" y="675"/>
                  <a:pt x="173" y="672"/>
                </a:cubicBezTo>
                <a:cubicBezTo>
                  <a:pt x="162" y="669"/>
                  <a:pt x="151" y="653"/>
                  <a:pt x="139" y="646"/>
                </a:cubicBezTo>
                <a:cubicBezTo>
                  <a:pt x="127" y="639"/>
                  <a:pt x="106" y="645"/>
                  <a:pt x="99" y="632"/>
                </a:cubicBezTo>
                <a:cubicBezTo>
                  <a:pt x="92" y="619"/>
                  <a:pt x="106" y="584"/>
                  <a:pt x="99" y="570"/>
                </a:cubicBezTo>
                <a:cubicBezTo>
                  <a:pt x="92" y="556"/>
                  <a:pt x="72" y="558"/>
                  <a:pt x="57" y="546"/>
                </a:cubicBezTo>
                <a:cubicBezTo>
                  <a:pt x="42" y="534"/>
                  <a:pt x="14" y="509"/>
                  <a:pt x="7" y="496"/>
                </a:cubicBezTo>
                <a:cubicBezTo>
                  <a:pt x="0" y="483"/>
                  <a:pt x="13" y="482"/>
                  <a:pt x="15" y="470"/>
                </a:cubicBezTo>
                <a:cubicBezTo>
                  <a:pt x="17" y="458"/>
                  <a:pt x="14" y="442"/>
                  <a:pt x="21" y="426"/>
                </a:cubicBezTo>
                <a:cubicBezTo>
                  <a:pt x="28" y="410"/>
                  <a:pt x="48" y="389"/>
                  <a:pt x="59" y="374"/>
                </a:cubicBezTo>
                <a:cubicBezTo>
                  <a:pt x="70" y="359"/>
                  <a:pt x="81" y="347"/>
                  <a:pt x="87" y="334"/>
                </a:cubicBezTo>
                <a:cubicBezTo>
                  <a:pt x="93" y="321"/>
                  <a:pt x="81" y="317"/>
                  <a:pt x="93" y="298"/>
                </a:cubicBezTo>
                <a:cubicBezTo>
                  <a:pt x="105" y="279"/>
                  <a:pt x="145" y="241"/>
                  <a:pt x="157" y="222"/>
                </a:cubicBezTo>
                <a:cubicBezTo>
                  <a:pt x="169" y="203"/>
                  <a:pt x="155" y="199"/>
                  <a:pt x="167" y="184"/>
                </a:cubicBezTo>
                <a:cubicBezTo>
                  <a:pt x="179" y="169"/>
                  <a:pt x="211" y="144"/>
                  <a:pt x="227" y="134"/>
                </a:cubicBezTo>
                <a:close/>
              </a:path>
            </a:pathLst>
          </a:custGeom>
          <a:blipFill rotWithShape="0">
            <a:blip r:embed="rId12">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32"/>
          <p:cNvSpPr/>
          <p:nvPr/>
        </p:nvSpPr>
        <p:spPr>
          <a:xfrm>
            <a:off x="3753000" y="3848040"/>
            <a:ext cx="2044440" cy="2249640"/>
          </a:xfrm>
          <a:custGeom>
            <a:avLst/>
            <a:gdLst>
              <a:gd name="textAreaLeft" fmla="*/ 0 w 2044440"/>
              <a:gd name="textAreaRight" fmla="*/ 2044800 w 2044440"/>
              <a:gd name="textAreaTop" fmla="*/ 0 h 2249640"/>
              <a:gd name="textAreaBottom" fmla="*/ 2250000 h 2249640"/>
            </a:gdLst>
            <a:ahLst/>
            <a:rect l="textAreaLeft" t="textAreaTop" r="textAreaRight" b="textAreaBottom"/>
            <a:pathLst>
              <a:path w="1288" h="1417">
                <a:moveTo>
                  <a:pt x="80" y="71"/>
                </a:moveTo>
                <a:cubicBezTo>
                  <a:pt x="90" y="67"/>
                  <a:pt x="126" y="67"/>
                  <a:pt x="141" y="68"/>
                </a:cubicBezTo>
                <a:cubicBezTo>
                  <a:pt x="156" y="69"/>
                  <a:pt x="161" y="76"/>
                  <a:pt x="170" y="75"/>
                </a:cubicBezTo>
                <a:cubicBezTo>
                  <a:pt x="179" y="74"/>
                  <a:pt x="187" y="69"/>
                  <a:pt x="198" y="59"/>
                </a:cubicBezTo>
                <a:cubicBezTo>
                  <a:pt x="209" y="49"/>
                  <a:pt x="226" y="13"/>
                  <a:pt x="234" y="12"/>
                </a:cubicBezTo>
                <a:cubicBezTo>
                  <a:pt x="242" y="11"/>
                  <a:pt x="251" y="41"/>
                  <a:pt x="249" y="53"/>
                </a:cubicBezTo>
                <a:cubicBezTo>
                  <a:pt x="247" y="65"/>
                  <a:pt x="224" y="78"/>
                  <a:pt x="222" y="86"/>
                </a:cubicBezTo>
                <a:cubicBezTo>
                  <a:pt x="220" y="94"/>
                  <a:pt x="233" y="103"/>
                  <a:pt x="240" y="104"/>
                </a:cubicBezTo>
                <a:cubicBezTo>
                  <a:pt x="247" y="105"/>
                  <a:pt x="257" y="94"/>
                  <a:pt x="264" y="95"/>
                </a:cubicBezTo>
                <a:cubicBezTo>
                  <a:pt x="271" y="96"/>
                  <a:pt x="280" y="120"/>
                  <a:pt x="285" y="113"/>
                </a:cubicBezTo>
                <a:cubicBezTo>
                  <a:pt x="290" y="106"/>
                  <a:pt x="288" y="66"/>
                  <a:pt x="294" y="54"/>
                </a:cubicBezTo>
                <a:cubicBezTo>
                  <a:pt x="300" y="42"/>
                  <a:pt x="304" y="40"/>
                  <a:pt x="323" y="42"/>
                </a:cubicBezTo>
                <a:cubicBezTo>
                  <a:pt x="342" y="44"/>
                  <a:pt x="390" y="72"/>
                  <a:pt x="407" y="68"/>
                </a:cubicBezTo>
                <a:cubicBezTo>
                  <a:pt x="424" y="64"/>
                  <a:pt x="415" y="23"/>
                  <a:pt x="428" y="18"/>
                </a:cubicBezTo>
                <a:cubicBezTo>
                  <a:pt x="441" y="13"/>
                  <a:pt x="473" y="40"/>
                  <a:pt x="486" y="38"/>
                </a:cubicBezTo>
                <a:cubicBezTo>
                  <a:pt x="499" y="36"/>
                  <a:pt x="494" y="10"/>
                  <a:pt x="507" y="5"/>
                </a:cubicBezTo>
                <a:cubicBezTo>
                  <a:pt x="520" y="0"/>
                  <a:pt x="550" y="4"/>
                  <a:pt x="564" y="9"/>
                </a:cubicBezTo>
                <a:cubicBezTo>
                  <a:pt x="578" y="14"/>
                  <a:pt x="580" y="27"/>
                  <a:pt x="593" y="33"/>
                </a:cubicBezTo>
                <a:cubicBezTo>
                  <a:pt x="606" y="39"/>
                  <a:pt x="627" y="45"/>
                  <a:pt x="639" y="45"/>
                </a:cubicBezTo>
                <a:cubicBezTo>
                  <a:pt x="651" y="45"/>
                  <a:pt x="650" y="32"/>
                  <a:pt x="668" y="35"/>
                </a:cubicBezTo>
                <a:cubicBezTo>
                  <a:pt x="686" y="38"/>
                  <a:pt x="726" y="51"/>
                  <a:pt x="747" y="66"/>
                </a:cubicBezTo>
                <a:cubicBezTo>
                  <a:pt x="768" y="81"/>
                  <a:pt x="786" y="107"/>
                  <a:pt x="795" y="123"/>
                </a:cubicBezTo>
                <a:cubicBezTo>
                  <a:pt x="804" y="139"/>
                  <a:pt x="799" y="152"/>
                  <a:pt x="804" y="161"/>
                </a:cubicBezTo>
                <a:cubicBezTo>
                  <a:pt x="809" y="170"/>
                  <a:pt x="820" y="168"/>
                  <a:pt x="827" y="180"/>
                </a:cubicBezTo>
                <a:cubicBezTo>
                  <a:pt x="834" y="192"/>
                  <a:pt x="845" y="217"/>
                  <a:pt x="846" y="234"/>
                </a:cubicBezTo>
                <a:cubicBezTo>
                  <a:pt x="847" y="251"/>
                  <a:pt x="836" y="269"/>
                  <a:pt x="831" y="281"/>
                </a:cubicBezTo>
                <a:cubicBezTo>
                  <a:pt x="826" y="293"/>
                  <a:pt x="819" y="299"/>
                  <a:pt x="815" y="308"/>
                </a:cubicBezTo>
                <a:cubicBezTo>
                  <a:pt x="811" y="317"/>
                  <a:pt x="811" y="331"/>
                  <a:pt x="807" y="335"/>
                </a:cubicBezTo>
                <a:cubicBezTo>
                  <a:pt x="803" y="339"/>
                  <a:pt x="796" y="338"/>
                  <a:pt x="791" y="333"/>
                </a:cubicBezTo>
                <a:cubicBezTo>
                  <a:pt x="786" y="328"/>
                  <a:pt x="778" y="311"/>
                  <a:pt x="776" y="303"/>
                </a:cubicBezTo>
                <a:cubicBezTo>
                  <a:pt x="774" y="295"/>
                  <a:pt x="782" y="292"/>
                  <a:pt x="779" y="282"/>
                </a:cubicBezTo>
                <a:cubicBezTo>
                  <a:pt x="776" y="272"/>
                  <a:pt x="759" y="253"/>
                  <a:pt x="759" y="243"/>
                </a:cubicBezTo>
                <a:cubicBezTo>
                  <a:pt x="759" y="233"/>
                  <a:pt x="772" y="230"/>
                  <a:pt x="777" y="224"/>
                </a:cubicBezTo>
                <a:cubicBezTo>
                  <a:pt x="782" y="218"/>
                  <a:pt x="789" y="212"/>
                  <a:pt x="788" y="207"/>
                </a:cubicBezTo>
                <a:cubicBezTo>
                  <a:pt x="787" y="202"/>
                  <a:pt x="776" y="200"/>
                  <a:pt x="771" y="195"/>
                </a:cubicBezTo>
                <a:cubicBezTo>
                  <a:pt x="766" y="190"/>
                  <a:pt x="765" y="178"/>
                  <a:pt x="758" y="177"/>
                </a:cubicBezTo>
                <a:cubicBezTo>
                  <a:pt x="751" y="176"/>
                  <a:pt x="739" y="188"/>
                  <a:pt x="731" y="189"/>
                </a:cubicBezTo>
                <a:cubicBezTo>
                  <a:pt x="723" y="190"/>
                  <a:pt x="714" y="181"/>
                  <a:pt x="708" y="182"/>
                </a:cubicBezTo>
                <a:cubicBezTo>
                  <a:pt x="702" y="183"/>
                  <a:pt x="700" y="192"/>
                  <a:pt x="695" y="195"/>
                </a:cubicBezTo>
                <a:cubicBezTo>
                  <a:pt x="690" y="198"/>
                  <a:pt x="685" y="197"/>
                  <a:pt x="680" y="200"/>
                </a:cubicBezTo>
                <a:cubicBezTo>
                  <a:pt x="675" y="203"/>
                  <a:pt x="668" y="212"/>
                  <a:pt x="663" y="215"/>
                </a:cubicBezTo>
                <a:cubicBezTo>
                  <a:pt x="658" y="218"/>
                  <a:pt x="648" y="222"/>
                  <a:pt x="647" y="219"/>
                </a:cubicBezTo>
                <a:cubicBezTo>
                  <a:pt x="646" y="216"/>
                  <a:pt x="656" y="202"/>
                  <a:pt x="656" y="198"/>
                </a:cubicBezTo>
                <a:cubicBezTo>
                  <a:pt x="656" y="194"/>
                  <a:pt x="648" y="192"/>
                  <a:pt x="644" y="192"/>
                </a:cubicBezTo>
                <a:cubicBezTo>
                  <a:pt x="640" y="192"/>
                  <a:pt x="636" y="199"/>
                  <a:pt x="632" y="200"/>
                </a:cubicBezTo>
                <a:cubicBezTo>
                  <a:pt x="628" y="201"/>
                  <a:pt x="622" y="197"/>
                  <a:pt x="618" y="198"/>
                </a:cubicBezTo>
                <a:cubicBezTo>
                  <a:pt x="614" y="199"/>
                  <a:pt x="605" y="203"/>
                  <a:pt x="605" y="209"/>
                </a:cubicBezTo>
                <a:cubicBezTo>
                  <a:pt x="605" y="215"/>
                  <a:pt x="614" y="227"/>
                  <a:pt x="615" y="233"/>
                </a:cubicBezTo>
                <a:cubicBezTo>
                  <a:pt x="616" y="239"/>
                  <a:pt x="610" y="241"/>
                  <a:pt x="612" y="248"/>
                </a:cubicBezTo>
                <a:cubicBezTo>
                  <a:pt x="614" y="255"/>
                  <a:pt x="622" y="267"/>
                  <a:pt x="627" y="275"/>
                </a:cubicBezTo>
                <a:cubicBezTo>
                  <a:pt x="632" y="283"/>
                  <a:pt x="640" y="288"/>
                  <a:pt x="639" y="294"/>
                </a:cubicBezTo>
                <a:cubicBezTo>
                  <a:pt x="638" y="300"/>
                  <a:pt x="629" y="313"/>
                  <a:pt x="621" y="312"/>
                </a:cubicBezTo>
                <a:cubicBezTo>
                  <a:pt x="613" y="311"/>
                  <a:pt x="598" y="288"/>
                  <a:pt x="593" y="287"/>
                </a:cubicBezTo>
                <a:cubicBezTo>
                  <a:pt x="588" y="286"/>
                  <a:pt x="591" y="300"/>
                  <a:pt x="593" y="306"/>
                </a:cubicBezTo>
                <a:cubicBezTo>
                  <a:pt x="595" y="312"/>
                  <a:pt x="609" y="316"/>
                  <a:pt x="606" y="321"/>
                </a:cubicBezTo>
                <a:cubicBezTo>
                  <a:pt x="603" y="326"/>
                  <a:pt x="578" y="333"/>
                  <a:pt x="576" y="338"/>
                </a:cubicBezTo>
                <a:cubicBezTo>
                  <a:pt x="574" y="343"/>
                  <a:pt x="587" y="348"/>
                  <a:pt x="593" y="350"/>
                </a:cubicBezTo>
                <a:cubicBezTo>
                  <a:pt x="599" y="352"/>
                  <a:pt x="608" y="349"/>
                  <a:pt x="611" y="353"/>
                </a:cubicBezTo>
                <a:cubicBezTo>
                  <a:pt x="614" y="357"/>
                  <a:pt x="606" y="365"/>
                  <a:pt x="608" y="374"/>
                </a:cubicBezTo>
                <a:cubicBezTo>
                  <a:pt x="610" y="383"/>
                  <a:pt x="623" y="399"/>
                  <a:pt x="626" y="407"/>
                </a:cubicBezTo>
                <a:cubicBezTo>
                  <a:pt x="629" y="415"/>
                  <a:pt x="624" y="419"/>
                  <a:pt x="627" y="423"/>
                </a:cubicBezTo>
                <a:cubicBezTo>
                  <a:pt x="630" y="427"/>
                  <a:pt x="640" y="428"/>
                  <a:pt x="645" y="434"/>
                </a:cubicBezTo>
                <a:cubicBezTo>
                  <a:pt x="650" y="440"/>
                  <a:pt x="654" y="455"/>
                  <a:pt x="660" y="461"/>
                </a:cubicBezTo>
                <a:cubicBezTo>
                  <a:pt x="666" y="467"/>
                  <a:pt x="678" y="468"/>
                  <a:pt x="684" y="473"/>
                </a:cubicBezTo>
                <a:cubicBezTo>
                  <a:pt x="690" y="478"/>
                  <a:pt x="688" y="487"/>
                  <a:pt x="693" y="492"/>
                </a:cubicBezTo>
                <a:cubicBezTo>
                  <a:pt x="698" y="497"/>
                  <a:pt x="707" y="492"/>
                  <a:pt x="717" y="501"/>
                </a:cubicBezTo>
                <a:cubicBezTo>
                  <a:pt x="727" y="510"/>
                  <a:pt x="744" y="537"/>
                  <a:pt x="752" y="549"/>
                </a:cubicBezTo>
                <a:cubicBezTo>
                  <a:pt x="760" y="561"/>
                  <a:pt x="764" y="566"/>
                  <a:pt x="767" y="575"/>
                </a:cubicBezTo>
                <a:cubicBezTo>
                  <a:pt x="770" y="584"/>
                  <a:pt x="767" y="597"/>
                  <a:pt x="770" y="606"/>
                </a:cubicBezTo>
                <a:cubicBezTo>
                  <a:pt x="773" y="615"/>
                  <a:pt x="782" y="623"/>
                  <a:pt x="785" y="632"/>
                </a:cubicBezTo>
                <a:cubicBezTo>
                  <a:pt x="788" y="641"/>
                  <a:pt x="782" y="652"/>
                  <a:pt x="785" y="662"/>
                </a:cubicBezTo>
                <a:cubicBezTo>
                  <a:pt x="788" y="672"/>
                  <a:pt x="800" y="685"/>
                  <a:pt x="804" y="693"/>
                </a:cubicBezTo>
                <a:cubicBezTo>
                  <a:pt x="808" y="701"/>
                  <a:pt x="805" y="704"/>
                  <a:pt x="812" y="711"/>
                </a:cubicBezTo>
                <a:cubicBezTo>
                  <a:pt x="819" y="718"/>
                  <a:pt x="838" y="724"/>
                  <a:pt x="849" y="734"/>
                </a:cubicBezTo>
                <a:cubicBezTo>
                  <a:pt x="860" y="744"/>
                  <a:pt x="861" y="760"/>
                  <a:pt x="876" y="770"/>
                </a:cubicBezTo>
                <a:cubicBezTo>
                  <a:pt x="891" y="780"/>
                  <a:pt x="919" y="791"/>
                  <a:pt x="938" y="795"/>
                </a:cubicBezTo>
                <a:cubicBezTo>
                  <a:pt x="957" y="799"/>
                  <a:pt x="978" y="793"/>
                  <a:pt x="990" y="795"/>
                </a:cubicBezTo>
                <a:cubicBezTo>
                  <a:pt x="1002" y="797"/>
                  <a:pt x="1007" y="802"/>
                  <a:pt x="1012" y="806"/>
                </a:cubicBezTo>
                <a:cubicBezTo>
                  <a:pt x="1017" y="810"/>
                  <a:pt x="1020" y="814"/>
                  <a:pt x="1019" y="819"/>
                </a:cubicBezTo>
                <a:cubicBezTo>
                  <a:pt x="1018" y="824"/>
                  <a:pt x="1012" y="833"/>
                  <a:pt x="1007" y="836"/>
                </a:cubicBezTo>
                <a:cubicBezTo>
                  <a:pt x="1002" y="839"/>
                  <a:pt x="992" y="831"/>
                  <a:pt x="990" y="836"/>
                </a:cubicBezTo>
                <a:cubicBezTo>
                  <a:pt x="988" y="841"/>
                  <a:pt x="986" y="857"/>
                  <a:pt x="992" y="867"/>
                </a:cubicBezTo>
                <a:cubicBezTo>
                  <a:pt x="998" y="877"/>
                  <a:pt x="1020" y="893"/>
                  <a:pt x="1029" y="896"/>
                </a:cubicBezTo>
                <a:cubicBezTo>
                  <a:pt x="1038" y="899"/>
                  <a:pt x="1038" y="882"/>
                  <a:pt x="1044" y="884"/>
                </a:cubicBezTo>
                <a:cubicBezTo>
                  <a:pt x="1050" y="886"/>
                  <a:pt x="1061" y="904"/>
                  <a:pt x="1068" y="909"/>
                </a:cubicBezTo>
                <a:cubicBezTo>
                  <a:pt x="1075" y="914"/>
                  <a:pt x="1083" y="907"/>
                  <a:pt x="1089" y="912"/>
                </a:cubicBezTo>
                <a:cubicBezTo>
                  <a:pt x="1095" y="917"/>
                  <a:pt x="1097" y="934"/>
                  <a:pt x="1106" y="940"/>
                </a:cubicBezTo>
                <a:cubicBezTo>
                  <a:pt x="1115" y="946"/>
                  <a:pt x="1132" y="941"/>
                  <a:pt x="1142" y="947"/>
                </a:cubicBezTo>
                <a:cubicBezTo>
                  <a:pt x="1152" y="953"/>
                  <a:pt x="1155" y="969"/>
                  <a:pt x="1164" y="974"/>
                </a:cubicBezTo>
                <a:cubicBezTo>
                  <a:pt x="1173" y="979"/>
                  <a:pt x="1188" y="974"/>
                  <a:pt x="1198" y="978"/>
                </a:cubicBezTo>
                <a:cubicBezTo>
                  <a:pt x="1208" y="982"/>
                  <a:pt x="1216" y="996"/>
                  <a:pt x="1222" y="1000"/>
                </a:cubicBezTo>
                <a:cubicBezTo>
                  <a:pt x="1228" y="1004"/>
                  <a:pt x="1229" y="995"/>
                  <a:pt x="1234" y="1000"/>
                </a:cubicBezTo>
                <a:cubicBezTo>
                  <a:pt x="1239" y="1005"/>
                  <a:pt x="1246" y="1023"/>
                  <a:pt x="1252" y="1030"/>
                </a:cubicBezTo>
                <a:cubicBezTo>
                  <a:pt x="1258" y="1037"/>
                  <a:pt x="1263" y="1033"/>
                  <a:pt x="1269" y="1040"/>
                </a:cubicBezTo>
                <a:cubicBezTo>
                  <a:pt x="1275" y="1047"/>
                  <a:pt x="1284" y="1057"/>
                  <a:pt x="1286" y="1070"/>
                </a:cubicBezTo>
                <a:cubicBezTo>
                  <a:pt x="1288" y="1083"/>
                  <a:pt x="1285" y="1106"/>
                  <a:pt x="1278" y="1118"/>
                </a:cubicBezTo>
                <a:cubicBezTo>
                  <a:pt x="1271" y="1130"/>
                  <a:pt x="1252" y="1142"/>
                  <a:pt x="1244" y="1142"/>
                </a:cubicBezTo>
                <a:cubicBezTo>
                  <a:pt x="1236" y="1142"/>
                  <a:pt x="1238" y="1130"/>
                  <a:pt x="1232" y="1121"/>
                </a:cubicBezTo>
                <a:cubicBezTo>
                  <a:pt x="1226" y="1112"/>
                  <a:pt x="1210" y="1095"/>
                  <a:pt x="1205" y="1085"/>
                </a:cubicBezTo>
                <a:cubicBezTo>
                  <a:pt x="1200" y="1075"/>
                  <a:pt x="1212" y="1065"/>
                  <a:pt x="1200" y="1060"/>
                </a:cubicBezTo>
                <a:cubicBezTo>
                  <a:pt x="1188" y="1055"/>
                  <a:pt x="1147" y="1055"/>
                  <a:pt x="1134" y="1052"/>
                </a:cubicBezTo>
                <a:cubicBezTo>
                  <a:pt x="1121" y="1049"/>
                  <a:pt x="1126" y="1040"/>
                  <a:pt x="1122" y="1040"/>
                </a:cubicBezTo>
                <a:cubicBezTo>
                  <a:pt x="1118" y="1040"/>
                  <a:pt x="1113" y="1048"/>
                  <a:pt x="1107" y="1055"/>
                </a:cubicBezTo>
                <a:cubicBezTo>
                  <a:pt x="1101" y="1062"/>
                  <a:pt x="1089" y="1078"/>
                  <a:pt x="1086" y="1085"/>
                </a:cubicBezTo>
                <a:cubicBezTo>
                  <a:pt x="1083" y="1092"/>
                  <a:pt x="1091" y="1087"/>
                  <a:pt x="1086" y="1097"/>
                </a:cubicBezTo>
                <a:cubicBezTo>
                  <a:pt x="1081" y="1107"/>
                  <a:pt x="1054" y="1136"/>
                  <a:pt x="1053" y="1148"/>
                </a:cubicBezTo>
                <a:cubicBezTo>
                  <a:pt x="1052" y="1160"/>
                  <a:pt x="1075" y="1165"/>
                  <a:pt x="1083" y="1167"/>
                </a:cubicBezTo>
                <a:cubicBezTo>
                  <a:pt x="1091" y="1169"/>
                  <a:pt x="1094" y="1150"/>
                  <a:pt x="1100" y="1163"/>
                </a:cubicBezTo>
                <a:cubicBezTo>
                  <a:pt x="1106" y="1176"/>
                  <a:pt x="1124" y="1224"/>
                  <a:pt x="1118" y="1244"/>
                </a:cubicBezTo>
                <a:cubicBezTo>
                  <a:pt x="1112" y="1264"/>
                  <a:pt x="1077" y="1267"/>
                  <a:pt x="1067" y="1283"/>
                </a:cubicBezTo>
                <a:cubicBezTo>
                  <a:pt x="1057" y="1299"/>
                  <a:pt x="1059" y="1331"/>
                  <a:pt x="1055" y="1340"/>
                </a:cubicBezTo>
                <a:cubicBezTo>
                  <a:pt x="1051" y="1349"/>
                  <a:pt x="1049" y="1332"/>
                  <a:pt x="1044" y="1337"/>
                </a:cubicBezTo>
                <a:cubicBezTo>
                  <a:pt x="1039" y="1342"/>
                  <a:pt x="1032" y="1361"/>
                  <a:pt x="1026" y="1367"/>
                </a:cubicBezTo>
                <a:cubicBezTo>
                  <a:pt x="1020" y="1373"/>
                  <a:pt x="1010" y="1367"/>
                  <a:pt x="1008" y="1373"/>
                </a:cubicBezTo>
                <a:cubicBezTo>
                  <a:pt x="1006" y="1379"/>
                  <a:pt x="1015" y="1396"/>
                  <a:pt x="1013" y="1403"/>
                </a:cubicBezTo>
                <a:cubicBezTo>
                  <a:pt x="1011" y="1410"/>
                  <a:pt x="999" y="1415"/>
                  <a:pt x="993" y="1416"/>
                </a:cubicBezTo>
                <a:cubicBezTo>
                  <a:pt x="987" y="1417"/>
                  <a:pt x="980" y="1410"/>
                  <a:pt x="974" y="1409"/>
                </a:cubicBezTo>
                <a:cubicBezTo>
                  <a:pt x="968" y="1408"/>
                  <a:pt x="961" y="1417"/>
                  <a:pt x="956" y="1412"/>
                </a:cubicBezTo>
                <a:cubicBezTo>
                  <a:pt x="951" y="1407"/>
                  <a:pt x="944" y="1388"/>
                  <a:pt x="944" y="1380"/>
                </a:cubicBezTo>
                <a:cubicBezTo>
                  <a:pt x="944" y="1372"/>
                  <a:pt x="954" y="1367"/>
                  <a:pt x="956" y="1361"/>
                </a:cubicBezTo>
                <a:cubicBezTo>
                  <a:pt x="958" y="1355"/>
                  <a:pt x="953" y="1349"/>
                  <a:pt x="957" y="1343"/>
                </a:cubicBezTo>
                <a:cubicBezTo>
                  <a:pt x="961" y="1337"/>
                  <a:pt x="975" y="1329"/>
                  <a:pt x="978" y="1322"/>
                </a:cubicBezTo>
                <a:cubicBezTo>
                  <a:pt x="981" y="1315"/>
                  <a:pt x="972" y="1306"/>
                  <a:pt x="974" y="1302"/>
                </a:cubicBezTo>
                <a:cubicBezTo>
                  <a:pt x="976" y="1298"/>
                  <a:pt x="984" y="1303"/>
                  <a:pt x="988" y="1300"/>
                </a:cubicBezTo>
                <a:cubicBezTo>
                  <a:pt x="992" y="1297"/>
                  <a:pt x="993" y="1286"/>
                  <a:pt x="998" y="1282"/>
                </a:cubicBezTo>
                <a:cubicBezTo>
                  <a:pt x="1003" y="1278"/>
                  <a:pt x="1017" y="1283"/>
                  <a:pt x="1018" y="1276"/>
                </a:cubicBezTo>
                <a:cubicBezTo>
                  <a:pt x="1019" y="1269"/>
                  <a:pt x="1011" y="1247"/>
                  <a:pt x="1006" y="1238"/>
                </a:cubicBezTo>
                <a:cubicBezTo>
                  <a:pt x="1001" y="1229"/>
                  <a:pt x="991" y="1232"/>
                  <a:pt x="990" y="1224"/>
                </a:cubicBezTo>
                <a:cubicBezTo>
                  <a:pt x="989" y="1216"/>
                  <a:pt x="998" y="1200"/>
                  <a:pt x="998" y="1192"/>
                </a:cubicBezTo>
                <a:cubicBezTo>
                  <a:pt x="998" y="1184"/>
                  <a:pt x="994" y="1181"/>
                  <a:pt x="993" y="1175"/>
                </a:cubicBezTo>
                <a:cubicBezTo>
                  <a:pt x="992" y="1169"/>
                  <a:pt x="996" y="1163"/>
                  <a:pt x="992" y="1158"/>
                </a:cubicBezTo>
                <a:cubicBezTo>
                  <a:pt x="988" y="1153"/>
                  <a:pt x="973" y="1155"/>
                  <a:pt x="968" y="1144"/>
                </a:cubicBezTo>
                <a:cubicBezTo>
                  <a:pt x="963" y="1133"/>
                  <a:pt x="970" y="1103"/>
                  <a:pt x="962" y="1094"/>
                </a:cubicBezTo>
                <a:cubicBezTo>
                  <a:pt x="954" y="1085"/>
                  <a:pt x="933" y="1096"/>
                  <a:pt x="921" y="1091"/>
                </a:cubicBezTo>
                <a:cubicBezTo>
                  <a:pt x="909" y="1086"/>
                  <a:pt x="900" y="1072"/>
                  <a:pt x="890" y="1065"/>
                </a:cubicBezTo>
                <a:cubicBezTo>
                  <a:pt x="880" y="1058"/>
                  <a:pt x="866" y="1057"/>
                  <a:pt x="863" y="1050"/>
                </a:cubicBezTo>
                <a:cubicBezTo>
                  <a:pt x="860" y="1043"/>
                  <a:pt x="870" y="1033"/>
                  <a:pt x="870" y="1025"/>
                </a:cubicBezTo>
                <a:cubicBezTo>
                  <a:pt x="870" y="1017"/>
                  <a:pt x="867" y="1007"/>
                  <a:pt x="861" y="1001"/>
                </a:cubicBezTo>
                <a:cubicBezTo>
                  <a:pt x="855" y="995"/>
                  <a:pt x="842" y="990"/>
                  <a:pt x="833" y="990"/>
                </a:cubicBezTo>
                <a:cubicBezTo>
                  <a:pt x="824" y="990"/>
                  <a:pt x="811" y="1002"/>
                  <a:pt x="806" y="998"/>
                </a:cubicBezTo>
                <a:cubicBezTo>
                  <a:pt x="801" y="994"/>
                  <a:pt x="810" y="970"/>
                  <a:pt x="804" y="964"/>
                </a:cubicBezTo>
                <a:cubicBezTo>
                  <a:pt x="798" y="958"/>
                  <a:pt x="779" y="968"/>
                  <a:pt x="770" y="960"/>
                </a:cubicBezTo>
                <a:cubicBezTo>
                  <a:pt x="761" y="952"/>
                  <a:pt x="751" y="927"/>
                  <a:pt x="748" y="916"/>
                </a:cubicBezTo>
                <a:cubicBezTo>
                  <a:pt x="745" y="905"/>
                  <a:pt x="758" y="898"/>
                  <a:pt x="754" y="894"/>
                </a:cubicBezTo>
                <a:cubicBezTo>
                  <a:pt x="750" y="890"/>
                  <a:pt x="734" y="896"/>
                  <a:pt x="722" y="894"/>
                </a:cubicBezTo>
                <a:cubicBezTo>
                  <a:pt x="710" y="892"/>
                  <a:pt x="692" y="881"/>
                  <a:pt x="682" y="880"/>
                </a:cubicBezTo>
                <a:cubicBezTo>
                  <a:pt x="672" y="879"/>
                  <a:pt x="670" y="894"/>
                  <a:pt x="660" y="890"/>
                </a:cubicBezTo>
                <a:cubicBezTo>
                  <a:pt x="650" y="886"/>
                  <a:pt x="635" y="864"/>
                  <a:pt x="624" y="854"/>
                </a:cubicBezTo>
                <a:cubicBezTo>
                  <a:pt x="613" y="844"/>
                  <a:pt x="599" y="836"/>
                  <a:pt x="590" y="826"/>
                </a:cubicBezTo>
                <a:cubicBezTo>
                  <a:pt x="581" y="816"/>
                  <a:pt x="575" y="804"/>
                  <a:pt x="572" y="794"/>
                </a:cubicBezTo>
                <a:cubicBezTo>
                  <a:pt x="569" y="784"/>
                  <a:pt x="578" y="776"/>
                  <a:pt x="574" y="768"/>
                </a:cubicBezTo>
                <a:cubicBezTo>
                  <a:pt x="570" y="760"/>
                  <a:pt x="554" y="753"/>
                  <a:pt x="548" y="746"/>
                </a:cubicBezTo>
                <a:cubicBezTo>
                  <a:pt x="542" y="739"/>
                  <a:pt x="539" y="733"/>
                  <a:pt x="536" y="728"/>
                </a:cubicBezTo>
                <a:cubicBezTo>
                  <a:pt x="533" y="723"/>
                  <a:pt x="539" y="720"/>
                  <a:pt x="532" y="716"/>
                </a:cubicBezTo>
                <a:cubicBezTo>
                  <a:pt x="525" y="712"/>
                  <a:pt x="505" y="708"/>
                  <a:pt x="495" y="704"/>
                </a:cubicBezTo>
                <a:cubicBezTo>
                  <a:pt x="485" y="700"/>
                  <a:pt x="481" y="693"/>
                  <a:pt x="474" y="690"/>
                </a:cubicBezTo>
                <a:cubicBezTo>
                  <a:pt x="467" y="687"/>
                  <a:pt x="455" y="688"/>
                  <a:pt x="450" y="686"/>
                </a:cubicBezTo>
                <a:cubicBezTo>
                  <a:pt x="445" y="684"/>
                  <a:pt x="441" y="680"/>
                  <a:pt x="441" y="675"/>
                </a:cubicBezTo>
                <a:cubicBezTo>
                  <a:pt x="441" y="670"/>
                  <a:pt x="450" y="663"/>
                  <a:pt x="448" y="656"/>
                </a:cubicBezTo>
                <a:cubicBezTo>
                  <a:pt x="446" y="649"/>
                  <a:pt x="434" y="641"/>
                  <a:pt x="430" y="634"/>
                </a:cubicBezTo>
                <a:cubicBezTo>
                  <a:pt x="426" y="627"/>
                  <a:pt x="432" y="623"/>
                  <a:pt x="426" y="616"/>
                </a:cubicBezTo>
                <a:cubicBezTo>
                  <a:pt x="420" y="609"/>
                  <a:pt x="403" y="601"/>
                  <a:pt x="396" y="592"/>
                </a:cubicBezTo>
                <a:cubicBezTo>
                  <a:pt x="389" y="583"/>
                  <a:pt x="386" y="570"/>
                  <a:pt x="386" y="563"/>
                </a:cubicBezTo>
                <a:cubicBezTo>
                  <a:pt x="386" y="556"/>
                  <a:pt x="394" y="556"/>
                  <a:pt x="394" y="552"/>
                </a:cubicBezTo>
                <a:cubicBezTo>
                  <a:pt x="394" y="548"/>
                  <a:pt x="385" y="545"/>
                  <a:pt x="384" y="540"/>
                </a:cubicBezTo>
                <a:cubicBezTo>
                  <a:pt x="383" y="535"/>
                  <a:pt x="391" y="525"/>
                  <a:pt x="390" y="520"/>
                </a:cubicBezTo>
                <a:cubicBezTo>
                  <a:pt x="389" y="515"/>
                  <a:pt x="381" y="519"/>
                  <a:pt x="376" y="510"/>
                </a:cubicBezTo>
                <a:cubicBezTo>
                  <a:pt x="371" y="501"/>
                  <a:pt x="364" y="478"/>
                  <a:pt x="362" y="468"/>
                </a:cubicBezTo>
                <a:cubicBezTo>
                  <a:pt x="360" y="458"/>
                  <a:pt x="367" y="453"/>
                  <a:pt x="366" y="448"/>
                </a:cubicBezTo>
                <a:cubicBezTo>
                  <a:pt x="365" y="443"/>
                  <a:pt x="359" y="443"/>
                  <a:pt x="358" y="438"/>
                </a:cubicBezTo>
                <a:cubicBezTo>
                  <a:pt x="357" y="433"/>
                  <a:pt x="371" y="425"/>
                  <a:pt x="362" y="416"/>
                </a:cubicBezTo>
                <a:cubicBezTo>
                  <a:pt x="353" y="407"/>
                  <a:pt x="319" y="393"/>
                  <a:pt x="305" y="383"/>
                </a:cubicBezTo>
                <a:cubicBezTo>
                  <a:pt x="291" y="373"/>
                  <a:pt x="288" y="363"/>
                  <a:pt x="280" y="358"/>
                </a:cubicBezTo>
                <a:cubicBezTo>
                  <a:pt x="272" y="353"/>
                  <a:pt x="263" y="357"/>
                  <a:pt x="254" y="353"/>
                </a:cubicBezTo>
                <a:cubicBezTo>
                  <a:pt x="245" y="349"/>
                  <a:pt x="235" y="332"/>
                  <a:pt x="226" y="332"/>
                </a:cubicBezTo>
                <a:cubicBezTo>
                  <a:pt x="217" y="332"/>
                  <a:pt x="208" y="346"/>
                  <a:pt x="198" y="351"/>
                </a:cubicBezTo>
                <a:cubicBezTo>
                  <a:pt x="188" y="356"/>
                  <a:pt x="173" y="358"/>
                  <a:pt x="165" y="365"/>
                </a:cubicBezTo>
                <a:cubicBezTo>
                  <a:pt x="157" y="372"/>
                  <a:pt x="158" y="386"/>
                  <a:pt x="150" y="393"/>
                </a:cubicBezTo>
                <a:cubicBezTo>
                  <a:pt x="142" y="400"/>
                  <a:pt x="125" y="408"/>
                  <a:pt x="117" y="410"/>
                </a:cubicBezTo>
                <a:cubicBezTo>
                  <a:pt x="109" y="412"/>
                  <a:pt x="107" y="404"/>
                  <a:pt x="99" y="405"/>
                </a:cubicBezTo>
                <a:cubicBezTo>
                  <a:pt x="91" y="406"/>
                  <a:pt x="71" y="420"/>
                  <a:pt x="66" y="418"/>
                </a:cubicBezTo>
                <a:cubicBezTo>
                  <a:pt x="61" y="416"/>
                  <a:pt x="66" y="399"/>
                  <a:pt x="69" y="390"/>
                </a:cubicBezTo>
                <a:cubicBezTo>
                  <a:pt x="72" y="381"/>
                  <a:pt x="83" y="369"/>
                  <a:pt x="82" y="362"/>
                </a:cubicBezTo>
                <a:cubicBezTo>
                  <a:pt x="81" y="355"/>
                  <a:pt x="75" y="351"/>
                  <a:pt x="63" y="345"/>
                </a:cubicBezTo>
                <a:cubicBezTo>
                  <a:pt x="51" y="339"/>
                  <a:pt x="15" y="331"/>
                  <a:pt x="8" y="323"/>
                </a:cubicBezTo>
                <a:cubicBezTo>
                  <a:pt x="1" y="315"/>
                  <a:pt x="17" y="309"/>
                  <a:pt x="23" y="294"/>
                </a:cubicBezTo>
                <a:cubicBezTo>
                  <a:pt x="29" y="279"/>
                  <a:pt x="42" y="243"/>
                  <a:pt x="42" y="230"/>
                </a:cubicBezTo>
                <a:cubicBezTo>
                  <a:pt x="42" y="217"/>
                  <a:pt x="26" y="223"/>
                  <a:pt x="21" y="215"/>
                </a:cubicBezTo>
                <a:cubicBezTo>
                  <a:pt x="16" y="207"/>
                  <a:pt x="0" y="194"/>
                  <a:pt x="10" y="182"/>
                </a:cubicBezTo>
                <a:cubicBezTo>
                  <a:pt x="20" y="170"/>
                  <a:pt x="73" y="153"/>
                  <a:pt x="84" y="141"/>
                </a:cubicBezTo>
                <a:cubicBezTo>
                  <a:pt x="95" y="129"/>
                  <a:pt x="77" y="119"/>
                  <a:pt x="78" y="111"/>
                </a:cubicBezTo>
                <a:cubicBezTo>
                  <a:pt x="79" y="103"/>
                  <a:pt x="89" y="102"/>
                  <a:pt x="89" y="95"/>
                </a:cubicBezTo>
                <a:cubicBezTo>
                  <a:pt x="89" y="88"/>
                  <a:pt x="82" y="76"/>
                  <a:pt x="80" y="71"/>
                </a:cubicBezTo>
                <a:close/>
              </a:path>
            </a:pathLst>
          </a:custGeom>
          <a:blipFill rotWithShape="0">
            <a:blip r:embed="rId13">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3"/>
          <p:cNvSpPr/>
          <p:nvPr/>
        </p:nvSpPr>
        <p:spPr>
          <a:xfrm>
            <a:off x="4594320" y="6004080"/>
            <a:ext cx="645840" cy="426960"/>
          </a:xfrm>
          <a:custGeom>
            <a:avLst/>
            <a:gdLst>
              <a:gd name="textAreaLeft" fmla="*/ 0 w 645840"/>
              <a:gd name="textAreaRight" fmla="*/ 645840 w 645840"/>
              <a:gd name="textAreaTop" fmla="*/ 0 h 426960"/>
              <a:gd name="textAreaBottom" fmla="*/ 427320 h 426960"/>
            </a:gdLst>
            <a:ahLst/>
            <a:rect l="textAreaLeft" t="textAreaTop" r="textAreaRight" b="textAreaBottom"/>
            <a:pathLst>
              <a:path w="407" h="269">
                <a:moveTo>
                  <a:pt x="27" y="18"/>
                </a:moveTo>
                <a:cubicBezTo>
                  <a:pt x="33" y="13"/>
                  <a:pt x="34" y="19"/>
                  <a:pt x="40" y="16"/>
                </a:cubicBezTo>
                <a:cubicBezTo>
                  <a:pt x="46" y="13"/>
                  <a:pt x="55" y="0"/>
                  <a:pt x="61" y="0"/>
                </a:cubicBezTo>
                <a:cubicBezTo>
                  <a:pt x="67" y="0"/>
                  <a:pt x="65" y="18"/>
                  <a:pt x="75" y="19"/>
                </a:cubicBezTo>
                <a:cubicBezTo>
                  <a:pt x="85" y="20"/>
                  <a:pt x="112" y="2"/>
                  <a:pt x="123" y="3"/>
                </a:cubicBezTo>
                <a:cubicBezTo>
                  <a:pt x="134" y="4"/>
                  <a:pt x="132" y="20"/>
                  <a:pt x="139" y="24"/>
                </a:cubicBezTo>
                <a:cubicBezTo>
                  <a:pt x="146" y="28"/>
                  <a:pt x="158" y="23"/>
                  <a:pt x="165" y="28"/>
                </a:cubicBezTo>
                <a:cubicBezTo>
                  <a:pt x="172" y="33"/>
                  <a:pt x="175" y="50"/>
                  <a:pt x="181" y="52"/>
                </a:cubicBezTo>
                <a:cubicBezTo>
                  <a:pt x="187" y="54"/>
                  <a:pt x="193" y="43"/>
                  <a:pt x="204" y="42"/>
                </a:cubicBezTo>
                <a:cubicBezTo>
                  <a:pt x="215" y="41"/>
                  <a:pt x="233" y="49"/>
                  <a:pt x="247" y="46"/>
                </a:cubicBezTo>
                <a:cubicBezTo>
                  <a:pt x="261" y="43"/>
                  <a:pt x="279" y="27"/>
                  <a:pt x="289" y="25"/>
                </a:cubicBezTo>
                <a:cubicBezTo>
                  <a:pt x="299" y="23"/>
                  <a:pt x="303" y="34"/>
                  <a:pt x="309" y="34"/>
                </a:cubicBezTo>
                <a:cubicBezTo>
                  <a:pt x="315" y="34"/>
                  <a:pt x="319" y="23"/>
                  <a:pt x="327" y="22"/>
                </a:cubicBezTo>
                <a:cubicBezTo>
                  <a:pt x="335" y="21"/>
                  <a:pt x="350" y="30"/>
                  <a:pt x="358" y="28"/>
                </a:cubicBezTo>
                <a:cubicBezTo>
                  <a:pt x="366" y="26"/>
                  <a:pt x="373" y="12"/>
                  <a:pt x="378" y="10"/>
                </a:cubicBezTo>
                <a:cubicBezTo>
                  <a:pt x="383" y="8"/>
                  <a:pt x="385" y="15"/>
                  <a:pt x="390" y="15"/>
                </a:cubicBezTo>
                <a:cubicBezTo>
                  <a:pt x="395" y="15"/>
                  <a:pt x="407" y="4"/>
                  <a:pt x="406" y="9"/>
                </a:cubicBezTo>
                <a:cubicBezTo>
                  <a:pt x="405" y="14"/>
                  <a:pt x="387" y="35"/>
                  <a:pt x="382" y="46"/>
                </a:cubicBezTo>
                <a:cubicBezTo>
                  <a:pt x="377" y="57"/>
                  <a:pt x="382" y="65"/>
                  <a:pt x="378" y="73"/>
                </a:cubicBezTo>
                <a:cubicBezTo>
                  <a:pt x="374" y="81"/>
                  <a:pt x="360" y="88"/>
                  <a:pt x="357" y="94"/>
                </a:cubicBezTo>
                <a:cubicBezTo>
                  <a:pt x="354" y="100"/>
                  <a:pt x="361" y="105"/>
                  <a:pt x="358" y="112"/>
                </a:cubicBezTo>
                <a:cubicBezTo>
                  <a:pt x="355" y="119"/>
                  <a:pt x="338" y="131"/>
                  <a:pt x="336" y="139"/>
                </a:cubicBezTo>
                <a:cubicBezTo>
                  <a:pt x="334" y="147"/>
                  <a:pt x="345" y="155"/>
                  <a:pt x="346" y="162"/>
                </a:cubicBezTo>
                <a:cubicBezTo>
                  <a:pt x="347" y="169"/>
                  <a:pt x="340" y="177"/>
                  <a:pt x="342" y="183"/>
                </a:cubicBezTo>
                <a:cubicBezTo>
                  <a:pt x="344" y="189"/>
                  <a:pt x="362" y="191"/>
                  <a:pt x="361" y="199"/>
                </a:cubicBezTo>
                <a:cubicBezTo>
                  <a:pt x="360" y="207"/>
                  <a:pt x="343" y="218"/>
                  <a:pt x="339" y="229"/>
                </a:cubicBezTo>
                <a:cubicBezTo>
                  <a:pt x="335" y="240"/>
                  <a:pt x="341" y="265"/>
                  <a:pt x="334" y="267"/>
                </a:cubicBezTo>
                <a:cubicBezTo>
                  <a:pt x="327" y="269"/>
                  <a:pt x="312" y="246"/>
                  <a:pt x="298" y="241"/>
                </a:cubicBezTo>
                <a:cubicBezTo>
                  <a:pt x="284" y="236"/>
                  <a:pt x="259" y="244"/>
                  <a:pt x="247" y="238"/>
                </a:cubicBezTo>
                <a:cubicBezTo>
                  <a:pt x="235" y="232"/>
                  <a:pt x="237" y="212"/>
                  <a:pt x="225" y="202"/>
                </a:cubicBezTo>
                <a:cubicBezTo>
                  <a:pt x="213" y="192"/>
                  <a:pt x="185" y="186"/>
                  <a:pt x="172" y="178"/>
                </a:cubicBezTo>
                <a:cubicBezTo>
                  <a:pt x="159" y="170"/>
                  <a:pt x="150" y="162"/>
                  <a:pt x="144" y="156"/>
                </a:cubicBezTo>
                <a:cubicBezTo>
                  <a:pt x="138" y="150"/>
                  <a:pt x="140" y="144"/>
                  <a:pt x="135" y="142"/>
                </a:cubicBezTo>
                <a:cubicBezTo>
                  <a:pt x="130" y="140"/>
                  <a:pt x="119" y="148"/>
                  <a:pt x="112" y="145"/>
                </a:cubicBezTo>
                <a:cubicBezTo>
                  <a:pt x="105" y="142"/>
                  <a:pt x="98" y="130"/>
                  <a:pt x="94" y="124"/>
                </a:cubicBezTo>
                <a:cubicBezTo>
                  <a:pt x="90" y="118"/>
                  <a:pt x="93" y="109"/>
                  <a:pt x="85" y="106"/>
                </a:cubicBezTo>
                <a:cubicBezTo>
                  <a:pt x="77" y="103"/>
                  <a:pt x="56" y="106"/>
                  <a:pt x="48" y="103"/>
                </a:cubicBezTo>
                <a:cubicBezTo>
                  <a:pt x="40" y="100"/>
                  <a:pt x="43" y="89"/>
                  <a:pt x="36" y="85"/>
                </a:cubicBezTo>
                <a:cubicBezTo>
                  <a:pt x="29" y="81"/>
                  <a:pt x="8" y="84"/>
                  <a:pt x="4" y="81"/>
                </a:cubicBezTo>
                <a:cubicBezTo>
                  <a:pt x="0" y="78"/>
                  <a:pt x="13" y="72"/>
                  <a:pt x="13" y="66"/>
                </a:cubicBezTo>
                <a:cubicBezTo>
                  <a:pt x="13" y="60"/>
                  <a:pt x="4" y="54"/>
                  <a:pt x="6" y="46"/>
                </a:cubicBezTo>
                <a:cubicBezTo>
                  <a:pt x="8" y="38"/>
                  <a:pt x="22" y="24"/>
                  <a:pt x="27" y="18"/>
                </a:cubicBezTo>
                <a:close/>
              </a:path>
            </a:pathLst>
          </a:custGeom>
          <a:blipFill rotWithShape="0">
            <a:blip r:embed="rId14">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34"/>
          <p:cNvSpPr/>
          <p:nvPr/>
        </p:nvSpPr>
        <p:spPr>
          <a:xfrm>
            <a:off x="3868560" y="5180040"/>
            <a:ext cx="300240" cy="571320"/>
          </a:xfrm>
          <a:custGeom>
            <a:avLst/>
            <a:gdLst>
              <a:gd name="textAreaLeft" fmla="*/ 0 w 300240"/>
              <a:gd name="textAreaRight" fmla="*/ 300600 w 300240"/>
              <a:gd name="textAreaTop" fmla="*/ 0 h 571320"/>
              <a:gd name="textAreaBottom" fmla="*/ 571680 h 571320"/>
            </a:gdLst>
            <a:ahLst/>
            <a:rect l="textAreaLeft" t="textAreaTop" r="textAreaRight" b="textAreaBottom"/>
            <a:pathLst>
              <a:path w="189" h="360">
                <a:moveTo>
                  <a:pt x="1" y="73"/>
                </a:moveTo>
                <a:cubicBezTo>
                  <a:pt x="0" y="61"/>
                  <a:pt x="7" y="26"/>
                  <a:pt x="11" y="21"/>
                </a:cubicBezTo>
                <a:cubicBezTo>
                  <a:pt x="15" y="16"/>
                  <a:pt x="20" y="40"/>
                  <a:pt x="28" y="45"/>
                </a:cubicBezTo>
                <a:cubicBezTo>
                  <a:pt x="36" y="50"/>
                  <a:pt x="54" y="52"/>
                  <a:pt x="61" y="51"/>
                </a:cubicBezTo>
                <a:cubicBezTo>
                  <a:pt x="68" y="50"/>
                  <a:pt x="69" y="41"/>
                  <a:pt x="73" y="40"/>
                </a:cubicBezTo>
                <a:cubicBezTo>
                  <a:pt x="77" y="39"/>
                  <a:pt x="82" y="45"/>
                  <a:pt x="86" y="42"/>
                </a:cubicBezTo>
                <a:cubicBezTo>
                  <a:pt x="90" y="39"/>
                  <a:pt x="91" y="25"/>
                  <a:pt x="95" y="22"/>
                </a:cubicBezTo>
                <a:cubicBezTo>
                  <a:pt x="99" y="19"/>
                  <a:pt x="103" y="27"/>
                  <a:pt x="107" y="24"/>
                </a:cubicBezTo>
                <a:cubicBezTo>
                  <a:pt x="111" y="21"/>
                  <a:pt x="115" y="6"/>
                  <a:pt x="118" y="4"/>
                </a:cubicBezTo>
                <a:cubicBezTo>
                  <a:pt x="121" y="2"/>
                  <a:pt x="124" y="9"/>
                  <a:pt x="127" y="9"/>
                </a:cubicBezTo>
                <a:cubicBezTo>
                  <a:pt x="130" y="9"/>
                  <a:pt x="132" y="0"/>
                  <a:pt x="137" y="1"/>
                </a:cubicBezTo>
                <a:cubicBezTo>
                  <a:pt x="142" y="2"/>
                  <a:pt x="150" y="10"/>
                  <a:pt x="155" y="13"/>
                </a:cubicBezTo>
                <a:cubicBezTo>
                  <a:pt x="160" y="16"/>
                  <a:pt x="168" y="15"/>
                  <a:pt x="169" y="18"/>
                </a:cubicBezTo>
                <a:cubicBezTo>
                  <a:pt x="170" y="21"/>
                  <a:pt x="163" y="27"/>
                  <a:pt x="164" y="30"/>
                </a:cubicBezTo>
                <a:cubicBezTo>
                  <a:pt x="165" y="33"/>
                  <a:pt x="173" y="34"/>
                  <a:pt x="173" y="37"/>
                </a:cubicBezTo>
                <a:cubicBezTo>
                  <a:pt x="173" y="40"/>
                  <a:pt x="164" y="44"/>
                  <a:pt x="166" y="48"/>
                </a:cubicBezTo>
                <a:cubicBezTo>
                  <a:pt x="168" y="52"/>
                  <a:pt x="182" y="55"/>
                  <a:pt x="185" y="63"/>
                </a:cubicBezTo>
                <a:cubicBezTo>
                  <a:pt x="188" y="71"/>
                  <a:pt x="181" y="85"/>
                  <a:pt x="181" y="94"/>
                </a:cubicBezTo>
                <a:cubicBezTo>
                  <a:pt x="181" y="103"/>
                  <a:pt x="189" y="110"/>
                  <a:pt x="187" y="118"/>
                </a:cubicBezTo>
                <a:cubicBezTo>
                  <a:pt x="185" y="126"/>
                  <a:pt x="172" y="133"/>
                  <a:pt x="169" y="141"/>
                </a:cubicBezTo>
                <a:cubicBezTo>
                  <a:pt x="166" y="149"/>
                  <a:pt x="171" y="160"/>
                  <a:pt x="169" y="169"/>
                </a:cubicBezTo>
                <a:cubicBezTo>
                  <a:pt x="167" y="178"/>
                  <a:pt x="159" y="184"/>
                  <a:pt x="158" y="198"/>
                </a:cubicBezTo>
                <a:cubicBezTo>
                  <a:pt x="157" y="212"/>
                  <a:pt x="161" y="238"/>
                  <a:pt x="160" y="253"/>
                </a:cubicBezTo>
                <a:cubicBezTo>
                  <a:pt x="159" y="268"/>
                  <a:pt x="153" y="277"/>
                  <a:pt x="151" y="286"/>
                </a:cubicBezTo>
                <a:cubicBezTo>
                  <a:pt x="149" y="295"/>
                  <a:pt x="154" y="302"/>
                  <a:pt x="151" y="309"/>
                </a:cubicBezTo>
                <a:cubicBezTo>
                  <a:pt x="148" y="316"/>
                  <a:pt x="140" y="331"/>
                  <a:pt x="134" y="331"/>
                </a:cubicBezTo>
                <a:cubicBezTo>
                  <a:pt x="128" y="331"/>
                  <a:pt x="120" y="314"/>
                  <a:pt x="115" y="312"/>
                </a:cubicBezTo>
                <a:cubicBezTo>
                  <a:pt x="110" y="310"/>
                  <a:pt x="107" y="317"/>
                  <a:pt x="103" y="316"/>
                </a:cubicBezTo>
                <a:cubicBezTo>
                  <a:pt x="99" y="315"/>
                  <a:pt x="93" y="305"/>
                  <a:pt x="89" y="304"/>
                </a:cubicBezTo>
                <a:cubicBezTo>
                  <a:pt x="85" y="303"/>
                  <a:pt x="82" y="305"/>
                  <a:pt x="79" y="307"/>
                </a:cubicBezTo>
                <a:cubicBezTo>
                  <a:pt x="76" y="309"/>
                  <a:pt x="71" y="311"/>
                  <a:pt x="73" y="316"/>
                </a:cubicBezTo>
                <a:cubicBezTo>
                  <a:pt x="75" y="321"/>
                  <a:pt x="90" y="330"/>
                  <a:pt x="89" y="337"/>
                </a:cubicBezTo>
                <a:cubicBezTo>
                  <a:pt x="88" y="344"/>
                  <a:pt x="75" y="356"/>
                  <a:pt x="67" y="358"/>
                </a:cubicBezTo>
                <a:cubicBezTo>
                  <a:pt x="59" y="360"/>
                  <a:pt x="49" y="352"/>
                  <a:pt x="41" y="351"/>
                </a:cubicBezTo>
                <a:cubicBezTo>
                  <a:pt x="33" y="350"/>
                  <a:pt x="20" y="356"/>
                  <a:pt x="17" y="354"/>
                </a:cubicBezTo>
                <a:cubicBezTo>
                  <a:pt x="14" y="352"/>
                  <a:pt x="26" y="352"/>
                  <a:pt x="25" y="340"/>
                </a:cubicBezTo>
                <a:cubicBezTo>
                  <a:pt x="24" y="328"/>
                  <a:pt x="11" y="292"/>
                  <a:pt x="10" y="279"/>
                </a:cubicBezTo>
                <a:cubicBezTo>
                  <a:pt x="9" y="266"/>
                  <a:pt x="16" y="273"/>
                  <a:pt x="17" y="264"/>
                </a:cubicBezTo>
                <a:cubicBezTo>
                  <a:pt x="18" y="255"/>
                  <a:pt x="12" y="234"/>
                  <a:pt x="14" y="226"/>
                </a:cubicBezTo>
                <a:cubicBezTo>
                  <a:pt x="16" y="218"/>
                  <a:pt x="28" y="221"/>
                  <a:pt x="28" y="213"/>
                </a:cubicBezTo>
                <a:cubicBezTo>
                  <a:pt x="28" y="205"/>
                  <a:pt x="12" y="183"/>
                  <a:pt x="13" y="175"/>
                </a:cubicBezTo>
                <a:cubicBezTo>
                  <a:pt x="14" y="167"/>
                  <a:pt x="33" y="170"/>
                  <a:pt x="34" y="166"/>
                </a:cubicBezTo>
                <a:cubicBezTo>
                  <a:pt x="35" y="162"/>
                  <a:pt x="22" y="154"/>
                  <a:pt x="22" y="148"/>
                </a:cubicBezTo>
                <a:cubicBezTo>
                  <a:pt x="22" y="142"/>
                  <a:pt x="34" y="135"/>
                  <a:pt x="34" y="130"/>
                </a:cubicBezTo>
                <a:cubicBezTo>
                  <a:pt x="34" y="125"/>
                  <a:pt x="24" y="122"/>
                  <a:pt x="23" y="118"/>
                </a:cubicBezTo>
                <a:cubicBezTo>
                  <a:pt x="22" y="114"/>
                  <a:pt x="29" y="106"/>
                  <a:pt x="28" y="103"/>
                </a:cubicBezTo>
                <a:cubicBezTo>
                  <a:pt x="27" y="100"/>
                  <a:pt x="20" y="102"/>
                  <a:pt x="16" y="97"/>
                </a:cubicBezTo>
                <a:cubicBezTo>
                  <a:pt x="12" y="92"/>
                  <a:pt x="4" y="78"/>
                  <a:pt x="1" y="73"/>
                </a:cubicBezTo>
                <a:close/>
              </a:path>
            </a:pathLst>
          </a:custGeom>
          <a:blipFill rotWithShape="0">
            <a:blip r:embed="rId15">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38" descr="French flag"/>
          <p:cNvPicPr/>
          <p:nvPr/>
        </p:nvPicPr>
        <p:blipFill>
          <a:blip r:embed="rId16"/>
          <a:stretch/>
        </p:blipFill>
        <p:spPr>
          <a:xfrm>
            <a:off x="3086280" y="3191040"/>
            <a:ext cx="380880" cy="253800"/>
          </a:xfrm>
          <a:prstGeom prst="rect">
            <a:avLst/>
          </a:prstGeom>
          <a:ln w="0">
            <a:noFill/>
          </a:ln>
        </p:spPr>
      </p:pic>
      <p:pic>
        <p:nvPicPr>
          <p:cNvPr id="78" name="Picture 42" descr="1861 the Kingdom of Italy">
            <a:hlinkClick r:id="rId17"/>
          </p:cNvPr>
          <p:cNvPicPr/>
          <p:nvPr/>
        </p:nvPicPr>
        <p:blipFill>
          <a:blip r:embed="rId18"/>
          <a:stretch/>
        </p:blipFill>
        <p:spPr>
          <a:xfrm>
            <a:off x="4581360" y="4765680"/>
            <a:ext cx="314640" cy="210960"/>
          </a:xfrm>
          <a:prstGeom prst="rect">
            <a:avLst/>
          </a:prstGeom>
          <a:ln w="0">
            <a:noFill/>
          </a:ln>
        </p:spPr>
      </p:pic>
      <p:sp>
        <p:nvSpPr>
          <p:cNvPr id="79" name="Freeform 43"/>
          <p:cNvSpPr/>
          <p:nvPr/>
        </p:nvSpPr>
        <p:spPr>
          <a:xfrm>
            <a:off x="6470640" y="4546440"/>
            <a:ext cx="1082520" cy="770040"/>
          </a:xfrm>
          <a:custGeom>
            <a:avLst/>
            <a:gdLst>
              <a:gd name="textAreaLeft" fmla="*/ 0 w 1082520"/>
              <a:gd name="textAreaRight" fmla="*/ 1082520 w 1082520"/>
              <a:gd name="textAreaTop" fmla="*/ 0 h 770040"/>
              <a:gd name="textAreaBottom" fmla="*/ 770400 h 770040"/>
            </a:gdLst>
            <a:ahLst/>
            <a:rect l="textAreaLeft" t="textAreaTop" r="textAreaRight" b="textAreaBottom"/>
            <a:pathLst>
              <a:path w="682" h="485">
                <a:moveTo>
                  <a:pt x="40" y="0"/>
                </a:moveTo>
                <a:cubicBezTo>
                  <a:pt x="56" y="1"/>
                  <a:pt x="79" y="37"/>
                  <a:pt x="96" y="44"/>
                </a:cubicBezTo>
                <a:cubicBezTo>
                  <a:pt x="113" y="51"/>
                  <a:pt x="119" y="41"/>
                  <a:pt x="140" y="44"/>
                </a:cubicBezTo>
                <a:cubicBezTo>
                  <a:pt x="161" y="47"/>
                  <a:pt x="191" y="62"/>
                  <a:pt x="220" y="64"/>
                </a:cubicBezTo>
                <a:cubicBezTo>
                  <a:pt x="249" y="66"/>
                  <a:pt x="287" y="58"/>
                  <a:pt x="312" y="54"/>
                </a:cubicBezTo>
                <a:cubicBezTo>
                  <a:pt x="337" y="50"/>
                  <a:pt x="350" y="42"/>
                  <a:pt x="370" y="38"/>
                </a:cubicBezTo>
                <a:cubicBezTo>
                  <a:pt x="390" y="34"/>
                  <a:pt x="416" y="28"/>
                  <a:pt x="434" y="28"/>
                </a:cubicBezTo>
                <a:cubicBezTo>
                  <a:pt x="452" y="28"/>
                  <a:pt x="466" y="40"/>
                  <a:pt x="480" y="38"/>
                </a:cubicBezTo>
                <a:cubicBezTo>
                  <a:pt x="494" y="36"/>
                  <a:pt x="504" y="14"/>
                  <a:pt x="518" y="14"/>
                </a:cubicBezTo>
                <a:cubicBezTo>
                  <a:pt x="532" y="14"/>
                  <a:pt x="544" y="24"/>
                  <a:pt x="562" y="38"/>
                </a:cubicBezTo>
                <a:cubicBezTo>
                  <a:pt x="580" y="52"/>
                  <a:pt x="610" y="89"/>
                  <a:pt x="626" y="98"/>
                </a:cubicBezTo>
                <a:cubicBezTo>
                  <a:pt x="642" y="107"/>
                  <a:pt x="653" y="89"/>
                  <a:pt x="656" y="94"/>
                </a:cubicBezTo>
                <a:cubicBezTo>
                  <a:pt x="659" y="99"/>
                  <a:pt x="643" y="117"/>
                  <a:pt x="642" y="128"/>
                </a:cubicBezTo>
                <a:cubicBezTo>
                  <a:pt x="641" y="139"/>
                  <a:pt x="653" y="152"/>
                  <a:pt x="652" y="160"/>
                </a:cubicBezTo>
                <a:cubicBezTo>
                  <a:pt x="651" y="168"/>
                  <a:pt x="638" y="170"/>
                  <a:pt x="634" y="176"/>
                </a:cubicBezTo>
                <a:cubicBezTo>
                  <a:pt x="630" y="182"/>
                  <a:pt x="632" y="188"/>
                  <a:pt x="628" y="194"/>
                </a:cubicBezTo>
                <a:cubicBezTo>
                  <a:pt x="624" y="200"/>
                  <a:pt x="609" y="205"/>
                  <a:pt x="610" y="210"/>
                </a:cubicBezTo>
                <a:cubicBezTo>
                  <a:pt x="611" y="215"/>
                  <a:pt x="626" y="216"/>
                  <a:pt x="632" y="222"/>
                </a:cubicBezTo>
                <a:cubicBezTo>
                  <a:pt x="638" y="228"/>
                  <a:pt x="636" y="239"/>
                  <a:pt x="644" y="248"/>
                </a:cubicBezTo>
                <a:cubicBezTo>
                  <a:pt x="652" y="257"/>
                  <a:pt x="674" y="270"/>
                  <a:pt x="678" y="276"/>
                </a:cubicBezTo>
                <a:cubicBezTo>
                  <a:pt x="682" y="282"/>
                  <a:pt x="678" y="285"/>
                  <a:pt x="668" y="286"/>
                </a:cubicBezTo>
                <a:cubicBezTo>
                  <a:pt x="658" y="287"/>
                  <a:pt x="631" y="280"/>
                  <a:pt x="616" y="282"/>
                </a:cubicBezTo>
                <a:cubicBezTo>
                  <a:pt x="601" y="284"/>
                  <a:pt x="590" y="294"/>
                  <a:pt x="578" y="296"/>
                </a:cubicBezTo>
                <a:cubicBezTo>
                  <a:pt x="566" y="298"/>
                  <a:pt x="551" y="292"/>
                  <a:pt x="542" y="294"/>
                </a:cubicBezTo>
                <a:cubicBezTo>
                  <a:pt x="533" y="296"/>
                  <a:pt x="534" y="305"/>
                  <a:pt x="524" y="308"/>
                </a:cubicBezTo>
                <a:cubicBezTo>
                  <a:pt x="514" y="311"/>
                  <a:pt x="490" y="304"/>
                  <a:pt x="480" y="310"/>
                </a:cubicBezTo>
                <a:cubicBezTo>
                  <a:pt x="470" y="316"/>
                  <a:pt x="479" y="324"/>
                  <a:pt x="462" y="346"/>
                </a:cubicBezTo>
                <a:cubicBezTo>
                  <a:pt x="445" y="368"/>
                  <a:pt x="396" y="424"/>
                  <a:pt x="376" y="440"/>
                </a:cubicBezTo>
                <a:cubicBezTo>
                  <a:pt x="356" y="456"/>
                  <a:pt x="351" y="441"/>
                  <a:pt x="342" y="444"/>
                </a:cubicBezTo>
                <a:cubicBezTo>
                  <a:pt x="333" y="447"/>
                  <a:pt x="339" y="459"/>
                  <a:pt x="322" y="456"/>
                </a:cubicBezTo>
                <a:cubicBezTo>
                  <a:pt x="305" y="453"/>
                  <a:pt x="259" y="426"/>
                  <a:pt x="238" y="428"/>
                </a:cubicBezTo>
                <a:cubicBezTo>
                  <a:pt x="217" y="430"/>
                  <a:pt x="212" y="462"/>
                  <a:pt x="196" y="468"/>
                </a:cubicBezTo>
                <a:cubicBezTo>
                  <a:pt x="180" y="474"/>
                  <a:pt x="159" y="463"/>
                  <a:pt x="144" y="466"/>
                </a:cubicBezTo>
                <a:cubicBezTo>
                  <a:pt x="129" y="469"/>
                  <a:pt x="120" y="483"/>
                  <a:pt x="108" y="484"/>
                </a:cubicBezTo>
                <a:cubicBezTo>
                  <a:pt x="96" y="485"/>
                  <a:pt x="79" y="482"/>
                  <a:pt x="70" y="474"/>
                </a:cubicBezTo>
                <a:cubicBezTo>
                  <a:pt x="61" y="466"/>
                  <a:pt x="51" y="441"/>
                  <a:pt x="56" y="434"/>
                </a:cubicBezTo>
                <a:cubicBezTo>
                  <a:pt x="61" y="427"/>
                  <a:pt x="96" y="442"/>
                  <a:pt x="100" y="430"/>
                </a:cubicBezTo>
                <a:cubicBezTo>
                  <a:pt x="104" y="418"/>
                  <a:pt x="96" y="382"/>
                  <a:pt x="82" y="360"/>
                </a:cubicBezTo>
                <a:cubicBezTo>
                  <a:pt x="68" y="338"/>
                  <a:pt x="21" y="320"/>
                  <a:pt x="16" y="300"/>
                </a:cubicBezTo>
                <a:cubicBezTo>
                  <a:pt x="11" y="280"/>
                  <a:pt x="49" y="258"/>
                  <a:pt x="54" y="240"/>
                </a:cubicBezTo>
                <a:cubicBezTo>
                  <a:pt x="59" y="222"/>
                  <a:pt x="40" y="206"/>
                  <a:pt x="44" y="192"/>
                </a:cubicBezTo>
                <a:cubicBezTo>
                  <a:pt x="48" y="178"/>
                  <a:pt x="77" y="170"/>
                  <a:pt x="78" y="154"/>
                </a:cubicBezTo>
                <a:cubicBezTo>
                  <a:pt x="79" y="138"/>
                  <a:pt x="63" y="114"/>
                  <a:pt x="50" y="96"/>
                </a:cubicBezTo>
                <a:cubicBezTo>
                  <a:pt x="37" y="78"/>
                  <a:pt x="4" y="62"/>
                  <a:pt x="2" y="46"/>
                </a:cubicBezTo>
                <a:cubicBezTo>
                  <a:pt x="0" y="30"/>
                  <a:pt x="32" y="10"/>
                  <a:pt x="40" y="0"/>
                </a:cubicBezTo>
                <a:close/>
              </a:path>
            </a:pathLst>
          </a:custGeom>
          <a:blipFill rotWithShape="0">
            <a:blip r:embed="rId19">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44"/>
          <p:cNvSpPr/>
          <p:nvPr/>
        </p:nvSpPr>
        <p:spPr>
          <a:xfrm>
            <a:off x="5889600" y="4930920"/>
            <a:ext cx="378000" cy="734760"/>
          </a:xfrm>
          <a:custGeom>
            <a:avLst/>
            <a:gdLst>
              <a:gd name="textAreaLeft" fmla="*/ 0 w 378000"/>
              <a:gd name="textAreaRight" fmla="*/ 378360 w 378000"/>
              <a:gd name="textAreaTop" fmla="*/ 0 h 734760"/>
              <a:gd name="textAreaBottom" fmla="*/ 735120 h 734760"/>
            </a:gdLst>
            <a:ahLst/>
            <a:rect l="textAreaLeft" t="textAreaTop" r="textAreaRight" b="textAreaBottom"/>
            <a:pathLst>
              <a:path w="238" h="463">
                <a:moveTo>
                  <a:pt x="18" y="134"/>
                </a:moveTo>
                <a:lnTo>
                  <a:pt x="66" y="16"/>
                </a:lnTo>
                <a:cubicBezTo>
                  <a:pt x="80" y="0"/>
                  <a:pt x="86" y="35"/>
                  <a:pt x="100" y="40"/>
                </a:cubicBezTo>
                <a:cubicBezTo>
                  <a:pt x="114" y="45"/>
                  <a:pt x="137" y="40"/>
                  <a:pt x="148" y="46"/>
                </a:cubicBezTo>
                <a:cubicBezTo>
                  <a:pt x="159" y="52"/>
                  <a:pt x="160" y="65"/>
                  <a:pt x="168" y="74"/>
                </a:cubicBezTo>
                <a:cubicBezTo>
                  <a:pt x="176" y="83"/>
                  <a:pt x="194" y="93"/>
                  <a:pt x="198" y="102"/>
                </a:cubicBezTo>
                <a:cubicBezTo>
                  <a:pt x="202" y="111"/>
                  <a:pt x="193" y="118"/>
                  <a:pt x="192" y="128"/>
                </a:cubicBezTo>
                <a:cubicBezTo>
                  <a:pt x="191" y="138"/>
                  <a:pt x="193" y="150"/>
                  <a:pt x="192" y="162"/>
                </a:cubicBezTo>
                <a:cubicBezTo>
                  <a:pt x="191" y="174"/>
                  <a:pt x="181" y="177"/>
                  <a:pt x="188" y="200"/>
                </a:cubicBezTo>
                <a:cubicBezTo>
                  <a:pt x="195" y="223"/>
                  <a:pt x="230" y="277"/>
                  <a:pt x="234" y="298"/>
                </a:cubicBezTo>
                <a:cubicBezTo>
                  <a:pt x="238" y="319"/>
                  <a:pt x="218" y="313"/>
                  <a:pt x="212" y="324"/>
                </a:cubicBezTo>
                <a:cubicBezTo>
                  <a:pt x="206" y="335"/>
                  <a:pt x="209" y="356"/>
                  <a:pt x="200" y="362"/>
                </a:cubicBezTo>
                <a:cubicBezTo>
                  <a:pt x="191" y="368"/>
                  <a:pt x="167" y="356"/>
                  <a:pt x="154" y="360"/>
                </a:cubicBezTo>
                <a:cubicBezTo>
                  <a:pt x="141" y="364"/>
                  <a:pt x="130" y="368"/>
                  <a:pt x="120" y="384"/>
                </a:cubicBezTo>
                <a:cubicBezTo>
                  <a:pt x="110" y="400"/>
                  <a:pt x="107" y="445"/>
                  <a:pt x="96" y="454"/>
                </a:cubicBezTo>
                <a:cubicBezTo>
                  <a:pt x="85" y="463"/>
                  <a:pt x="67" y="450"/>
                  <a:pt x="52" y="436"/>
                </a:cubicBezTo>
                <a:cubicBezTo>
                  <a:pt x="37" y="422"/>
                  <a:pt x="12" y="386"/>
                  <a:pt x="6" y="372"/>
                </a:cubicBezTo>
                <a:cubicBezTo>
                  <a:pt x="0" y="358"/>
                  <a:pt x="16" y="360"/>
                  <a:pt x="18" y="354"/>
                </a:cubicBezTo>
                <a:cubicBezTo>
                  <a:pt x="20" y="348"/>
                  <a:pt x="17" y="343"/>
                  <a:pt x="16" y="334"/>
                </a:cubicBezTo>
                <a:cubicBezTo>
                  <a:pt x="15" y="325"/>
                  <a:pt x="9" y="315"/>
                  <a:pt x="12" y="302"/>
                </a:cubicBezTo>
                <a:cubicBezTo>
                  <a:pt x="15" y="289"/>
                  <a:pt x="31" y="265"/>
                  <a:pt x="32" y="254"/>
                </a:cubicBezTo>
                <a:cubicBezTo>
                  <a:pt x="33" y="243"/>
                  <a:pt x="21" y="243"/>
                  <a:pt x="20" y="236"/>
                </a:cubicBezTo>
                <a:cubicBezTo>
                  <a:pt x="19" y="229"/>
                  <a:pt x="24" y="222"/>
                  <a:pt x="26" y="212"/>
                </a:cubicBezTo>
                <a:cubicBezTo>
                  <a:pt x="28" y="202"/>
                  <a:pt x="35" y="189"/>
                  <a:pt x="34" y="176"/>
                </a:cubicBezTo>
                <a:cubicBezTo>
                  <a:pt x="33" y="163"/>
                  <a:pt x="21" y="143"/>
                  <a:pt x="18" y="134"/>
                </a:cubicBezTo>
                <a:close/>
              </a:path>
            </a:pathLst>
          </a:custGeom>
          <a:blipFill rotWithShape="0">
            <a:blip r:embed="rId20">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Picture 45" descr="1861 the Kingdom of Italy"/>
          <p:cNvPicPr/>
          <p:nvPr/>
        </p:nvPicPr>
        <p:blipFill>
          <a:blip r:embed="rId21"/>
          <a:stretch/>
        </p:blipFill>
        <p:spPr>
          <a:xfrm>
            <a:off x="5975280" y="5251320"/>
            <a:ext cx="155520" cy="104760"/>
          </a:xfrm>
          <a:prstGeom prst="rect">
            <a:avLst/>
          </a:prstGeom>
          <a:ln w="0">
            <a:noFill/>
          </a:ln>
        </p:spPr>
      </p:pic>
      <p:sp>
        <p:nvSpPr>
          <p:cNvPr id="82" name="Freeform 46"/>
          <p:cNvSpPr/>
          <p:nvPr/>
        </p:nvSpPr>
        <p:spPr>
          <a:xfrm>
            <a:off x="4545000" y="1376280"/>
            <a:ext cx="131760" cy="416160"/>
          </a:xfrm>
          <a:custGeom>
            <a:avLst/>
            <a:gdLst>
              <a:gd name="textAreaLeft" fmla="*/ 0 w 131760"/>
              <a:gd name="textAreaRight" fmla="*/ 132120 w 131760"/>
              <a:gd name="textAreaTop" fmla="*/ 0 h 416160"/>
              <a:gd name="textAreaBottom" fmla="*/ 416520 h 416160"/>
            </a:gdLst>
            <a:ahLst/>
            <a:rect l="textAreaLeft" t="textAreaTop" r="textAreaRight" b="textAreaBottom"/>
            <a:pathLst>
              <a:path w="83" h="262">
                <a:moveTo>
                  <a:pt x="0" y="262"/>
                </a:moveTo>
                <a:cubicBezTo>
                  <a:pt x="2" y="241"/>
                  <a:pt x="0" y="181"/>
                  <a:pt x="14" y="137"/>
                </a:cubicBezTo>
                <a:cubicBezTo>
                  <a:pt x="28" y="93"/>
                  <a:pt x="69" y="29"/>
                  <a:pt x="83"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8"/>
          <p:cNvSpPr/>
          <p:nvPr/>
        </p:nvSpPr>
        <p:spPr>
          <a:xfrm>
            <a:off x="4667400" y="1700280"/>
            <a:ext cx="141120" cy="119160"/>
          </a:xfrm>
          <a:custGeom>
            <a:avLst/>
            <a:gdLst>
              <a:gd name="textAreaLeft" fmla="*/ 0 w 141120"/>
              <a:gd name="textAreaRight" fmla="*/ 141480 w 141120"/>
              <a:gd name="textAreaTop" fmla="*/ 0 h 119160"/>
              <a:gd name="textAreaBottom" fmla="*/ 119520 h 119160"/>
            </a:gdLst>
            <a:ahLst/>
            <a:rect l="textAreaLeft" t="textAreaTop" r="textAreaRight" b="textAreaBottom"/>
            <a:pathLst>
              <a:path w="89" h="75">
                <a:moveTo>
                  <a:pt x="0" y="2"/>
                </a:moveTo>
                <a:cubicBezTo>
                  <a:pt x="4" y="0"/>
                  <a:pt x="18" y="8"/>
                  <a:pt x="23" y="9"/>
                </a:cubicBezTo>
                <a:cubicBezTo>
                  <a:pt x="28" y="10"/>
                  <a:pt x="27" y="5"/>
                  <a:pt x="32" y="8"/>
                </a:cubicBezTo>
                <a:cubicBezTo>
                  <a:pt x="37" y="11"/>
                  <a:pt x="46" y="28"/>
                  <a:pt x="53" y="30"/>
                </a:cubicBezTo>
                <a:cubicBezTo>
                  <a:pt x="60" y="32"/>
                  <a:pt x="68" y="19"/>
                  <a:pt x="74" y="21"/>
                </a:cubicBezTo>
                <a:cubicBezTo>
                  <a:pt x="80" y="23"/>
                  <a:pt x="89" y="34"/>
                  <a:pt x="87" y="42"/>
                </a:cubicBezTo>
                <a:cubicBezTo>
                  <a:pt x="85" y="50"/>
                  <a:pt x="66" y="69"/>
                  <a:pt x="59" y="72"/>
                </a:cubicBezTo>
                <a:cubicBezTo>
                  <a:pt x="52" y="75"/>
                  <a:pt x="49" y="64"/>
                  <a:pt x="44" y="63"/>
                </a:cubicBezTo>
                <a:cubicBezTo>
                  <a:pt x="39" y="62"/>
                  <a:pt x="36" y="70"/>
                  <a:pt x="30" y="65"/>
                </a:cubicBezTo>
                <a:cubicBezTo>
                  <a:pt x="24" y="60"/>
                  <a:pt x="9" y="40"/>
                  <a:pt x="6" y="33"/>
                </a:cubicBezTo>
                <a:cubicBezTo>
                  <a:pt x="3" y="26"/>
                  <a:pt x="13" y="25"/>
                  <a:pt x="12" y="20"/>
                </a:cubicBezTo>
                <a:cubicBezTo>
                  <a:pt x="11" y="15"/>
                  <a:pt x="2" y="6"/>
                  <a:pt x="0" y="2"/>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49"/>
          <p:cNvSpPr/>
          <p:nvPr/>
        </p:nvSpPr>
        <p:spPr>
          <a:xfrm>
            <a:off x="4819680" y="1843200"/>
            <a:ext cx="152280" cy="102960"/>
          </a:xfrm>
          <a:custGeom>
            <a:avLst/>
            <a:gdLst>
              <a:gd name="textAreaLeft" fmla="*/ 0 w 152280"/>
              <a:gd name="textAreaRight" fmla="*/ 152640 w 152280"/>
              <a:gd name="textAreaTop" fmla="*/ 0 h 102960"/>
              <a:gd name="textAreaBottom" fmla="*/ 103320 h 102960"/>
            </a:gdLst>
            <a:ahLst/>
            <a:rect l="textAreaLeft" t="textAreaTop" r="textAreaRight" b="textAreaBottom"/>
            <a:pathLst>
              <a:path w="96" h="65">
                <a:moveTo>
                  <a:pt x="9" y="5"/>
                </a:moveTo>
                <a:cubicBezTo>
                  <a:pt x="13" y="3"/>
                  <a:pt x="19" y="0"/>
                  <a:pt x="26" y="3"/>
                </a:cubicBezTo>
                <a:cubicBezTo>
                  <a:pt x="33" y="6"/>
                  <a:pt x="45" y="20"/>
                  <a:pt x="53" y="21"/>
                </a:cubicBezTo>
                <a:cubicBezTo>
                  <a:pt x="61" y="22"/>
                  <a:pt x="68" y="9"/>
                  <a:pt x="75" y="11"/>
                </a:cubicBezTo>
                <a:cubicBezTo>
                  <a:pt x="82" y="13"/>
                  <a:pt x="94" y="29"/>
                  <a:pt x="95" y="35"/>
                </a:cubicBezTo>
                <a:cubicBezTo>
                  <a:pt x="96" y="41"/>
                  <a:pt x="84" y="43"/>
                  <a:pt x="81" y="48"/>
                </a:cubicBezTo>
                <a:cubicBezTo>
                  <a:pt x="78" y="53"/>
                  <a:pt x="81" y="65"/>
                  <a:pt x="78" y="65"/>
                </a:cubicBezTo>
                <a:cubicBezTo>
                  <a:pt x="75" y="65"/>
                  <a:pt x="70" y="50"/>
                  <a:pt x="62" y="47"/>
                </a:cubicBezTo>
                <a:cubicBezTo>
                  <a:pt x="54" y="44"/>
                  <a:pt x="35" y="46"/>
                  <a:pt x="27" y="44"/>
                </a:cubicBezTo>
                <a:cubicBezTo>
                  <a:pt x="19" y="42"/>
                  <a:pt x="19" y="38"/>
                  <a:pt x="15" y="35"/>
                </a:cubicBezTo>
                <a:cubicBezTo>
                  <a:pt x="11" y="32"/>
                  <a:pt x="0" y="29"/>
                  <a:pt x="0" y="26"/>
                </a:cubicBezTo>
                <a:cubicBezTo>
                  <a:pt x="0" y="23"/>
                  <a:pt x="14" y="18"/>
                  <a:pt x="15" y="15"/>
                </a:cubicBezTo>
                <a:cubicBezTo>
                  <a:pt x="16" y="12"/>
                  <a:pt x="10" y="7"/>
                  <a:pt x="9" y="5"/>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50"/>
          <p:cNvSpPr/>
          <p:nvPr/>
        </p:nvSpPr>
        <p:spPr>
          <a:xfrm>
            <a:off x="4843440" y="1677960"/>
            <a:ext cx="209520" cy="157320"/>
          </a:xfrm>
          <a:custGeom>
            <a:avLst/>
            <a:gdLst>
              <a:gd name="textAreaLeft" fmla="*/ 0 w 209520"/>
              <a:gd name="textAreaRight" fmla="*/ 209880 w 209520"/>
              <a:gd name="textAreaTop" fmla="*/ 0 h 157320"/>
              <a:gd name="textAreaBottom" fmla="*/ 157320 h 157320"/>
            </a:gdLst>
            <a:ahLst/>
            <a:rect l="textAreaLeft" t="textAreaTop" r="textAreaRight" b="textAreaBottom"/>
            <a:pathLst>
              <a:path w="132" h="99">
                <a:moveTo>
                  <a:pt x="3" y="23"/>
                </a:moveTo>
                <a:cubicBezTo>
                  <a:pt x="6" y="21"/>
                  <a:pt x="20" y="33"/>
                  <a:pt x="26" y="34"/>
                </a:cubicBezTo>
                <a:cubicBezTo>
                  <a:pt x="32" y="35"/>
                  <a:pt x="36" y="26"/>
                  <a:pt x="41" y="26"/>
                </a:cubicBezTo>
                <a:cubicBezTo>
                  <a:pt x="46" y="26"/>
                  <a:pt x="51" y="33"/>
                  <a:pt x="56" y="32"/>
                </a:cubicBezTo>
                <a:cubicBezTo>
                  <a:pt x="61" y="31"/>
                  <a:pt x="67" y="21"/>
                  <a:pt x="72" y="19"/>
                </a:cubicBezTo>
                <a:cubicBezTo>
                  <a:pt x="77" y="17"/>
                  <a:pt x="79" y="23"/>
                  <a:pt x="84" y="20"/>
                </a:cubicBezTo>
                <a:cubicBezTo>
                  <a:pt x="89" y="17"/>
                  <a:pt x="97" y="2"/>
                  <a:pt x="105" y="1"/>
                </a:cubicBezTo>
                <a:cubicBezTo>
                  <a:pt x="113" y="0"/>
                  <a:pt x="132" y="7"/>
                  <a:pt x="131" y="14"/>
                </a:cubicBezTo>
                <a:cubicBezTo>
                  <a:pt x="130" y="21"/>
                  <a:pt x="103" y="33"/>
                  <a:pt x="99" y="41"/>
                </a:cubicBezTo>
                <a:cubicBezTo>
                  <a:pt x="95" y="49"/>
                  <a:pt x="106" y="54"/>
                  <a:pt x="105" y="61"/>
                </a:cubicBezTo>
                <a:cubicBezTo>
                  <a:pt x="104" y="68"/>
                  <a:pt x="97" y="79"/>
                  <a:pt x="93" y="82"/>
                </a:cubicBezTo>
                <a:cubicBezTo>
                  <a:pt x="89" y="85"/>
                  <a:pt x="86" y="77"/>
                  <a:pt x="83" y="79"/>
                </a:cubicBezTo>
                <a:cubicBezTo>
                  <a:pt x="80" y="81"/>
                  <a:pt x="75" y="99"/>
                  <a:pt x="72" y="97"/>
                </a:cubicBezTo>
                <a:cubicBezTo>
                  <a:pt x="69" y="95"/>
                  <a:pt x="68" y="72"/>
                  <a:pt x="62" y="67"/>
                </a:cubicBezTo>
                <a:cubicBezTo>
                  <a:pt x="56" y="62"/>
                  <a:pt x="43" y="68"/>
                  <a:pt x="38" y="67"/>
                </a:cubicBezTo>
                <a:cubicBezTo>
                  <a:pt x="33" y="66"/>
                  <a:pt x="37" y="62"/>
                  <a:pt x="32" y="59"/>
                </a:cubicBezTo>
                <a:cubicBezTo>
                  <a:pt x="27" y="56"/>
                  <a:pt x="10" y="53"/>
                  <a:pt x="5" y="47"/>
                </a:cubicBezTo>
                <a:cubicBezTo>
                  <a:pt x="0" y="41"/>
                  <a:pt x="0" y="25"/>
                  <a:pt x="3" y="23"/>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Picture 51" descr="nazi"/>
          <p:cNvPicPr/>
          <p:nvPr/>
        </p:nvPicPr>
        <p:blipFill>
          <a:blip r:embed="rId22"/>
          <a:stretch/>
        </p:blipFill>
        <p:spPr>
          <a:xfrm>
            <a:off x="4525920" y="1479600"/>
            <a:ext cx="182520" cy="108000"/>
          </a:xfrm>
          <a:prstGeom prst="rect">
            <a:avLst/>
          </a:prstGeom>
          <a:ln w="0">
            <a:noFill/>
          </a:ln>
        </p:spPr>
      </p:pic>
      <p:sp>
        <p:nvSpPr>
          <p:cNvPr id="87" name="Freeform 52"/>
          <p:cNvSpPr/>
          <p:nvPr/>
        </p:nvSpPr>
        <p:spPr>
          <a:xfrm>
            <a:off x="4222800" y="23760"/>
            <a:ext cx="1033560" cy="1042920"/>
          </a:xfrm>
          <a:custGeom>
            <a:avLst/>
            <a:gdLst>
              <a:gd name="textAreaLeft" fmla="*/ 0 w 1033560"/>
              <a:gd name="textAreaRight" fmla="*/ 1033920 w 1033560"/>
              <a:gd name="textAreaTop" fmla="*/ 0 h 1042920"/>
              <a:gd name="textAreaBottom" fmla="*/ 1043280 h 1042920"/>
            </a:gdLst>
            <a:ahLst/>
            <a:rect l="textAreaLeft" t="textAreaTop" r="textAreaRight" b="textAreaBottom"/>
            <a:pathLst>
              <a:path w="651" h="657">
                <a:moveTo>
                  <a:pt x="73" y="2"/>
                </a:moveTo>
                <a:lnTo>
                  <a:pt x="610" y="0"/>
                </a:lnTo>
                <a:lnTo>
                  <a:pt x="612" y="27"/>
                </a:lnTo>
                <a:cubicBezTo>
                  <a:pt x="612" y="41"/>
                  <a:pt x="616" y="68"/>
                  <a:pt x="613" y="83"/>
                </a:cubicBezTo>
                <a:cubicBezTo>
                  <a:pt x="610" y="98"/>
                  <a:pt x="588" y="104"/>
                  <a:pt x="592" y="119"/>
                </a:cubicBezTo>
                <a:cubicBezTo>
                  <a:pt x="596" y="134"/>
                  <a:pt x="630" y="161"/>
                  <a:pt x="639" y="176"/>
                </a:cubicBezTo>
                <a:cubicBezTo>
                  <a:pt x="648" y="191"/>
                  <a:pt x="651" y="202"/>
                  <a:pt x="648" y="212"/>
                </a:cubicBezTo>
                <a:cubicBezTo>
                  <a:pt x="645" y="222"/>
                  <a:pt x="629" y="225"/>
                  <a:pt x="621" y="234"/>
                </a:cubicBezTo>
                <a:cubicBezTo>
                  <a:pt x="613" y="243"/>
                  <a:pt x="600" y="252"/>
                  <a:pt x="600" y="266"/>
                </a:cubicBezTo>
                <a:cubicBezTo>
                  <a:pt x="600" y="280"/>
                  <a:pt x="626" y="307"/>
                  <a:pt x="624" y="320"/>
                </a:cubicBezTo>
                <a:cubicBezTo>
                  <a:pt x="622" y="333"/>
                  <a:pt x="593" y="336"/>
                  <a:pt x="588" y="347"/>
                </a:cubicBezTo>
                <a:cubicBezTo>
                  <a:pt x="583" y="358"/>
                  <a:pt x="599" y="374"/>
                  <a:pt x="592" y="386"/>
                </a:cubicBezTo>
                <a:cubicBezTo>
                  <a:pt x="585" y="398"/>
                  <a:pt x="559" y="405"/>
                  <a:pt x="547" y="417"/>
                </a:cubicBezTo>
                <a:cubicBezTo>
                  <a:pt x="535" y="429"/>
                  <a:pt x="523" y="442"/>
                  <a:pt x="520" y="456"/>
                </a:cubicBezTo>
                <a:cubicBezTo>
                  <a:pt x="517" y="470"/>
                  <a:pt x="530" y="487"/>
                  <a:pt x="526" y="500"/>
                </a:cubicBezTo>
                <a:cubicBezTo>
                  <a:pt x="522" y="513"/>
                  <a:pt x="512" y="540"/>
                  <a:pt x="495" y="537"/>
                </a:cubicBezTo>
                <a:cubicBezTo>
                  <a:pt x="478" y="534"/>
                  <a:pt x="439" y="489"/>
                  <a:pt x="426" y="482"/>
                </a:cubicBezTo>
                <a:cubicBezTo>
                  <a:pt x="413" y="475"/>
                  <a:pt x="417" y="492"/>
                  <a:pt x="414" y="495"/>
                </a:cubicBezTo>
                <a:cubicBezTo>
                  <a:pt x="411" y="498"/>
                  <a:pt x="408" y="499"/>
                  <a:pt x="405" y="503"/>
                </a:cubicBezTo>
                <a:cubicBezTo>
                  <a:pt x="402" y="507"/>
                  <a:pt x="402" y="516"/>
                  <a:pt x="399" y="521"/>
                </a:cubicBezTo>
                <a:cubicBezTo>
                  <a:pt x="396" y="526"/>
                  <a:pt x="394" y="529"/>
                  <a:pt x="388" y="531"/>
                </a:cubicBezTo>
                <a:cubicBezTo>
                  <a:pt x="382" y="533"/>
                  <a:pt x="369" y="537"/>
                  <a:pt x="361" y="536"/>
                </a:cubicBezTo>
                <a:cubicBezTo>
                  <a:pt x="353" y="535"/>
                  <a:pt x="346" y="525"/>
                  <a:pt x="340" y="525"/>
                </a:cubicBezTo>
                <a:cubicBezTo>
                  <a:pt x="334" y="525"/>
                  <a:pt x="328" y="529"/>
                  <a:pt x="325" y="534"/>
                </a:cubicBezTo>
                <a:cubicBezTo>
                  <a:pt x="322" y="539"/>
                  <a:pt x="324" y="550"/>
                  <a:pt x="321" y="554"/>
                </a:cubicBezTo>
                <a:cubicBezTo>
                  <a:pt x="318" y="558"/>
                  <a:pt x="310" y="554"/>
                  <a:pt x="307" y="557"/>
                </a:cubicBezTo>
                <a:cubicBezTo>
                  <a:pt x="304" y="560"/>
                  <a:pt x="307" y="564"/>
                  <a:pt x="301" y="573"/>
                </a:cubicBezTo>
                <a:cubicBezTo>
                  <a:pt x="295" y="582"/>
                  <a:pt x="278" y="602"/>
                  <a:pt x="268" y="609"/>
                </a:cubicBezTo>
                <a:cubicBezTo>
                  <a:pt x="258" y="616"/>
                  <a:pt x="250" y="611"/>
                  <a:pt x="241" y="617"/>
                </a:cubicBezTo>
                <a:cubicBezTo>
                  <a:pt x="232" y="623"/>
                  <a:pt x="225" y="640"/>
                  <a:pt x="216" y="645"/>
                </a:cubicBezTo>
                <a:cubicBezTo>
                  <a:pt x="207" y="650"/>
                  <a:pt x="195" y="645"/>
                  <a:pt x="186" y="647"/>
                </a:cubicBezTo>
                <a:cubicBezTo>
                  <a:pt x="177" y="649"/>
                  <a:pt x="169" y="657"/>
                  <a:pt x="160" y="657"/>
                </a:cubicBezTo>
                <a:cubicBezTo>
                  <a:pt x="151" y="657"/>
                  <a:pt x="142" y="649"/>
                  <a:pt x="133" y="647"/>
                </a:cubicBezTo>
                <a:cubicBezTo>
                  <a:pt x="124" y="645"/>
                  <a:pt x="110" y="649"/>
                  <a:pt x="105" y="647"/>
                </a:cubicBezTo>
                <a:cubicBezTo>
                  <a:pt x="100" y="645"/>
                  <a:pt x="102" y="635"/>
                  <a:pt x="99" y="633"/>
                </a:cubicBezTo>
                <a:cubicBezTo>
                  <a:pt x="96" y="631"/>
                  <a:pt x="91" y="639"/>
                  <a:pt x="87" y="638"/>
                </a:cubicBezTo>
                <a:cubicBezTo>
                  <a:pt x="83" y="637"/>
                  <a:pt x="74" y="630"/>
                  <a:pt x="72" y="624"/>
                </a:cubicBezTo>
                <a:cubicBezTo>
                  <a:pt x="70" y="618"/>
                  <a:pt x="78" y="609"/>
                  <a:pt x="73" y="603"/>
                </a:cubicBezTo>
                <a:cubicBezTo>
                  <a:pt x="68" y="597"/>
                  <a:pt x="53" y="603"/>
                  <a:pt x="42" y="588"/>
                </a:cubicBezTo>
                <a:cubicBezTo>
                  <a:pt x="31" y="573"/>
                  <a:pt x="11" y="531"/>
                  <a:pt x="7" y="512"/>
                </a:cubicBezTo>
                <a:cubicBezTo>
                  <a:pt x="3" y="493"/>
                  <a:pt x="10" y="479"/>
                  <a:pt x="15" y="473"/>
                </a:cubicBezTo>
                <a:cubicBezTo>
                  <a:pt x="20" y="467"/>
                  <a:pt x="33" y="478"/>
                  <a:pt x="36" y="477"/>
                </a:cubicBezTo>
                <a:cubicBezTo>
                  <a:pt x="39" y="476"/>
                  <a:pt x="40" y="471"/>
                  <a:pt x="36" y="464"/>
                </a:cubicBezTo>
                <a:cubicBezTo>
                  <a:pt x="32" y="457"/>
                  <a:pt x="18" y="445"/>
                  <a:pt x="12" y="435"/>
                </a:cubicBezTo>
                <a:cubicBezTo>
                  <a:pt x="6" y="425"/>
                  <a:pt x="0" y="410"/>
                  <a:pt x="1" y="402"/>
                </a:cubicBezTo>
                <a:cubicBezTo>
                  <a:pt x="2" y="394"/>
                  <a:pt x="14" y="395"/>
                  <a:pt x="15" y="389"/>
                </a:cubicBezTo>
                <a:cubicBezTo>
                  <a:pt x="16" y="383"/>
                  <a:pt x="10" y="372"/>
                  <a:pt x="10" y="365"/>
                </a:cubicBezTo>
                <a:cubicBezTo>
                  <a:pt x="10" y="358"/>
                  <a:pt x="19" y="352"/>
                  <a:pt x="18" y="345"/>
                </a:cubicBezTo>
                <a:cubicBezTo>
                  <a:pt x="17" y="338"/>
                  <a:pt x="4" y="328"/>
                  <a:pt x="4" y="323"/>
                </a:cubicBezTo>
                <a:cubicBezTo>
                  <a:pt x="4" y="318"/>
                  <a:pt x="9" y="317"/>
                  <a:pt x="16" y="314"/>
                </a:cubicBezTo>
                <a:cubicBezTo>
                  <a:pt x="23" y="311"/>
                  <a:pt x="48" y="315"/>
                  <a:pt x="48" y="308"/>
                </a:cubicBezTo>
                <a:cubicBezTo>
                  <a:pt x="48" y="301"/>
                  <a:pt x="16" y="280"/>
                  <a:pt x="15" y="273"/>
                </a:cubicBezTo>
                <a:cubicBezTo>
                  <a:pt x="14" y="266"/>
                  <a:pt x="39" y="269"/>
                  <a:pt x="45" y="266"/>
                </a:cubicBezTo>
                <a:cubicBezTo>
                  <a:pt x="51" y="263"/>
                  <a:pt x="51" y="255"/>
                  <a:pt x="54" y="252"/>
                </a:cubicBezTo>
                <a:cubicBezTo>
                  <a:pt x="57" y="249"/>
                  <a:pt x="60" y="254"/>
                  <a:pt x="66" y="246"/>
                </a:cubicBezTo>
                <a:cubicBezTo>
                  <a:pt x="72" y="238"/>
                  <a:pt x="90" y="212"/>
                  <a:pt x="91" y="206"/>
                </a:cubicBezTo>
                <a:cubicBezTo>
                  <a:pt x="92" y="200"/>
                  <a:pt x="78" y="207"/>
                  <a:pt x="72" y="212"/>
                </a:cubicBezTo>
                <a:cubicBezTo>
                  <a:pt x="66" y="217"/>
                  <a:pt x="59" y="231"/>
                  <a:pt x="54" y="233"/>
                </a:cubicBezTo>
                <a:cubicBezTo>
                  <a:pt x="49" y="235"/>
                  <a:pt x="40" y="237"/>
                  <a:pt x="39" y="225"/>
                </a:cubicBezTo>
                <a:cubicBezTo>
                  <a:pt x="38" y="213"/>
                  <a:pt x="38" y="169"/>
                  <a:pt x="46" y="159"/>
                </a:cubicBezTo>
                <a:cubicBezTo>
                  <a:pt x="54" y="149"/>
                  <a:pt x="77" y="167"/>
                  <a:pt x="87" y="167"/>
                </a:cubicBezTo>
                <a:cubicBezTo>
                  <a:pt x="97" y="167"/>
                  <a:pt x="103" y="161"/>
                  <a:pt x="106" y="158"/>
                </a:cubicBezTo>
                <a:cubicBezTo>
                  <a:pt x="109" y="155"/>
                  <a:pt x="115" y="149"/>
                  <a:pt x="108" y="147"/>
                </a:cubicBezTo>
                <a:cubicBezTo>
                  <a:pt x="101" y="145"/>
                  <a:pt x="72" y="145"/>
                  <a:pt x="63" y="143"/>
                </a:cubicBezTo>
                <a:cubicBezTo>
                  <a:pt x="54" y="141"/>
                  <a:pt x="55" y="139"/>
                  <a:pt x="54" y="132"/>
                </a:cubicBezTo>
                <a:cubicBezTo>
                  <a:pt x="53" y="125"/>
                  <a:pt x="55" y="110"/>
                  <a:pt x="58" y="101"/>
                </a:cubicBezTo>
                <a:cubicBezTo>
                  <a:pt x="61" y="92"/>
                  <a:pt x="69" y="82"/>
                  <a:pt x="70" y="75"/>
                </a:cubicBezTo>
                <a:cubicBezTo>
                  <a:pt x="71" y="68"/>
                  <a:pt x="66" y="61"/>
                  <a:pt x="67" y="57"/>
                </a:cubicBezTo>
                <a:cubicBezTo>
                  <a:pt x="68" y="53"/>
                  <a:pt x="71" y="52"/>
                  <a:pt x="78" y="50"/>
                </a:cubicBezTo>
                <a:cubicBezTo>
                  <a:pt x="85" y="48"/>
                  <a:pt x="102" y="45"/>
                  <a:pt x="112" y="47"/>
                </a:cubicBezTo>
                <a:cubicBezTo>
                  <a:pt x="122" y="49"/>
                  <a:pt x="131" y="60"/>
                  <a:pt x="141" y="63"/>
                </a:cubicBezTo>
                <a:cubicBezTo>
                  <a:pt x="151" y="66"/>
                  <a:pt x="174" y="65"/>
                  <a:pt x="172" y="62"/>
                </a:cubicBezTo>
                <a:cubicBezTo>
                  <a:pt x="170" y="59"/>
                  <a:pt x="144" y="51"/>
                  <a:pt x="129" y="45"/>
                </a:cubicBezTo>
                <a:cubicBezTo>
                  <a:pt x="114" y="39"/>
                  <a:pt x="90" y="31"/>
                  <a:pt x="81" y="24"/>
                </a:cubicBezTo>
                <a:lnTo>
                  <a:pt x="73" y="2"/>
                </a:ln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53" descr="nazi"/>
          <p:cNvPicPr/>
          <p:nvPr/>
        </p:nvPicPr>
        <p:blipFill>
          <a:blip r:embed="rId23"/>
          <a:stretch/>
        </p:blipFill>
        <p:spPr>
          <a:xfrm>
            <a:off x="4818240" y="463680"/>
            <a:ext cx="182520" cy="108000"/>
          </a:xfrm>
          <a:prstGeom prst="rect">
            <a:avLst/>
          </a:prstGeom>
          <a:ln w="0">
            <a:noFill/>
          </a:ln>
        </p:spPr>
      </p:pic>
      <p:sp>
        <p:nvSpPr>
          <p:cNvPr id="89" name="Freeform 54"/>
          <p:cNvSpPr/>
          <p:nvPr/>
        </p:nvSpPr>
        <p:spPr>
          <a:xfrm>
            <a:off x="4827600" y="809640"/>
            <a:ext cx="77760" cy="245880"/>
          </a:xfrm>
          <a:custGeom>
            <a:avLst/>
            <a:gdLst>
              <a:gd name="textAreaLeft" fmla="*/ 0 w 77760"/>
              <a:gd name="textAreaRight" fmla="*/ 78120 w 77760"/>
              <a:gd name="textAreaTop" fmla="*/ 0 h 245880"/>
              <a:gd name="textAreaBottom" fmla="*/ 246240 h 245880"/>
            </a:gdLst>
            <a:ahLst/>
            <a:rect l="textAreaLeft" t="textAreaTop" r="textAreaRight" b="textAreaBottom"/>
            <a:pathLst>
              <a:path w="49" h="155">
                <a:moveTo>
                  <a:pt x="0" y="155"/>
                </a:moveTo>
                <a:cubicBezTo>
                  <a:pt x="6" y="144"/>
                  <a:pt x="29" y="112"/>
                  <a:pt x="37" y="86"/>
                </a:cubicBezTo>
                <a:cubicBezTo>
                  <a:pt x="45" y="60"/>
                  <a:pt x="47" y="18"/>
                  <a:pt x="49"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55"/>
          <p:cNvSpPr/>
          <p:nvPr/>
        </p:nvSpPr>
        <p:spPr>
          <a:xfrm>
            <a:off x="4522680" y="1025640"/>
            <a:ext cx="77760" cy="245880"/>
          </a:xfrm>
          <a:custGeom>
            <a:avLst/>
            <a:gdLst>
              <a:gd name="textAreaLeft" fmla="*/ 0 w 77760"/>
              <a:gd name="textAreaRight" fmla="*/ 78120 w 77760"/>
              <a:gd name="textAreaTop" fmla="*/ 0 h 245880"/>
              <a:gd name="textAreaBottom" fmla="*/ 246240 h 245880"/>
            </a:gdLst>
            <a:ahLst/>
            <a:rect l="textAreaLeft" t="textAreaTop" r="textAreaRight" b="textAreaBottom"/>
            <a:pathLst>
              <a:path w="49" h="155">
                <a:moveTo>
                  <a:pt x="0" y="155"/>
                </a:moveTo>
                <a:cubicBezTo>
                  <a:pt x="6" y="144"/>
                  <a:pt x="29" y="112"/>
                  <a:pt x="37" y="86"/>
                </a:cubicBezTo>
                <a:cubicBezTo>
                  <a:pt x="45" y="60"/>
                  <a:pt x="47" y="18"/>
                  <a:pt x="49"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56"/>
          <p:cNvSpPr/>
          <p:nvPr/>
        </p:nvSpPr>
        <p:spPr>
          <a:xfrm>
            <a:off x="4043520" y="58680"/>
            <a:ext cx="163440" cy="282600"/>
          </a:xfrm>
          <a:custGeom>
            <a:avLst/>
            <a:gdLst>
              <a:gd name="textAreaLeft" fmla="*/ 0 w 163440"/>
              <a:gd name="textAreaRight" fmla="*/ 163800 w 163440"/>
              <a:gd name="textAreaTop" fmla="*/ 0 h 282600"/>
              <a:gd name="textAreaBottom" fmla="*/ 282960 h 282600"/>
            </a:gdLst>
            <a:ahLst/>
            <a:rect l="textAreaLeft" t="textAreaTop" r="textAreaRight" b="textAreaBottom"/>
            <a:pathLst>
              <a:path w="103" h="178">
                <a:moveTo>
                  <a:pt x="0" y="178"/>
                </a:moveTo>
                <a:cubicBezTo>
                  <a:pt x="5" y="162"/>
                  <a:pt x="16" y="112"/>
                  <a:pt x="33" y="82"/>
                </a:cubicBezTo>
                <a:cubicBezTo>
                  <a:pt x="50" y="52"/>
                  <a:pt x="89" y="17"/>
                  <a:pt x="103"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57"/>
          <p:cNvSpPr/>
          <p:nvPr/>
        </p:nvSpPr>
        <p:spPr>
          <a:xfrm>
            <a:off x="4032360" y="428760"/>
            <a:ext cx="198360" cy="350640"/>
          </a:xfrm>
          <a:custGeom>
            <a:avLst/>
            <a:gdLst>
              <a:gd name="textAreaLeft" fmla="*/ 0 w 198360"/>
              <a:gd name="textAreaRight" fmla="*/ 198720 w 198360"/>
              <a:gd name="textAreaTop" fmla="*/ 0 h 350640"/>
              <a:gd name="textAreaBottom" fmla="*/ 351000 h 350640"/>
            </a:gdLst>
            <a:ahLst/>
            <a:rect l="textAreaLeft" t="textAreaTop" r="textAreaRight" b="textAreaBottom"/>
            <a:pathLst>
              <a:path w="125" h="221">
                <a:moveTo>
                  <a:pt x="13" y="221"/>
                </a:moveTo>
                <a:cubicBezTo>
                  <a:pt x="14" y="198"/>
                  <a:pt x="0" y="120"/>
                  <a:pt x="19" y="83"/>
                </a:cubicBezTo>
                <a:cubicBezTo>
                  <a:pt x="38" y="46"/>
                  <a:pt x="103" y="17"/>
                  <a:pt x="125"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78"/>
          <p:cNvGrpSpPr/>
          <p:nvPr/>
        </p:nvGrpSpPr>
        <p:grpSpPr>
          <a:xfrm>
            <a:off x="3852720" y="3078000"/>
            <a:ext cx="261720" cy="451080"/>
            <a:chOff x="3852720" y="3078000"/>
            <a:chExt cx="261720" cy="451080"/>
          </a:xfrm>
        </p:grpSpPr>
        <p:sp>
          <p:nvSpPr>
            <p:cNvPr id="94" name="Freeform 59"/>
            <p:cNvSpPr/>
            <p:nvPr/>
          </p:nvSpPr>
          <p:spPr>
            <a:xfrm>
              <a:off x="3852720" y="3095640"/>
              <a:ext cx="250920" cy="433440"/>
            </a:xfrm>
            <a:custGeom>
              <a:avLst/>
              <a:gdLst>
                <a:gd name="textAreaLeft" fmla="*/ 0 w 250920"/>
                <a:gd name="textAreaRight" fmla="*/ 250920 w 250920"/>
                <a:gd name="textAreaTop" fmla="*/ 0 h 433440"/>
                <a:gd name="textAreaBottom" fmla="*/ 433800 h 433440"/>
              </a:gdLst>
              <a:ahLst/>
              <a:rect l="textAreaLeft" t="textAreaTop" r="textAreaRight" b="textAreaBottom"/>
              <a:pathLst>
                <a:path w="158" h="273">
                  <a:moveTo>
                    <a:pt x="0" y="0"/>
                  </a:moveTo>
                  <a:lnTo>
                    <a:pt x="44" y="36"/>
                  </a:lnTo>
                  <a:lnTo>
                    <a:pt x="158" y="61"/>
                  </a:lnTo>
                  <a:lnTo>
                    <a:pt x="84" y="157"/>
                  </a:lnTo>
                  <a:lnTo>
                    <a:pt x="81" y="273"/>
                  </a:lnTo>
                </a:path>
              </a:pathLst>
            </a:custGeom>
            <a:noFill/>
            <a:ln w="1908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60"/>
            <p:cNvSpPr/>
            <p:nvPr/>
          </p:nvSpPr>
          <p:spPr>
            <a:xfrm flipH="1">
              <a:off x="3865320" y="307800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 name="Line 61"/>
            <p:cNvSpPr/>
            <p:nvPr/>
          </p:nvSpPr>
          <p:spPr>
            <a:xfrm flipH="1">
              <a:off x="3885840" y="309708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 name="Line 62"/>
            <p:cNvSpPr/>
            <p:nvPr/>
          </p:nvSpPr>
          <p:spPr>
            <a:xfrm flipH="1">
              <a:off x="3908160" y="3119400"/>
              <a:ext cx="14400" cy="22320"/>
            </a:xfrm>
            <a:prstGeom prst="line">
              <a:avLst/>
            </a:prstGeom>
            <a:ln w="12600">
              <a:solidFill>
                <a:srgbClr val="000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8" name="Line 63"/>
            <p:cNvSpPr/>
            <p:nvPr/>
          </p:nvSpPr>
          <p:spPr>
            <a:xfrm flipH="1">
              <a:off x="3950640" y="313380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9" name="Line 64"/>
            <p:cNvSpPr/>
            <p:nvPr/>
          </p:nvSpPr>
          <p:spPr>
            <a:xfrm flipH="1">
              <a:off x="3979440" y="314316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 name="Line 65"/>
            <p:cNvSpPr/>
            <p:nvPr/>
          </p:nvSpPr>
          <p:spPr>
            <a:xfrm flipH="1">
              <a:off x="4012560" y="314784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 name="Line 66"/>
            <p:cNvSpPr/>
            <p:nvPr/>
          </p:nvSpPr>
          <p:spPr>
            <a:xfrm flipH="1">
              <a:off x="4049280" y="3154320"/>
              <a:ext cx="468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 name="Line 67"/>
            <p:cNvSpPr/>
            <p:nvPr/>
          </p:nvSpPr>
          <p:spPr>
            <a:xfrm flipH="1">
              <a:off x="4079520" y="3162240"/>
              <a:ext cx="5040" cy="23760"/>
            </a:xfrm>
            <a:prstGeom prst="line">
              <a:avLst/>
            </a:prstGeom>
            <a:ln w="12600">
              <a:solidFill>
                <a:srgbClr val="000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 name="Line 68"/>
            <p:cNvSpPr/>
            <p:nvPr/>
          </p:nvSpPr>
          <p:spPr>
            <a:xfrm>
              <a:off x="4084560" y="3203640"/>
              <a:ext cx="2988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 name="Line 69"/>
            <p:cNvSpPr/>
            <p:nvPr/>
          </p:nvSpPr>
          <p:spPr>
            <a:xfrm>
              <a:off x="4065480" y="323208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 name="Line 70"/>
            <p:cNvSpPr/>
            <p:nvPr/>
          </p:nvSpPr>
          <p:spPr>
            <a:xfrm>
              <a:off x="4044600" y="326052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6" name="Line 71"/>
            <p:cNvSpPr/>
            <p:nvPr/>
          </p:nvSpPr>
          <p:spPr>
            <a:xfrm>
              <a:off x="4024080" y="328284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 name="Line 72"/>
            <p:cNvSpPr/>
            <p:nvPr/>
          </p:nvSpPr>
          <p:spPr>
            <a:xfrm>
              <a:off x="4008240" y="3308400"/>
              <a:ext cx="30240" cy="19080"/>
            </a:xfrm>
            <a:prstGeom prst="line">
              <a:avLst/>
            </a:prstGeom>
            <a:ln w="1260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 name="Line 73"/>
            <p:cNvSpPr/>
            <p:nvPr/>
          </p:nvSpPr>
          <p:spPr>
            <a:xfrm flipV="1">
              <a:off x="3976560" y="336708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74"/>
            <p:cNvSpPr/>
            <p:nvPr/>
          </p:nvSpPr>
          <p:spPr>
            <a:xfrm flipV="1">
              <a:off x="3976560" y="340200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Line 75"/>
            <p:cNvSpPr/>
            <p:nvPr/>
          </p:nvSpPr>
          <p:spPr>
            <a:xfrm flipV="1">
              <a:off x="3976560" y="3430080"/>
              <a:ext cx="39600" cy="1800"/>
            </a:xfrm>
            <a:prstGeom prst="line">
              <a:avLst/>
            </a:prstGeom>
            <a:ln w="1260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Line 76"/>
            <p:cNvSpPr/>
            <p:nvPr/>
          </p:nvSpPr>
          <p:spPr>
            <a:xfrm flipV="1">
              <a:off x="3976560" y="346068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Line 77"/>
            <p:cNvSpPr/>
            <p:nvPr/>
          </p:nvSpPr>
          <p:spPr>
            <a:xfrm flipV="1">
              <a:off x="3976560" y="3498840"/>
              <a:ext cx="39600" cy="1440"/>
            </a:xfrm>
            <a:prstGeom prst="line">
              <a:avLst/>
            </a:prstGeom>
            <a:ln w="1260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pic>
        <p:nvPicPr>
          <p:cNvPr id="113" name="Picture 79" descr="French flag"/>
          <p:cNvPicPr/>
          <p:nvPr/>
        </p:nvPicPr>
        <p:blipFill>
          <a:blip r:embed="rId24"/>
          <a:stretch/>
        </p:blipFill>
        <p:spPr>
          <a:xfrm>
            <a:off x="3610080" y="3056040"/>
            <a:ext cx="133200" cy="88920"/>
          </a:xfrm>
          <a:prstGeom prst="rect">
            <a:avLst/>
          </a:prstGeom>
          <a:ln w="12600">
            <a:solidFill>
              <a:srgbClr val="0000ff"/>
            </a:solidFill>
            <a:miter/>
          </a:ln>
        </p:spPr>
      </p:pic>
      <p:pic>
        <p:nvPicPr>
          <p:cNvPr id="114" name="Picture 80" descr="nazi"/>
          <p:cNvPicPr/>
          <p:nvPr/>
        </p:nvPicPr>
        <p:blipFill>
          <a:blip r:embed="rId25"/>
          <a:stretch/>
        </p:blipFill>
        <p:spPr>
          <a:xfrm>
            <a:off x="3959280" y="2884320"/>
            <a:ext cx="220680" cy="131760"/>
          </a:xfrm>
          <a:prstGeom prst="rect">
            <a:avLst/>
          </a:prstGeom>
          <a:ln w="12600">
            <a:solidFill>
              <a:srgbClr val="000000"/>
            </a:solidFill>
            <a:miter/>
          </a:ln>
        </p:spPr>
      </p:pic>
      <p:pic>
        <p:nvPicPr>
          <p:cNvPr id="115" name="Picture 81" descr="nazi"/>
          <p:cNvPicPr/>
          <p:nvPr/>
        </p:nvPicPr>
        <p:blipFill>
          <a:blip r:embed="rId26"/>
          <a:stretch/>
        </p:blipFill>
        <p:spPr>
          <a:xfrm>
            <a:off x="4157640" y="3059280"/>
            <a:ext cx="146160" cy="87120"/>
          </a:xfrm>
          <a:prstGeom prst="rect">
            <a:avLst/>
          </a:prstGeom>
          <a:ln w="12600">
            <a:solidFill>
              <a:srgbClr val="000000"/>
            </a:solidFill>
            <a:miter/>
          </a:ln>
        </p:spPr>
      </p:pic>
      <p:pic>
        <p:nvPicPr>
          <p:cNvPr id="116" name="Picture 82" descr="nazi"/>
          <p:cNvPicPr/>
          <p:nvPr/>
        </p:nvPicPr>
        <p:blipFill>
          <a:blip r:embed="rId27"/>
          <a:stretch/>
        </p:blipFill>
        <p:spPr>
          <a:xfrm>
            <a:off x="4008600" y="2533680"/>
            <a:ext cx="145800" cy="87120"/>
          </a:xfrm>
          <a:prstGeom prst="rect">
            <a:avLst/>
          </a:prstGeom>
          <a:ln w="12600">
            <a:solidFill>
              <a:srgbClr val="000000"/>
            </a:solidFill>
            <a:miter/>
          </a:ln>
        </p:spPr>
      </p:pic>
      <p:pic>
        <p:nvPicPr>
          <p:cNvPr id="117" name="Picture 83" descr="union-jack"/>
          <p:cNvPicPr/>
          <p:nvPr/>
        </p:nvPicPr>
        <p:blipFill>
          <a:blip r:embed="rId28"/>
          <a:stretch/>
        </p:blipFill>
        <p:spPr>
          <a:xfrm>
            <a:off x="3338640" y="2778120"/>
            <a:ext cx="163440" cy="74520"/>
          </a:xfrm>
          <a:prstGeom prst="rect">
            <a:avLst/>
          </a:prstGeom>
          <a:ln w="12600">
            <a:solidFill>
              <a:srgbClr val="0000ff"/>
            </a:solidFill>
            <a:miter/>
          </a:ln>
        </p:spPr>
      </p:pic>
      <p:pic>
        <p:nvPicPr>
          <p:cNvPr id="118" name="Picture 84" descr="French flag"/>
          <p:cNvPicPr/>
          <p:nvPr/>
        </p:nvPicPr>
        <p:blipFill>
          <a:blip r:embed="rId29"/>
          <a:stretch/>
        </p:blipFill>
        <p:spPr>
          <a:xfrm>
            <a:off x="3478320" y="2901960"/>
            <a:ext cx="133200" cy="88920"/>
          </a:xfrm>
          <a:prstGeom prst="rect">
            <a:avLst/>
          </a:prstGeom>
          <a:ln w="12600">
            <a:solidFill>
              <a:srgbClr val="0000ff"/>
            </a:solidFill>
            <a:miter/>
          </a:ln>
        </p:spPr>
      </p:pic>
      <p:pic>
        <p:nvPicPr>
          <p:cNvPr id="119" name="Picture 85" descr="French flag"/>
          <p:cNvPicPr/>
          <p:nvPr/>
        </p:nvPicPr>
        <p:blipFill>
          <a:blip r:embed="rId30"/>
          <a:stretch/>
        </p:blipFill>
        <p:spPr>
          <a:xfrm>
            <a:off x="3833640" y="3213000"/>
            <a:ext cx="133560" cy="88920"/>
          </a:xfrm>
          <a:prstGeom prst="rect">
            <a:avLst/>
          </a:prstGeom>
          <a:ln w="12600">
            <a:solidFill>
              <a:srgbClr val="0000ff"/>
            </a:solidFill>
            <a:miter/>
          </a:ln>
        </p:spPr>
      </p:pic>
      <p:sp>
        <p:nvSpPr>
          <p:cNvPr id="120" name="Freeform 86"/>
          <p:cNvSpPr/>
          <p:nvPr/>
        </p:nvSpPr>
        <p:spPr>
          <a:xfrm>
            <a:off x="3311640" y="2712960"/>
            <a:ext cx="623880" cy="258840"/>
          </a:xfrm>
          <a:custGeom>
            <a:avLst/>
            <a:gdLst>
              <a:gd name="textAreaLeft" fmla="*/ 0 w 623880"/>
              <a:gd name="textAreaRight" fmla="*/ 624240 w 623880"/>
              <a:gd name="textAreaTop" fmla="*/ 0 h 258840"/>
              <a:gd name="textAreaBottom" fmla="*/ 259200 h 258840"/>
            </a:gdLst>
            <a:ahLst/>
            <a:rect l="textAreaLeft" t="textAreaTop" r="textAreaRight" b="textAreaBottom"/>
            <a:pathLst>
              <a:path w="396" h="196">
                <a:moveTo>
                  <a:pt x="396" y="196"/>
                </a:moveTo>
                <a:cubicBezTo>
                  <a:pt x="360" y="190"/>
                  <a:pt x="243" y="193"/>
                  <a:pt x="177" y="160"/>
                </a:cubicBezTo>
                <a:cubicBezTo>
                  <a:pt x="111" y="127"/>
                  <a:pt x="37" y="33"/>
                  <a:pt x="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 name="Picture 88" descr="French flag"/>
          <p:cNvPicPr/>
          <p:nvPr/>
        </p:nvPicPr>
        <p:blipFill>
          <a:blip r:embed="rId31"/>
          <a:stretch/>
        </p:blipFill>
        <p:spPr>
          <a:xfrm>
            <a:off x="3032280" y="3995640"/>
            <a:ext cx="249120" cy="166680"/>
          </a:xfrm>
          <a:prstGeom prst="rect">
            <a:avLst/>
          </a:prstGeom>
          <a:ln w="0">
            <a:noFill/>
          </a:ln>
        </p:spPr>
      </p:pic>
      <p:pic>
        <p:nvPicPr>
          <p:cNvPr id="122" name="Picture 89" descr="nazi"/>
          <p:cNvPicPr/>
          <p:nvPr/>
        </p:nvPicPr>
        <p:blipFill>
          <a:blip r:embed="rId32"/>
          <a:stretch/>
        </p:blipFill>
        <p:spPr>
          <a:xfrm>
            <a:off x="3132000" y="3220920"/>
            <a:ext cx="292320" cy="174600"/>
          </a:xfrm>
          <a:prstGeom prst="rect">
            <a:avLst/>
          </a:prstGeom>
          <a:ln w="0">
            <a:noFill/>
          </a:ln>
        </p:spPr>
      </p:pic>
      <p:pic>
        <p:nvPicPr>
          <p:cNvPr id="123" name="Picture 91" descr="French flag"/>
          <p:cNvPicPr/>
          <p:nvPr/>
        </p:nvPicPr>
        <p:blipFill>
          <a:blip r:embed="rId33"/>
          <a:stretch/>
        </p:blipFill>
        <p:spPr>
          <a:xfrm>
            <a:off x="2614680" y="6284880"/>
            <a:ext cx="249120" cy="166680"/>
          </a:xfrm>
          <a:prstGeom prst="rect">
            <a:avLst/>
          </a:prstGeom>
          <a:ln w="0">
            <a:noFill/>
          </a:ln>
        </p:spPr>
      </p:pic>
      <p:sp>
        <p:nvSpPr>
          <p:cNvPr id="124" name="Freeform 159"/>
          <p:cNvSpPr/>
          <p:nvPr/>
        </p:nvSpPr>
        <p:spPr>
          <a:xfrm rot="21453600">
            <a:off x="4213080" y="1115640"/>
            <a:ext cx="324000" cy="182520"/>
          </a:xfrm>
          <a:custGeom>
            <a:avLst/>
            <a:gdLst>
              <a:gd name="textAreaLeft" fmla="*/ 0 w 324000"/>
              <a:gd name="textAreaRight" fmla="*/ 324360 w 324000"/>
              <a:gd name="textAreaTop" fmla="*/ 0 h 182520"/>
              <a:gd name="textAreaBottom" fmla="*/ 182880 h 182520"/>
            </a:gdLst>
            <a:ahLst/>
            <a:rect l="textAreaLeft" t="textAreaTop" r="textAreaRight" b="textAreaBottom"/>
            <a:pathLst>
              <a:path w="1416" h="800">
                <a:moveTo>
                  <a:pt x="39" y="256"/>
                </a:moveTo>
                <a:cubicBezTo>
                  <a:pt x="61" y="253"/>
                  <a:pt x="0" y="256"/>
                  <a:pt x="81" y="242"/>
                </a:cubicBezTo>
                <a:lnTo>
                  <a:pt x="525" y="172"/>
                </a:lnTo>
                <a:lnTo>
                  <a:pt x="527" y="90"/>
                </a:lnTo>
                <a:lnTo>
                  <a:pt x="591" y="90"/>
                </a:lnTo>
                <a:lnTo>
                  <a:pt x="591" y="158"/>
                </a:lnTo>
                <a:lnTo>
                  <a:pt x="673" y="148"/>
                </a:lnTo>
                <a:lnTo>
                  <a:pt x="675" y="58"/>
                </a:lnTo>
                <a:lnTo>
                  <a:pt x="689" y="40"/>
                </a:lnTo>
                <a:lnTo>
                  <a:pt x="691" y="0"/>
                </a:lnTo>
                <a:lnTo>
                  <a:pt x="753" y="0"/>
                </a:lnTo>
                <a:lnTo>
                  <a:pt x="753" y="36"/>
                </a:lnTo>
                <a:lnTo>
                  <a:pt x="767" y="60"/>
                </a:lnTo>
                <a:lnTo>
                  <a:pt x="767" y="150"/>
                </a:lnTo>
                <a:lnTo>
                  <a:pt x="801" y="146"/>
                </a:lnTo>
                <a:lnTo>
                  <a:pt x="851" y="164"/>
                </a:lnTo>
                <a:lnTo>
                  <a:pt x="849" y="94"/>
                </a:lnTo>
                <a:lnTo>
                  <a:pt x="919" y="94"/>
                </a:lnTo>
                <a:lnTo>
                  <a:pt x="921" y="170"/>
                </a:lnTo>
                <a:lnTo>
                  <a:pt x="1333" y="236"/>
                </a:lnTo>
                <a:cubicBezTo>
                  <a:pt x="1414" y="252"/>
                  <a:pt x="1394" y="251"/>
                  <a:pt x="1405" y="266"/>
                </a:cubicBezTo>
                <a:cubicBezTo>
                  <a:pt x="1416" y="281"/>
                  <a:pt x="1402" y="313"/>
                  <a:pt x="1399" y="324"/>
                </a:cubicBezTo>
                <a:cubicBezTo>
                  <a:pt x="1396" y="335"/>
                  <a:pt x="1397" y="329"/>
                  <a:pt x="1387" y="332"/>
                </a:cubicBezTo>
                <a:lnTo>
                  <a:pt x="1337" y="342"/>
                </a:lnTo>
                <a:lnTo>
                  <a:pt x="765" y="410"/>
                </a:lnTo>
                <a:lnTo>
                  <a:pt x="751" y="674"/>
                </a:lnTo>
                <a:lnTo>
                  <a:pt x="921" y="710"/>
                </a:lnTo>
                <a:lnTo>
                  <a:pt x="921" y="800"/>
                </a:lnTo>
                <a:lnTo>
                  <a:pt x="527" y="800"/>
                </a:lnTo>
                <a:lnTo>
                  <a:pt x="527" y="706"/>
                </a:lnTo>
                <a:lnTo>
                  <a:pt x="687" y="676"/>
                </a:lnTo>
                <a:lnTo>
                  <a:pt x="675" y="408"/>
                </a:lnTo>
                <a:lnTo>
                  <a:pt x="105" y="340"/>
                </a:lnTo>
                <a:lnTo>
                  <a:pt x="43" y="330"/>
                </a:lnTo>
                <a:cubicBezTo>
                  <a:pt x="32" y="316"/>
                  <a:pt x="39" y="273"/>
                  <a:pt x="39" y="2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60"/>
          <p:cNvGrpSpPr/>
          <p:nvPr/>
        </p:nvGrpSpPr>
        <p:grpSpPr>
          <a:xfrm>
            <a:off x="4292640" y="679320"/>
            <a:ext cx="149040" cy="173160"/>
            <a:chOff x="4292640" y="679320"/>
            <a:chExt cx="149040" cy="173160"/>
          </a:xfrm>
        </p:grpSpPr>
        <p:sp>
          <p:nvSpPr>
            <p:cNvPr id="126" name="Freeform 161"/>
            <p:cNvSpPr/>
            <p:nvPr/>
          </p:nvSpPr>
          <p:spPr>
            <a:xfrm>
              <a:off x="4292640" y="679320"/>
              <a:ext cx="149040" cy="89280"/>
            </a:xfrm>
            <a:custGeom>
              <a:avLst/>
              <a:gdLst>
                <a:gd name="textAreaLeft" fmla="*/ 0 w 149040"/>
                <a:gd name="textAreaRight" fmla="*/ 149400 w 149040"/>
                <a:gd name="textAreaTop" fmla="*/ 0 h 89280"/>
                <a:gd name="textAreaBottom" fmla="*/ 89640 h 89280"/>
              </a:gdLst>
              <a:ahLst/>
              <a:rect l="textAreaLeft" t="textAreaTop" r="textAreaRight" b="textAreaBottom"/>
              <a:pathLst>
                <a:path w="342" h="205">
                  <a:moveTo>
                    <a:pt x="23" y="201"/>
                  </a:moveTo>
                  <a:cubicBezTo>
                    <a:pt x="19" y="190"/>
                    <a:pt x="0" y="106"/>
                    <a:pt x="25" y="73"/>
                  </a:cubicBezTo>
                  <a:cubicBezTo>
                    <a:pt x="50" y="40"/>
                    <a:pt x="126" y="2"/>
                    <a:pt x="175" y="1"/>
                  </a:cubicBezTo>
                  <a:cubicBezTo>
                    <a:pt x="224" y="0"/>
                    <a:pt x="296" y="31"/>
                    <a:pt x="319" y="65"/>
                  </a:cubicBezTo>
                  <a:cubicBezTo>
                    <a:pt x="342" y="99"/>
                    <a:pt x="318" y="191"/>
                    <a:pt x="315" y="203"/>
                  </a:cubicBezTo>
                  <a:lnTo>
                    <a:pt x="299" y="135"/>
                  </a:lnTo>
                  <a:cubicBezTo>
                    <a:pt x="291" y="119"/>
                    <a:pt x="279" y="109"/>
                    <a:pt x="269" y="109"/>
                  </a:cubicBezTo>
                  <a:cubicBezTo>
                    <a:pt x="259" y="109"/>
                    <a:pt x="247" y="120"/>
                    <a:pt x="239" y="135"/>
                  </a:cubicBezTo>
                  <a:lnTo>
                    <a:pt x="219" y="201"/>
                  </a:lnTo>
                  <a:lnTo>
                    <a:pt x="203" y="141"/>
                  </a:lnTo>
                  <a:cubicBezTo>
                    <a:pt x="195" y="126"/>
                    <a:pt x="183" y="111"/>
                    <a:pt x="173" y="111"/>
                  </a:cubicBezTo>
                  <a:cubicBezTo>
                    <a:pt x="163" y="111"/>
                    <a:pt x="149" y="125"/>
                    <a:pt x="141" y="141"/>
                  </a:cubicBezTo>
                  <a:lnTo>
                    <a:pt x="123" y="205"/>
                  </a:lnTo>
                  <a:lnTo>
                    <a:pt x="113" y="141"/>
                  </a:lnTo>
                  <a:cubicBezTo>
                    <a:pt x="107" y="126"/>
                    <a:pt x="98" y="113"/>
                    <a:pt x="87" y="113"/>
                  </a:cubicBezTo>
                  <a:cubicBezTo>
                    <a:pt x="76" y="113"/>
                    <a:pt x="58" y="124"/>
                    <a:pt x="47" y="139"/>
                  </a:cubicBezTo>
                  <a:cubicBezTo>
                    <a:pt x="36" y="154"/>
                    <a:pt x="28" y="188"/>
                    <a:pt x="23" y="201"/>
                  </a:cubicBezTo>
                  <a:close/>
                </a:path>
              </a:pathLst>
            </a:custGeom>
            <a:solidFill>
              <a:srgbClr val="ff0000"/>
            </a:solidFill>
            <a:ln w="936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27" name="Line 162"/>
            <p:cNvSpPr/>
            <p:nvPr/>
          </p:nvSpPr>
          <p:spPr>
            <a:xfrm>
              <a:off x="4304160" y="7686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8" name="Line 163"/>
            <p:cNvSpPr/>
            <p:nvPr/>
          </p:nvSpPr>
          <p:spPr>
            <a:xfrm>
              <a:off x="4346280" y="7686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 name="Line 164"/>
            <p:cNvSpPr/>
            <p:nvPr/>
          </p:nvSpPr>
          <p:spPr>
            <a:xfrm flipH="1">
              <a:off x="4367160" y="7686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 name="Line 165"/>
            <p:cNvSpPr/>
            <p:nvPr/>
          </p:nvSpPr>
          <p:spPr>
            <a:xfrm flipH="1">
              <a:off x="4367160" y="7686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31" name="Freeform 166"/>
          <p:cNvSpPr/>
          <p:nvPr/>
        </p:nvSpPr>
        <p:spPr>
          <a:xfrm rot="867000">
            <a:off x="4559040" y="941400"/>
            <a:ext cx="323640" cy="182520"/>
          </a:xfrm>
          <a:custGeom>
            <a:avLst/>
            <a:gdLst>
              <a:gd name="textAreaLeft" fmla="*/ 0 w 323640"/>
              <a:gd name="textAreaRight" fmla="*/ 324000 w 323640"/>
              <a:gd name="textAreaTop" fmla="*/ 0 h 182520"/>
              <a:gd name="textAreaBottom" fmla="*/ 182880 h 182520"/>
            </a:gdLst>
            <a:ahLst/>
            <a:rect l="textAreaLeft" t="textAreaTop" r="textAreaRight" b="textAreaBottom"/>
            <a:pathLst>
              <a:path w="1416" h="800">
                <a:moveTo>
                  <a:pt x="39" y="256"/>
                </a:moveTo>
                <a:cubicBezTo>
                  <a:pt x="61" y="253"/>
                  <a:pt x="0" y="256"/>
                  <a:pt x="81" y="242"/>
                </a:cubicBezTo>
                <a:lnTo>
                  <a:pt x="525" y="172"/>
                </a:lnTo>
                <a:lnTo>
                  <a:pt x="527" y="90"/>
                </a:lnTo>
                <a:lnTo>
                  <a:pt x="591" y="90"/>
                </a:lnTo>
                <a:lnTo>
                  <a:pt x="591" y="158"/>
                </a:lnTo>
                <a:lnTo>
                  <a:pt x="673" y="148"/>
                </a:lnTo>
                <a:lnTo>
                  <a:pt x="675" y="58"/>
                </a:lnTo>
                <a:lnTo>
                  <a:pt x="689" y="40"/>
                </a:lnTo>
                <a:lnTo>
                  <a:pt x="691" y="0"/>
                </a:lnTo>
                <a:lnTo>
                  <a:pt x="753" y="0"/>
                </a:lnTo>
                <a:lnTo>
                  <a:pt x="753" y="36"/>
                </a:lnTo>
                <a:lnTo>
                  <a:pt x="767" y="60"/>
                </a:lnTo>
                <a:lnTo>
                  <a:pt x="767" y="150"/>
                </a:lnTo>
                <a:lnTo>
                  <a:pt x="801" y="146"/>
                </a:lnTo>
                <a:lnTo>
                  <a:pt x="851" y="164"/>
                </a:lnTo>
                <a:lnTo>
                  <a:pt x="849" y="94"/>
                </a:lnTo>
                <a:lnTo>
                  <a:pt x="919" y="94"/>
                </a:lnTo>
                <a:lnTo>
                  <a:pt x="921" y="170"/>
                </a:lnTo>
                <a:lnTo>
                  <a:pt x="1333" y="236"/>
                </a:lnTo>
                <a:cubicBezTo>
                  <a:pt x="1414" y="252"/>
                  <a:pt x="1394" y="251"/>
                  <a:pt x="1405" y="266"/>
                </a:cubicBezTo>
                <a:cubicBezTo>
                  <a:pt x="1416" y="281"/>
                  <a:pt x="1402" y="313"/>
                  <a:pt x="1399" y="324"/>
                </a:cubicBezTo>
                <a:cubicBezTo>
                  <a:pt x="1396" y="335"/>
                  <a:pt x="1397" y="329"/>
                  <a:pt x="1387" y="332"/>
                </a:cubicBezTo>
                <a:lnTo>
                  <a:pt x="1337" y="342"/>
                </a:lnTo>
                <a:lnTo>
                  <a:pt x="765" y="410"/>
                </a:lnTo>
                <a:lnTo>
                  <a:pt x="751" y="674"/>
                </a:lnTo>
                <a:lnTo>
                  <a:pt x="921" y="710"/>
                </a:lnTo>
                <a:lnTo>
                  <a:pt x="921" y="800"/>
                </a:lnTo>
                <a:lnTo>
                  <a:pt x="527" y="800"/>
                </a:lnTo>
                <a:lnTo>
                  <a:pt x="527" y="706"/>
                </a:lnTo>
                <a:lnTo>
                  <a:pt x="687" y="676"/>
                </a:lnTo>
                <a:lnTo>
                  <a:pt x="675" y="408"/>
                </a:lnTo>
                <a:lnTo>
                  <a:pt x="105" y="340"/>
                </a:lnTo>
                <a:lnTo>
                  <a:pt x="43" y="330"/>
                </a:lnTo>
                <a:cubicBezTo>
                  <a:pt x="32" y="316"/>
                  <a:pt x="39" y="273"/>
                  <a:pt x="39" y="2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 name="Group 167"/>
          <p:cNvGrpSpPr/>
          <p:nvPr/>
        </p:nvGrpSpPr>
        <p:grpSpPr>
          <a:xfrm>
            <a:off x="4721400" y="492120"/>
            <a:ext cx="149040" cy="173160"/>
            <a:chOff x="4721400" y="492120"/>
            <a:chExt cx="149040" cy="173160"/>
          </a:xfrm>
        </p:grpSpPr>
        <p:sp>
          <p:nvSpPr>
            <p:cNvPr id="133" name="Freeform 168"/>
            <p:cNvSpPr/>
            <p:nvPr/>
          </p:nvSpPr>
          <p:spPr>
            <a:xfrm>
              <a:off x="4721400" y="492120"/>
              <a:ext cx="149040" cy="89280"/>
            </a:xfrm>
            <a:custGeom>
              <a:avLst/>
              <a:gdLst>
                <a:gd name="textAreaLeft" fmla="*/ 0 w 149040"/>
                <a:gd name="textAreaRight" fmla="*/ 149400 w 149040"/>
                <a:gd name="textAreaTop" fmla="*/ 0 h 89280"/>
                <a:gd name="textAreaBottom" fmla="*/ 89640 h 89280"/>
              </a:gdLst>
              <a:ahLst/>
              <a:rect l="textAreaLeft" t="textAreaTop" r="textAreaRight" b="textAreaBottom"/>
              <a:pathLst>
                <a:path w="342" h="205">
                  <a:moveTo>
                    <a:pt x="23" y="201"/>
                  </a:moveTo>
                  <a:cubicBezTo>
                    <a:pt x="19" y="190"/>
                    <a:pt x="0" y="106"/>
                    <a:pt x="25" y="73"/>
                  </a:cubicBezTo>
                  <a:cubicBezTo>
                    <a:pt x="50" y="40"/>
                    <a:pt x="126" y="2"/>
                    <a:pt x="175" y="1"/>
                  </a:cubicBezTo>
                  <a:cubicBezTo>
                    <a:pt x="224" y="0"/>
                    <a:pt x="296" y="31"/>
                    <a:pt x="319" y="65"/>
                  </a:cubicBezTo>
                  <a:cubicBezTo>
                    <a:pt x="342" y="99"/>
                    <a:pt x="318" y="191"/>
                    <a:pt x="315" y="203"/>
                  </a:cubicBezTo>
                  <a:lnTo>
                    <a:pt x="299" y="135"/>
                  </a:lnTo>
                  <a:cubicBezTo>
                    <a:pt x="291" y="119"/>
                    <a:pt x="279" y="109"/>
                    <a:pt x="269" y="109"/>
                  </a:cubicBezTo>
                  <a:cubicBezTo>
                    <a:pt x="259" y="109"/>
                    <a:pt x="247" y="120"/>
                    <a:pt x="239" y="135"/>
                  </a:cubicBezTo>
                  <a:lnTo>
                    <a:pt x="219" y="201"/>
                  </a:lnTo>
                  <a:lnTo>
                    <a:pt x="203" y="141"/>
                  </a:lnTo>
                  <a:cubicBezTo>
                    <a:pt x="195" y="126"/>
                    <a:pt x="183" y="111"/>
                    <a:pt x="173" y="111"/>
                  </a:cubicBezTo>
                  <a:cubicBezTo>
                    <a:pt x="163" y="111"/>
                    <a:pt x="149" y="125"/>
                    <a:pt x="141" y="141"/>
                  </a:cubicBezTo>
                  <a:lnTo>
                    <a:pt x="123" y="205"/>
                  </a:lnTo>
                  <a:lnTo>
                    <a:pt x="113" y="141"/>
                  </a:lnTo>
                  <a:cubicBezTo>
                    <a:pt x="107" y="126"/>
                    <a:pt x="98" y="113"/>
                    <a:pt x="87" y="113"/>
                  </a:cubicBezTo>
                  <a:cubicBezTo>
                    <a:pt x="76" y="113"/>
                    <a:pt x="58" y="124"/>
                    <a:pt x="47" y="139"/>
                  </a:cubicBezTo>
                  <a:cubicBezTo>
                    <a:pt x="36" y="154"/>
                    <a:pt x="28" y="188"/>
                    <a:pt x="23" y="201"/>
                  </a:cubicBezTo>
                  <a:close/>
                </a:path>
              </a:pathLst>
            </a:custGeom>
            <a:solidFill>
              <a:srgbClr val="ff0000"/>
            </a:solidFill>
            <a:ln w="936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34" name="Line 169"/>
            <p:cNvSpPr/>
            <p:nvPr/>
          </p:nvSpPr>
          <p:spPr>
            <a:xfrm>
              <a:off x="4732920" y="5814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5" name="Line 170"/>
            <p:cNvSpPr/>
            <p:nvPr/>
          </p:nvSpPr>
          <p:spPr>
            <a:xfrm>
              <a:off x="4775040" y="5814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6" name="Line 171"/>
            <p:cNvSpPr/>
            <p:nvPr/>
          </p:nvSpPr>
          <p:spPr>
            <a:xfrm flipH="1">
              <a:off x="4795920" y="581400"/>
              <a:ext cx="20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7" name="Line 172"/>
            <p:cNvSpPr/>
            <p:nvPr/>
          </p:nvSpPr>
          <p:spPr>
            <a:xfrm flipH="1">
              <a:off x="4795920" y="581400"/>
              <a:ext cx="6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138" name="AutoShape 175"/>
          <p:cNvSpPr/>
          <p:nvPr/>
        </p:nvSpPr>
        <p:spPr>
          <a:xfrm>
            <a:off x="4807080" y="5256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176"/>
          <p:cNvSpPr/>
          <p:nvPr/>
        </p:nvSpPr>
        <p:spPr>
          <a:xfrm>
            <a:off x="4416480" y="6872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177"/>
          <p:cNvSpPr/>
          <p:nvPr/>
        </p:nvSpPr>
        <p:spPr>
          <a:xfrm>
            <a:off x="4302000" y="17316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79"/>
          <p:cNvSpPr/>
          <p:nvPr/>
        </p:nvSpPr>
        <p:spPr>
          <a:xfrm>
            <a:off x="3673440" y="24494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80"/>
          <p:cNvSpPr/>
          <p:nvPr/>
        </p:nvSpPr>
        <p:spPr>
          <a:xfrm>
            <a:off x="3502080" y="278280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88"/>
          <p:cNvSpPr/>
          <p:nvPr/>
        </p:nvSpPr>
        <p:spPr>
          <a:xfrm rot="10027800">
            <a:off x="2914200" y="1971720"/>
            <a:ext cx="268200" cy="210960"/>
          </a:xfrm>
          <a:custGeom>
            <a:avLst/>
            <a:gdLst>
              <a:gd name="textAreaLeft" fmla="*/ 0 w 268200"/>
              <a:gd name="textAreaRight" fmla="*/ 268560 w 268200"/>
              <a:gd name="textAreaTop" fmla="*/ 0 h 210960"/>
              <a:gd name="textAreaBottom" fmla="*/ 211320 h 210960"/>
            </a:gdLst>
            <a:ahLst/>
            <a:rect l="textAreaLeft" t="textAreaTop" r="textAreaRight" b="textAreaBottom"/>
            <a:pathLst>
              <a:path w="1151" h="907">
                <a:moveTo>
                  <a:pt x="580" y="1"/>
                </a:moveTo>
                <a:cubicBezTo>
                  <a:pt x="590" y="2"/>
                  <a:pt x="601" y="31"/>
                  <a:pt x="610" y="47"/>
                </a:cubicBezTo>
                <a:cubicBezTo>
                  <a:pt x="619" y="63"/>
                  <a:pt x="627" y="73"/>
                  <a:pt x="632" y="95"/>
                </a:cubicBezTo>
                <a:lnTo>
                  <a:pt x="640" y="179"/>
                </a:lnTo>
                <a:lnTo>
                  <a:pt x="780" y="179"/>
                </a:lnTo>
                <a:cubicBezTo>
                  <a:pt x="822" y="180"/>
                  <a:pt x="850" y="183"/>
                  <a:pt x="892" y="188"/>
                </a:cubicBezTo>
                <a:cubicBezTo>
                  <a:pt x="934" y="193"/>
                  <a:pt x="990" y="196"/>
                  <a:pt x="1032" y="209"/>
                </a:cubicBezTo>
                <a:cubicBezTo>
                  <a:pt x="1074" y="222"/>
                  <a:pt x="1141" y="241"/>
                  <a:pt x="1146" y="265"/>
                </a:cubicBezTo>
                <a:cubicBezTo>
                  <a:pt x="1151" y="289"/>
                  <a:pt x="1095" y="330"/>
                  <a:pt x="1060" y="353"/>
                </a:cubicBezTo>
                <a:cubicBezTo>
                  <a:pt x="1025" y="376"/>
                  <a:pt x="979" y="389"/>
                  <a:pt x="934" y="401"/>
                </a:cubicBezTo>
                <a:cubicBezTo>
                  <a:pt x="889" y="413"/>
                  <a:pt x="839" y="421"/>
                  <a:pt x="792" y="427"/>
                </a:cubicBezTo>
                <a:cubicBezTo>
                  <a:pt x="745" y="433"/>
                  <a:pt x="683" y="427"/>
                  <a:pt x="654" y="439"/>
                </a:cubicBezTo>
                <a:cubicBezTo>
                  <a:pt x="625" y="451"/>
                  <a:pt x="627" y="446"/>
                  <a:pt x="618" y="501"/>
                </a:cubicBezTo>
                <a:lnTo>
                  <a:pt x="598" y="772"/>
                </a:lnTo>
                <a:lnTo>
                  <a:pt x="640" y="780"/>
                </a:lnTo>
                <a:cubicBezTo>
                  <a:pt x="658" y="786"/>
                  <a:pt x="692" y="797"/>
                  <a:pt x="708" y="808"/>
                </a:cubicBezTo>
                <a:cubicBezTo>
                  <a:pt x="724" y="819"/>
                  <a:pt x="739" y="833"/>
                  <a:pt x="738" y="848"/>
                </a:cubicBezTo>
                <a:cubicBezTo>
                  <a:pt x="737" y="863"/>
                  <a:pt x="724" y="889"/>
                  <a:pt x="702" y="898"/>
                </a:cubicBezTo>
                <a:cubicBezTo>
                  <a:pt x="680" y="907"/>
                  <a:pt x="626" y="904"/>
                  <a:pt x="604" y="900"/>
                </a:cubicBezTo>
                <a:lnTo>
                  <a:pt x="572" y="872"/>
                </a:lnTo>
                <a:lnTo>
                  <a:pt x="544" y="902"/>
                </a:lnTo>
                <a:lnTo>
                  <a:pt x="440" y="898"/>
                </a:lnTo>
                <a:cubicBezTo>
                  <a:pt x="417" y="889"/>
                  <a:pt x="406" y="863"/>
                  <a:pt x="408" y="846"/>
                </a:cubicBezTo>
                <a:cubicBezTo>
                  <a:pt x="410" y="829"/>
                  <a:pt x="432" y="809"/>
                  <a:pt x="450" y="798"/>
                </a:cubicBezTo>
                <a:cubicBezTo>
                  <a:pt x="468" y="787"/>
                  <a:pt x="498" y="782"/>
                  <a:pt x="514" y="778"/>
                </a:cubicBezTo>
                <a:lnTo>
                  <a:pt x="548" y="772"/>
                </a:lnTo>
                <a:lnTo>
                  <a:pt x="528" y="491"/>
                </a:lnTo>
                <a:cubicBezTo>
                  <a:pt x="518" y="435"/>
                  <a:pt x="517" y="447"/>
                  <a:pt x="486" y="435"/>
                </a:cubicBezTo>
                <a:cubicBezTo>
                  <a:pt x="455" y="423"/>
                  <a:pt x="391" y="428"/>
                  <a:pt x="344" y="421"/>
                </a:cubicBezTo>
                <a:cubicBezTo>
                  <a:pt x="297" y="414"/>
                  <a:pt x="245" y="404"/>
                  <a:pt x="206" y="393"/>
                </a:cubicBezTo>
                <a:cubicBezTo>
                  <a:pt x="167" y="382"/>
                  <a:pt x="140" y="376"/>
                  <a:pt x="108" y="355"/>
                </a:cubicBezTo>
                <a:cubicBezTo>
                  <a:pt x="76" y="334"/>
                  <a:pt x="0" y="295"/>
                  <a:pt x="10" y="269"/>
                </a:cubicBezTo>
                <a:cubicBezTo>
                  <a:pt x="20" y="243"/>
                  <a:pt x="109" y="213"/>
                  <a:pt x="170" y="197"/>
                </a:cubicBezTo>
                <a:cubicBezTo>
                  <a:pt x="231" y="181"/>
                  <a:pt x="315" y="179"/>
                  <a:pt x="374" y="175"/>
                </a:cubicBezTo>
                <a:lnTo>
                  <a:pt x="522" y="175"/>
                </a:lnTo>
                <a:lnTo>
                  <a:pt x="530" y="95"/>
                </a:lnTo>
                <a:cubicBezTo>
                  <a:pt x="535" y="73"/>
                  <a:pt x="544" y="59"/>
                  <a:pt x="552" y="43"/>
                </a:cubicBezTo>
                <a:cubicBezTo>
                  <a:pt x="560" y="27"/>
                  <a:pt x="570" y="0"/>
                  <a:pt x="580" y="1"/>
                </a:cubicBez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90"/>
          <p:cNvSpPr/>
          <p:nvPr/>
        </p:nvSpPr>
        <p:spPr>
          <a:xfrm rot="6640800">
            <a:off x="2663640" y="2184480"/>
            <a:ext cx="268560" cy="210960"/>
          </a:xfrm>
          <a:custGeom>
            <a:avLst/>
            <a:gdLst>
              <a:gd name="textAreaLeft" fmla="*/ 0 w 268560"/>
              <a:gd name="textAreaRight" fmla="*/ 268920 w 268560"/>
              <a:gd name="textAreaTop" fmla="*/ 0 h 210960"/>
              <a:gd name="textAreaBottom" fmla="*/ 211320 h 210960"/>
            </a:gdLst>
            <a:ahLst/>
            <a:rect l="textAreaLeft" t="textAreaTop" r="textAreaRight" b="textAreaBottom"/>
            <a:pathLst>
              <a:path w="1151" h="907">
                <a:moveTo>
                  <a:pt x="580" y="1"/>
                </a:moveTo>
                <a:cubicBezTo>
                  <a:pt x="590" y="2"/>
                  <a:pt x="601" y="31"/>
                  <a:pt x="610" y="47"/>
                </a:cubicBezTo>
                <a:cubicBezTo>
                  <a:pt x="619" y="63"/>
                  <a:pt x="627" y="73"/>
                  <a:pt x="632" y="95"/>
                </a:cubicBezTo>
                <a:lnTo>
                  <a:pt x="640" y="179"/>
                </a:lnTo>
                <a:lnTo>
                  <a:pt x="780" y="179"/>
                </a:lnTo>
                <a:cubicBezTo>
                  <a:pt x="822" y="180"/>
                  <a:pt x="850" y="183"/>
                  <a:pt x="892" y="188"/>
                </a:cubicBezTo>
                <a:cubicBezTo>
                  <a:pt x="934" y="193"/>
                  <a:pt x="990" y="196"/>
                  <a:pt x="1032" y="209"/>
                </a:cubicBezTo>
                <a:cubicBezTo>
                  <a:pt x="1074" y="222"/>
                  <a:pt x="1141" y="241"/>
                  <a:pt x="1146" y="265"/>
                </a:cubicBezTo>
                <a:cubicBezTo>
                  <a:pt x="1151" y="289"/>
                  <a:pt x="1095" y="330"/>
                  <a:pt x="1060" y="353"/>
                </a:cubicBezTo>
                <a:cubicBezTo>
                  <a:pt x="1025" y="376"/>
                  <a:pt x="979" y="389"/>
                  <a:pt x="934" y="401"/>
                </a:cubicBezTo>
                <a:cubicBezTo>
                  <a:pt x="889" y="413"/>
                  <a:pt x="839" y="421"/>
                  <a:pt x="792" y="427"/>
                </a:cubicBezTo>
                <a:cubicBezTo>
                  <a:pt x="745" y="433"/>
                  <a:pt x="683" y="427"/>
                  <a:pt x="654" y="439"/>
                </a:cubicBezTo>
                <a:cubicBezTo>
                  <a:pt x="625" y="451"/>
                  <a:pt x="627" y="446"/>
                  <a:pt x="618" y="501"/>
                </a:cubicBezTo>
                <a:lnTo>
                  <a:pt x="598" y="772"/>
                </a:lnTo>
                <a:lnTo>
                  <a:pt x="640" y="780"/>
                </a:lnTo>
                <a:cubicBezTo>
                  <a:pt x="658" y="786"/>
                  <a:pt x="692" y="797"/>
                  <a:pt x="708" y="808"/>
                </a:cubicBezTo>
                <a:cubicBezTo>
                  <a:pt x="724" y="819"/>
                  <a:pt x="739" y="833"/>
                  <a:pt x="738" y="848"/>
                </a:cubicBezTo>
                <a:cubicBezTo>
                  <a:pt x="737" y="863"/>
                  <a:pt x="724" y="889"/>
                  <a:pt x="702" y="898"/>
                </a:cubicBezTo>
                <a:cubicBezTo>
                  <a:pt x="680" y="907"/>
                  <a:pt x="626" y="904"/>
                  <a:pt x="604" y="900"/>
                </a:cubicBezTo>
                <a:lnTo>
                  <a:pt x="572" y="872"/>
                </a:lnTo>
                <a:lnTo>
                  <a:pt x="544" y="902"/>
                </a:lnTo>
                <a:lnTo>
                  <a:pt x="440" y="898"/>
                </a:lnTo>
                <a:cubicBezTo>
                  <a:pt x="417" y="889"/>
                  <a:pt x="406" y="863"/>
                  <a:pt x="408" y="846"/>
                </a:cubicBezTo>
                <a:cubicBezTo>
                  <a:pt x="410" y="829"/>
                  <a:pt x="432" y="809"/>
                  <a:pt x="450" y="798"/>
                </a:cubicBezTo>
                <a:cubicBezTo>
                  <a:pt x="468" y="787"/>
                  <a:pt x="498" y="782"/>
                  <a:pt x="514" y="778"/>
                </a:cubicBezTo>
                <a:lnTo>
                  <a:pt x="548" y="772"/>
                </a:lnTo>
                <a:lnTo>
                  <a:pt x="528" y="491"/>
                </a:lnTo>
                <a:cubicBezTo>
                  <a:pt x="518" y="435"/>
                  <a:pt x="517" y="447"/>
                  <a:pt x="486" y="435"/>
                </a:cubicBezTo>
                <a:cubicBezTo>
                  <a:pt x="455" y="423"/>
                  <a:pt x="391" y="428"/>
                  <a:pt x="344" y="421"/>
                </a:cubicBezTo>
                <a:cubicBezTo>
                  <a:pt x="297" y="414"/>
                  <a:pt x="245" y="404"/>
                  <a:pt x="206" y="393"/>
                </a:cubicBezTo>
                <a:cubicBezTo>
                  <a:pt x="167" y="382"/>
                  <a:pt x="140" y="376"/>
                  <a:pt x="108" y="355"/>
                </a:cubicBezTo>
                <a:cubicBezTo>
                  <a:pt x="76" y="334"/>
                  <a:pt x="0" y="295"/>
                  <a:pt x="10" y="269"/>
                </a:cubicBezTo>
                <a:cubicBezTo>
                  <a:pt x="20" y="243"/>
                  <a:pt x="109" y="213"/>
                  <a:pt x="170" y="197"/>
                </a:cubicBezTo>
                <a:cubicBezTo>
                  <a:pt x="231" y="181"/>
                  <a:pt x="315" y="179"/>
                  <a:pt x="374" y="175"/>
                </a:cubicBezTo>
                <a:lnTo>
                  <a:pt x="522" y="175"/>
                </a:lnTo>
                <a:lnTo>
                  <a:pt x="530" y="95"/>
                </a:lnTo>
                <a:cubicBezTo>
                  <a:pt x="535" y="73"/>
                  <a:pt x="544" y="59"/>
                  <a:pt x="552" y="43"/>
                </a:cubicBezTo>
                <a:cubicBezTo>
                  <a:pt x="560" y="27"/>
                  <a:pt x="570" y="0"/>
                  <a:pt x="580" y="1"/>
                </a:cubicBez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191"/>
          <p:cNvSpPr/>
          <p:nvPr/>
        </p:nvSpPr>
        <p:spPr>
          <a:xfrm>
            <a:off x="2921040" y="22208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87"/>
          <p:cNvSpPr/>
          <p:nvPr/>
        </p:nvSpPr>
        <p:spPr>
          <a:xfrm rot="19269000">
            <a:off x="3173400" y="2599920"/>
            <a:ext cx="343080" cy="246240"/>
          </a:xfrm>
          <a:custGeom>
            <a:avLst/>
            <a:gdLst>
              <a:gd name="textAreaLeft" fmla="*/ 0 w 343080"/>
              <a:gd name="textAreaRight" fmla="*/ 343440 w 343080"/>
              <a:gd name="textAreaTop" fmla="*/ 0 h 246240"/>
              <a:gd name="textAreaBottom" fmla="*/ 246600 h 246240"/>
            </a:gdLst>
            <a:ahLst/>
            <a:rect l="textAreaLeft" t="textAreaTop" r="textAreaRight" b="textAreaBottom"/>
            <a:pathLst>
              <a:path w="1223" h="876">
                <a:moveTo>
                  <a:pt x="628" y="4"/>
                </a:moveTo>
                <a:cubicBezTo>
                  <a:pt x="641" y="8"/>
                  <a:pt x="654" y="47"/>
                  <a:pt x="660" y="68"/>
                </a:cubicBezTo>
                <a:lnTo>
                  <a:pt x="662" y="132"/>
                </a:lnTo>
                <a:lnTo>
                  <a:pt x="714" y="132"/>
                </a:lnTo>
                <a:lnTo>
                  <a:pt x="716" y="60"/>
                </a:lnTo>
                <a:cubicBezTo>
                  <a:pt x="720" y="45"/>
                  <a:pt x="729" y="43"/>
                  <a:pt x="738" y="40"/>
                </a:cubicBezTo>
                <a:lnTo>
                  <a:pt x="770" y="40"/>
                </a:lnTo>
                <a:cubicBezTo>
                  <a:pt x="778" y="43"/>
                  <a:pt x="783" y="42"/>
                  <a:pt x="786" y="58"/>
                </a:cubicBezTo>
                <a:lnTo>
                  <a:pt x="790" y="134"/>
                </a:lnTo>
                <a:lnTo>
                  <a:pt x="1164" y="242"/>
                </a:lnTo>
                <a:cubicBezTo>
                  <a:pt x="1223" y="281"/>
                  <a:pt x="1214" y="344"/>
                  <a:pt x="1146" y="370"/>
                </a:cubicBezTo>
                <a:lnTo>
                  <a:pt x="758" y="396"/>
                </a:lnTo>
                <a:lnTo>
                  <a:pt x="680" y="380"/>
                </a:lnTo>
                <a:cubicBezTo>
                  <a:pt x="662" y="387"/>
                  <a:pt x="659" y="378"/>
                  <a:pt x="652" y="436"/>
                </a:cubicBezTo>
                <a:lnTo>
                  <a:pt x="640" y="726"/>
                </a:lnTo>
                <a:lnTo>
                  <a:pt x="668" y="726"/>
                </a:lnTo>
                <a:cubicBezTo>
                  <a:pt x="695" y="735"/>
                  <a:pt x="781" y="758"/>
                  <a:pt x="802" y="778"/>
                </a:cubicBezTo>
                <a:cubicBezTo>
                  <a:pt x="823" y="798"/>
                  <a:pt x="825" y="830"/>
                  <a:pt x="794" y="846"/>
                </a:cubicBezTo>
                <a:cubicBezTo>
                  <a:pt x="763" y="862"/>
                  <a:pt x="674" y="876"/>
                  <a:pt x="614" y="876"/>
                </a:cubicBezTo>
                <a:lnTo>
                  <a:pt x="434" y="848"/>
                </a:lnTo>
                <a:cubicBezTo>
                  <a:pt x="403" y="829"/>
                  <a:pt x="405" y="784"/>
                  <a:pt x="426" y="764"/>
                </a:cubicBezTo>
                <a:cubicBezTo>
                  <a:pt x="447" y="744"/>
                  <a:pt x="532" y="735"/>
                  <a:pt x="558" y="728"/>
                </a:cubicBezTo>
                <a:lnTo>
                  <a:pt x="584" y="720"/>
                </a:lnTo>
                <a:lnTo>
                  <a:pt x="574" y="436"/>
                </a:lnTo>
                <a:cubicBezTo>
                  <a:pt x="568" y="379"/>
                  <a:pt x="564" y="383"/>
                  <a:pt x="546" y="376"/>
                </a:cubicBezTo>
                <a:lnTo>
                  <a:pt x="468" y="394"/>
                </a:lnTo>
                <a:lnTo>
                  <a:pt x="102" y="376"/>
                </a:lnTo>
                <a:cubicBezTo>
                  <a:pt x="33" y="351"/>
                  <a:pt x="0" y="283"/>
                  <a:pt x="56" y="244"/>
                </a:cubicBezTo>
                <a:lnTo>
                  <a:pt x="440" y="140"/>
                </a:lnTo>
                <a:lnTo>
                  <a:pt x="442" y="66"/>
                </a:lnTo>
                <a:cubicBezTo>
                  <a:pt x="445" y="49"/>
                  <a:pt x="451" y="44"/>
                  <a:pt x="460" y="40"/>
                </a:cubicBezTo>
                <a:lnTo>
                  <a:pt x="494" y="40"/>
                </a:lnTo>
                <a:cubicBezTo>
                  <a:pt x="503" y="44"/>
                  <a:pt x="508" y="46"/>
                  <a:pt x="512" y="62"/>
                </a:cubicBezTo>
                <a:lnTo>
                  <a:pt x="516" y="134"/>
                </a:lnTo>
                <a:lnTo>
                  <a:pt x="566" y="130"/>
                </a:lnTo>
                <a:lnTo>
                  <a:pt x="574" y="78"/>
                </a:lnTo>
                <a:cubicBezTo>
                  <a:pt x="577" y="64"/>
                  <a:pt x="575" y="58"/>
                  <a:pt x="584" y="46"/>
                </a:cubicBezTo>
                <a:cubicBezTo>
                  <a:pt x="593" y="34"/>
                  <a:pt x="615" y="0"/>
                  <a:pt x="628" y="4"/>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89"/>
          <p:cNvSpPr/>
          <p:nvPr/>
        </p:nvSpPr>
        <p:spPr>
          <a:xfrm rot="19203000">
            <a:off x="3449520" y="2539800"/>
            <a:ext cx="227160" cy="187200"/>
          </a:xfrm>
          <a:custGeom>
            <a:avLst/>
            <a:gdLst>
              <a:gd name="textAreaLeft" fmla="*/ 0 w 227160"/>
              <a:gd name="textAreaRight" fmla="*/ 227520 w 227160"/>
              <a:gd name="textAreaTop" fmla="*/ 0 h 187200"/>
              <a:gd name="textAreaBottom" fmla="*/ 187560 h 187200"/>
            </a:gdLst>
            <a:ahLst/>
            <a:rect l="textAreaLeft" t="textAreaTop" r="textAreaRight" b="textAreaBottom"/>
            <a:pathLst>
              <a:path w="1365" h="1124">
                <a:moveTo>
                  <a:pt x="711" y="1"/>
                </a:moveTo>
                <a:cubicBezTo>
                  <a:pt x="722" y="15"/>
                  <a:pt x="735" y="44"/>
                  <a:pt x="743" y="84"/>
                </a:cubicBezTo>
                <a:cubicBezTo>
                  <a:pt x="751" y="124"/>
                  <a:pt x="756" y="208"/>
                  <a:pt x="759" y="238"/>
                </a:cubicBezTo>
                <a:lnTo>
                  <a:pt x="761" y="262"/>
                </a:lnTo>
                <a:lnTo>
                  <a:pt x="1321" y="292"/>
                </a:lnTo>
                <a:lnTo>
                  <a:pt x="1343" y="294"/>
                </a:lnTo>
                <a:cubicBezTo>
                  <a:pt x="1350" y="300"/>
                  <a:pt x="1365" y="304"/>
                  <a:pt x="1365" y="328"/>
                </a:cubicBezTo>
                <a:lnTo>
                  <a:pt x="1341" y="438"/>
                </a:lnTo>
                <a:lnTo>
                  <a:pt x="749" y="562"/>
                </a:lnTo>
                <a:lnTo>
                  <a:pt x="715" y="990"/>
                </a:lnTo>
                <a:lnTo>
                  <a:pt x="869" y="1016"/>
                </a:lnTo>
                <a:cubicBezTo>
                  <a:pt x="899" y="1027"/>
                  <a:pt x="895" y="1044"/>
                  <a:pt x="897" y="1058"/>
                </a:cubicBezTo>
                <a:lnTo>
                  <a:pt x="881" y="1102"/>
                </a:lnTo>
                <a:lnTo>
                  <a:pt x="745" y="1124"/>
                </a:lnTo>
                <a:lnTo>
                  <a:pt x="689" y="1068"/>
                </a:lnTo>
                <a:lnTo>
                  <a:pt x="627" y="1124"/>
                </a:lnTo>
                <a:lnTo>
                  <a:pt x="493" y="1106"/>
                </a:lnTo>
                <a:lnTo>
                  <a:pt x="479" y="1062"/>
                </a:lnTo>
                <a:cubicBezTo>
                  <a:pt x="482" y="1047"/>
                  <a:pt x="480" y="1030"/>
                  <a:pt x="511" y="1018"/>
                </a:cubicBezTo>
                <a:lnTo>
                  <a:pt x="667" y="990"/>
                </a:lnTo>
                <a:lnTo>
                  <a:pt x="635" y="560"/>
                </a:lnTo>
                <a:lnTo>
                  <a:pt x="31" y="434"/>
                </a:lnTo>
                <a:lnTo>
                  <a:pt x="23" y="376"/>
                </a:lnTo>
                <a:lnTo>
                  <a:pt x="19" y="314"/>
                </a:lnTo>
                <a:cubicBezTo>
                  <a:pt x="32" y="298"/>
                  <a:pt x="0" y="291"/>
                  <a:pt x="101" y="282"/>
                </a:cubicBezTo>
                <a:lnTo>
                  <a:pt x="623" y="260"/>
                </a:lnTo>
                <a:lnTo>
                  <a:pt x="625" y="238"/>
                </a:lnTo>
                <a:cubicBezTo>
                  <a:pt x="628" y="208"/>
                  <a:pt x="634" y="118"/>
                  <a:pt x="643" y="78"/>
                </a:cubicBezTo>
                <a:cubicBezTo>
                  <a:pt x="652" y="38"/>
                  <a:pt x="666" y="13"/>
                  <a:pt x="677" y="0"/>
                </a:cubicBezTo>
                <a:lnTo>
                  <a:pt x="711" y="1"/>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AutoShape 192"/>
          <p:cNvSpPr/>
          <p:nvPr/>
        </p:nvSpPr>
        <p:spPr>
          <a:xfrm>
            <a:off x="2927520" y="220176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222"/>
          <p:cNvSpPr/>
          <p:nvPr/>
        </p:nvSpPr>
        <p:spPr>
          <a:xfrm>
            <a:off x="3990960" y="4721400"/>
            <a:ext cx="193680" cy="430200"/>
          </a:xfrm>
          <a:custGeom>
            <a:avLst/>
            <a:gdLst>
              <a:gd name="textAreaLeft" fmla="*/ 0 w 193680"/>
              <a:gd name="textAreaRight" fmla="*/ 194040 w 193680"/>
              <a:gd name="textAreaTop" fmla="*/ 0 h 430200"/>
              <a:gd name="textAreaBottom" fmla="*/ 430560 h 430200"/>
            </a:gdLst>
            <a:ahLst/>
            <a:rect l="textAreaLeft" t="textAreaTop" r="textAreaRight" b="textAreaBottom"/>
            <a:pathLst>
              <a:path w="122" h="271">
                <a:moveTo>
                  <a:pt x="108" y="4"/>
                </a:moveTo>
                <a:cubicBezTo>
                  <a:pt x="111" y="0"/>
                  <a:pt x="118" y="13"/>
                  <a:pt x="120" y="20"/>
                </a:cubicBezTo>
                <a:cubicBezTo>
                  <a:pt x="122" y="27"/>
                  <a:pt x="120" y="36"/>
                  <a:pt x="118" y="44"/>
                </a:cubicBezTo>
                <a:cubicBezTo>
                  <a:pt x="116" y="52"/>
                  <a:pt x="110" y="58"/>
                  <a:pt x="110" y="68"/>
                </a:cubicBezTo>
                <a:cubicBezTo>
                  <a:pt x="110" y="78"/>
                  <a:pt x="116" y="93"/>
                  <a:pt x="116" y="102"/>
                </a:cubicBezTo>
                <a:cubicBezTo>
                  <a:pt x="116" y="111"/>
                  <a:pt x="108" y="113"/>
                  <a:pt x="108" y="122"/>
                </a:cubicBezTo>
                <a:cubicBezTo>
                  <a:pt x="108" y="131"/>
                  <a:pt x="118" y="142"/>
                  <a:pt x="114" y="154"/>
                </a:cubicBezTo>
                <a:cubicBezTo>
                  <a:pt x="110" y="166"/>
                  <a:pt x="88" y="179"/>
                  <a:pt x="84" y="192"/>
                </a:cubicBezTo>
                <a:cubicBezTo>
                  <a:pt x="80" y="205"/>
                  <a:pt x="91" y="224"/>
                  <a:pt x="88" y="232"/>
                </a:cubicBezTo>
                <a:cubicBezTo>
                  <a:pt x="85" y="240"/>
                  <a:pt x="73" y="234"/>
                  <a:pt x="68" y="240"/>
                </a:cubicBezTo>
                <a:cubicBezTo>
                  <a:pt x="63" y="246"/>
                  <a:pt x="61" y="271"/>
                  <a:pt x="56" y="270"/>
                </a:cubicBezTo>
                <a:cubicBezTo>
                  <a:pt x="51" y="269"/>
                  <a:pt x="41" y="241"/>
                  <a:pt x="36" y="232"/>
                </a:cubicBezTo>
                <a:cubicBezTo>
                  <a:pt x="31" y="223"/>
                  <a:pt x="26" y="222"/>
                  <a:pt x="24" y="216"/>
                </a:cubicBezTo>
                <a:cubicBezTo>
                  <a:pt x="22" y="210"/>
                  <a:pt x="24" y="199"/>
                  <a:pt x="22" y="194"/>
                </a:cubicBezTo>
                <a:cubicBezTo>
                  <a:pt x="20" y="189"/>
                  <a:pt x="14" y="190"/>
                  <a:pt x="14" y="186"/>
                </a:cubicBezTo>
                <a:cubicBezTo>
                  <a:pt x="14" y="182"/>
                  <a:pt x="21" y="174"/>
                  <a:pt x="20" y="170"/>
                </a:cubicBezTo>
                <a:cubicBezTo>
                  <a:pt x="19" y="166"/>
                  <a:pt x="7" y="164"/>
                  <a:pt x="6" y="160"/>
                </a:cubicBezTo>
                <a:cubicBezTo>
                  <a:pt x="5" y="156"/>
                  <a:pt x="13" y="154"/>
                  <a:pt x="12" y="148"/>
                </a:cubicBezTo>
                <a:cubicBezTo>
                  <a:pt x="11" y="142"/>
                  <a:pt x="0" y="133"/>
                  <a:pt x="2" y="126"/>
                </a:cubicBezTo>
                <a:cubicBezTo>
                  <a:pt x="4" y="119"/>
                  <a:pt x="23" y="112"/>
                  <a:pt x="24" y="106"/>
                </a:cubicBezTo>
                <a:cubicBezTo>
                  <a:pt x="25" y="100"/>
                  <a:pt x="7" y="100"/>
                  <a:pt x="8" y="92"/>
                </a:cubicBezTo>
                <a:cubicBezTo>
                  <a:pt x="9" y="84"/>
                  <a:pt x="19" y="67"/>
                  <a:pt x="30" y="60"/>
                </a:cubicBezTo>
                <a:cubicBezTo>
                  <a:pt x="41" y="53"/>
                  <a:pt x="62" y="51"/>
                  <a:pt x="72" y="50"/>
                </a:cubicBezTo>
                <a:cubicBezTo>
                  <a:pt x="82" y="49"/>
                  <a:pt x="85" y="57"/>
                  <a:pt x="90" y="56"/>
                </a:cubicBezTo>
                <a:cubicBezTo>
                  <a:pt x="95" y="55"/>
                  <a:pt x="101" y="51"/>
                  <a:pt x="104" y="42"/>
                </a:cubicBezTo>
                <a:cubicBezTo>
                  <a:pt x="107" y="33"/>
                  <a:pt x="106" y="7"/>
                  <a:pt x="108" y="4"/>
                </a:cubicBezTo>
                <a:close/>
              </a:path>
            </a:pathLst>
          </a:custGeom>
          <a:blipFill rotWithShape="0">
            <a:blip r:embed="rId34">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231"/>
          <p:cNvSpPr/>
          <p:nvPr/>
        </p:nvSpPr>
        <p:spPr>
          <a:xfrm>
            <a:off x="5111640" y="1914480"/>
            <a:ext cx="87480" cy="115920"/>
          </a:xfrm>
          <a:custGeom>
            <a:avLst/>
            <a:gdLst>
              <a:gd name="textAreaLeft" fmla="*/ 0 w 87480"/>
              <a:gd name="textAreaRight" fmla="*/ 87840 w 87480"/>
              <a:gd name="textAreaTop" fmla="*/ 0 h 115920"/>
              <a:gd name="textAreaBottom" fmla="*/ 116280 h 115920"/>
            </a:gdLst>
            <a:ahLst/>
            <a:rect l="textAreaLeft" t="textAreaTop" r="textAreaRight" b="textAreaBottom"/>
            <a:pathLst>
              <a:path w="55" h="73">
                <a:moveTo>
                  <a:pt x="8" y="11"/>
                </a:moveTo>
                <a:cubicBezTo>
                  <a:pt x="9" y="7"/>
                  <a:pt x="17" y="0"/>
                  <a:pt x="23" y="3"/>
                </a:cubicBezTo>
                <a:cubicBezTo>
                  <a:pt x="29" y="6"/>
                  <a:pt x="42" y="20"/>
                  <a:pt x="46" y="27"/>
                </a:cubicBezTo>
                <a:cubicBezTo>
                  <a:pt x="50" y="34"/>
                  <a:pt x="45" y="39"/>
                  <a:pt x="46" y="44"/>
                </a:cubicBezTo>
                <a:cubicBezTo>
                  <a:pt x="47" y="49"/>
                  <a:pt x="55" y="56"/>
                  <a:pt x="55" y="60"/>
                </a:cubicBezTo>
                <a:cubicBezTo>
                  <a:pt x="55" y="64"/>
                  <a:pt x="49" y="70"/>
                  <a:pt x="46" y="71"/>
                </a:cubicBezTo>
                <a:cubicBezTo>
                  <a:pt x="43" y="72"/>
                  <a:pt x="38" y="65"/>
                  <a:pt x="34" y="65"/>
                </a:cubicBezTo>
                <a:cubicBezTo>
                  <a:pt x="30" y="65"/>
                  <a:pt x="24" y="73"/>
                  <a:pt x="19" y="71"/>
                </a:cubicBezTo>
                <a:cubicBezTo>
                  <a:pt x="14" y="69"/>
                  <a:pt x="4" y="56"/>
                  <a:pt x="2" y="51"/>
                </a:cubicBezTo>
                <a:cubicBezTo>
                  <a:pt x="0" y="46"/>
                  <a:pt x="5" y="41"/>
                  <a:pt x="8" y="38"/>
                </a:cubicBezTo>
                <a:cubicBezTo>
                  <a:pt x="11" y="35"/>
                  <a:pt x="23" y="34"/>
                  <a:pt x="23" y="30"/>
                </a:cubicBezTo>
                <a:cubicBezTo>
                  <a:pt x="23" y="26"/>
                  <a:pt x="11" y="15"/>
                  <a:pt x="8" y="11"/>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Picture 232" descr="French flag"/>
          <p:cNvPicPr/>
          <p:nvPr/>
        </p:nvPicPr>
        <p:blipFill>
          <a:blip r:embed="rId35"/>
          <a:stretch/>
        </p:blipFill>
        <p:spPr>
          <a:xfrm>
            <a:off x="3797280" y="3365640"/>
            <a:ext cx="133200" cy="88920"/>
          </a:xfrm>
          <a:prstGeom prst="rect">
            <a:avLst/>
          </a:prstGeom>
          <a:ln w="12600">
            <a:solidFill>
              <a:srgbClr val="0000ff"/>
            </a:solidFill>
            <a:miter/>
          </a:ln>
        </p:spPr>
      </p:pic>
      <p:pic>
        <p:nvPicPr>
          <p:cNvPr id="152" name="Picture 233" descr="French flag"/>
          <p:cNvPicPr/>
          <p:nvPr/>
        </p:nvPicPr>
        <p:blipFill>
          <a:blip r:embed="rId36"/>
          <a:stretch/>
        </p:blipFill>
        <p:spPr>
          <a:xfrm>
            <a:off x="3257640" y="2676600"/>
            <a:ext cx="77760" cy="52200"/>
          </a:xfrm>
          <a:prstGeom prst="rect">
            <a:avLst/>
          </a:prstGeom>
          <a:ln w="12600">
            <a:solidFill>
              <a:srgbClr val="0000ff"/>
            </a:solidFill>
            <a:miter/>
          </a:ln>
        </p:spPr>
      </p:pic>
      <p:sp>
        <p:nvSpPr>
          <p:cNvPr id="153" name="Rectangle 2"/>
          <p:cNvSpPr/>
          <p:nvPr/>
        </p:nvSpPr>
        <p:spPr>
          <a:xfrm>
            <a:off x="719280" y="0"/>
            <a:ext cx="8424720" cy="539640"/>
          </a:xfrm>
          <a:prstGeom prst="rect">
            <a:avLst/>
          </a:prstGeom>
          <a:solidFill>
            <a:srgbClr val="336699"/>
          </a:solidFill>
          <a:ln w="0">
            <a:noFill/>
          </a:ln>
        </p:spPr>
        <p:style>
          <a:lnRef idx="0"/>
          <a:fillRef idx="0"/>
          <a:effectRef idx="0"/>
          <a:fontRef idx="minor"/>
        </p:style>
        <p:txBody>
          <a:bodyPr wrap="none" lIns="18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World War II and Bletchley Park</a:t>
            </a:r>
            <a:endParaRPr b="0" lang="en-US" sz="1800" spc="-1" strike="noStrike">
              <a:solidFill>
                <a:srgbClr val="000000"/>
              </a:solidFill>
              <a:latin typeface="Arial"/>
            </a:endParaRPr>
          </a:p>
        </p:txBody>
      </p:sp>
      <p:sp>
        <p:nvSpPr>
          <p:cNvPr id="154"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2B21-2D4D-4EFB-B49A-BE4E8A26E8C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5" name="Picture 29" descr="nazi"/>
          <p:cNvPicPr/>
          <p:nvPr/>
        </p:nvPicPr>
        <p:blipFill>
          <a:blip r:embed="rId37"/>
          <a:stretch/>
        </p:blipFill>
        <p:spPr>
          <a:xfrm>
            <a:off x="6211800" y="2838600"/>
            <a:ext cx="216000" cy="128520"/>
          </a:xfrm>
          <a:prstGeom prst="rect">
            <a:avLst/>
          </a:prstGeom>
          <a:ln w="0">
            <a:noFill/>
          </a:ln>
        </p:spPr>
      </p:pic>
      <p:sp>
        <p:nvSpPr>
          <p:cNvPr id="156" name="Rectangle 113"/>
          <p:cNvSpPr/>
          <p:nvPr/>
        </p:nvSpPr>
        <p:spPr>
          <a:xfrm>
            <a:off x="0" y="542880"/>
            <a:ext cx="185760" cy="631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0" y="0"/>
            <a:ext cx="719280" cy="539640"/>
          </a:xfrm>
          <a:prstGeom prst="rect">
            <a:avLst/>
          </a:prstGeom>
          <a:solidFill>
            <a:srgbClr val="00000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1b1</a:t>
            </a:r>
            <a:endParaRPr b="0" lang="en-US" sz="1800" spc="-1" strike="noStrike">
              <a:solidFill>
                <a:srgbClr val="000000"/>
              </a:solidFill>
              <a:latin typeface="Arial"/>
            </a:endParaRPr>
          </a:p>
        </p:txBody>
      </p:sp>
      <p:sp>
        <p:nvSpPr>
          <p:cNvPr id="158" name="Rectangle 114"/>
          <p:cNvSpPr/>
          <p:nvPr/>
        </p:nvSpPr>
        <p:spPr>
          <a:xfrm>
            <a:off x="8993160" y="542880"/>
            <a:ext cx="185760" cy="631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5"/>
          <p:cNvSpPr/>
          <p:nvPr/>
        </p:nvSpPr>
        <p:spPr>
          <a:xfrm rot="16200000">
            <a:off x="6117480" y="3390120"/>
            <a:ext cx="5927760" cy="246240"/>
          </a:xfrm>
          <a:prstGeom prst="rect">
            <a:avLst/>
          </a:prstGeom>
          <a:noFill/>
          <a:ln w="0">
            <a:noFill/>
          </a:ln>
        </p:spPr>
        <p:style>
          <a:lnRef idx="0"/>
          <a:fillRef idx="0"/>
          <a:effectRef idx="0"/>
          <a:fontRef idx="minor"/>
        </p:style>
        <p:txBody>
          <a:bodyPr lIns="0" rIns="0" tIns="46800" bIns="46800" anchor="t">
            <a:spAutoFit/>
          </a:bodyPr>
          <a:p>
            <a:pPr algn="r">
              <a:spcBef>
                <a:spcPts val="1199"/>
              </a:spcBef>
              <a:spcAft>
                <a:spcPts val="300"/>
              </a:spcAft>
              <a:buClr>
                <a:srgbClr val="ffffff"/>
              </a:buClr>
              <a:buFont typeface="Arial"/>
              <a:buChar char="•"/>
              <a:tabLst>
                <a:tab algn="l" pos="5110200"/>
                <a:tab algn="l" pos="5737320"/>
                <a:tab algn="l" pos="6400800"/>
                <a:tab algn="l" pos="7315200"/>
                <a:tab algn="l" pos="8229600"/>
                <a:tab algn="l" pos="9144000"/>
                <a:tab algn="l" pos="10058400"/>
              </a:tabLst>
            </a:pPr>
            <a:r>
              <a:rPr b="0" lang="en-CA" sz="1000" spc="-1" strike="noStrike">
                <a:solidFill>
                  <a:srgbClr val="7e7e7e"/>
                </a:solidFill>
                <a:latin typeface="Arial"/>
              </a:rPr>
              <a:t>Source: Amazing Battle Map of WWII Europe, by Kaspars, StrangeCosmos.com, 2009, </a:t>
            </a:r>
            <a:endParaRPr b="0" lang="en-US" sz="1000" spc="-1" strike="noStrike">
              <a:solidFill>
                <a:srgbClr val="000000"/>
              </a:solidFill>
              <a:latin typeface="Arial"/>
            </a:endParaRPr>
          </a:p>
        </p:txBody>
      </p:sp>
      <p:sp>
        <p:nvSpPr>
          <p:cNvPr id="160" name="Rectangle 117"/>
          <p:cNvSpPr/>
          <p:nvPr/>
        </p:nvSpPr>
        <p:spPr>
          <a:xfrm flipH="1" rot="5400000">
            <a:off x="4548960" y="2270520"/>
            <a:ext cx="4608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18"/>
          <p:cNvSpPr/>
          <p:nvPr/>
        </p:nvSpPr>
        <p:spPr>
          <a:xfrm flipH="1" rot="5400000">
            <a:off x="4549680" y="-4008600"/>
            <a:ext cx="4428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19"/>
          <p:cNvSpPr/>
          <p:nvPr/>
        </p:nvSpPr>
        <p:spPr>
          <a:xfrm>
            <a:off x="1353960" y="590400"/>
            <a:ext cx="762120" cy="524160"/>
          </a:xfrm>
          <a:prstGeom prst="rect">
            <a:avLst/>
          </a:prstGeom>
          <a:solidFill>
            <a:srgbClr val="b6c9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120"/>
          <p:cNvSpPr/>
          <p:nvPr/>
        </p:nvSpPr>
        <p:spPr>
          <a:xfrm>
            <a:off x="200160" y="588960"/>
            <a:ext cx="1328760" cy="1101600"/>
          </a:xfrm>
          <a:prstGeom prst="rect">
            <a:avLst/>
          </a:prstGeom>
          <a:solidFill>
            <a:srgbClr val="b6c9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4"/>
          <p:cNvSpPr/>
          <p:nvPr/>
        </p:nvSpPr>
        <p:spPr>
          <a:xfrm>
            <a:off x="0" y="719280"/>
            <a:ext cx="8750160" cy="522000"/>
          </a:xfrm>
          <a:prstGeom prst="rect">
            <a:avLst/>
          </a:prstGeom>
          <a:noFill/>
          <a:ln w="0">
            <a:noFill/>
          </a:ln>
        </p:spPr>
        <p:style>
          <a:lnRef idx="0"/>
          <a:fillRef idx="0"/>
          <a:effectRef idx="0"/>
          <a:fontRef idx="minor"/>
        </p:style>
        <p:txBody>
          <a:bodyPr lIns="90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erman Expansio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gtEl>
                                        <p:attrNameLst>
                                          <p:attrName>style.visibility</p:attrName>
                                        </p:attrNameLst>
                                      </p:cBhvr>
                                      <p:to>
                                        <p:strVal val="visible"/>
                                      </p:to>
                                    </p:set>
                                    <p:animEffect filter="dissolve" transition="in">
                                      <p:cBhvr additive="repl">
                                        <p:cTn id="7" dur="2000"/>
                                        <p:tgtEl>
                                          <p:spTgt spid="52"/>
                                        </p:tgtEl>
                                      </p:cBhvr>
                                    </p:animEffect>
                                  </p:childTnLst>
                                </p:cTn>
                              </p:par>
                              <p:par>
                                <p:cTn id="8" nodeType="withEffect" fill="hold" presetClass="entr" presetID="9">
                                  <p:stCondLst>
                                    <p:cond delay="0"/>
                                  </p:stCondLst>
                                  <p:childTnLst>
                                    <p:set>
                                      <p:cBhvr>
                                        <p:cTn id="9" dur="1" fill="hold">
                                          <p:stCondLst>
                                            <p:cond delay="0"/>
                                          </p:stCondLst>
                                        </p:cTn>
                                        <p:tgtEl>
                                          <p:spTgt spid="53"/>
                                        </p:tgtEl>
                                        <p:attrNameLst>
                                          <p:attrName>style.visibility</p:attrName>
                                        </p:attrNameLst>
                                      </p:cBhvr>
                                      <p:to>
                                        <p:strVal val="visible"/>
                                      </p:to>
                                    </p:set>
                                    <p:animEffect filter="dissolve" transition="in">
                                      <p:cBhvr additive="repl">
                                        <p:cTn id="10" dur="2000"/>
                                        <p:tgtEl>
                                          <p:spTgt spid="53"/>
                                        </p:tgtEl>
                                      </p:cBhvr>
                                    </p:animEffect>
                                  </p:childTnLst>
                                </p:cTn>
                              </p:par>
                              <p:par>
                                <p:cTn id="11" nodeType="withEffect" fill="hold" presetClass="entr" presetID="9">
                                  <p:stCondLst>
                                    <p:cond delay="0"/>
                                  </p:stCondLst>
                                  <p:childTnLst>
                                    <p:set>
                                      <p:cBhvr>
                                        <p:cTn id="12" dur="1" fill="hold">
                                          <p:stCondLst>
                                            <p:cond delay="0"/>
                                          </p:stCondLst>
                                        </p:cTn>
                                        <p:tgtEl>
                                          <p:spTgt spid="150"/>
                                        </p:tgtEl>
                                        <p:attrNameLst>
                                          <p:attrName>style.visibility</p:attrName>
                                        </p:attrNameLst>
                                      </p:cBhvr>
                                      <p:to>
                                        <p:strVal val="visible"/>
                                      </p:to>
                                    </p:set>
                                    <p:animEffect filter="dissolve" transition="in">
                                      <p:cBhvr additive="repl">
                                        <p:cTn id="13" dur="2000"/>
                                        <p:tgtEl>
                                          <p:spTgt spid="150"/>
                                        </p:tgtEl>
                                      </p:cBhvr>
                                    </p:animEffect>
                                  </p:childTnLst>
                                </p:cTn>
                              </p:par>
                              <p:par>
                                <p:cTn id="14" nodeType="withEffect" fill="hold" presetClass="entr" presetID="9">
                                  <p:stCondLst>
                                    <p:cond delay="0"/>
                                  </p:stCondLst>
                                  <p:childTnLst>
                                    <p:set>
                                      <p:cBhvr>
                                        <p:cTn id="15" dur="1" fill="hold">
                                          <p:stCondLst>
                                            <p:cond delay="0"/>
                                          </p:stCondLst>
                                        </p:cTn>
                                        <p:tgtEl>
                                          <p:spTgt spid="54"/>
                                        </p:tgtEl>
                                        <p:attrNameLst>
                                          <p:attrName>style.visibility</p:attrName>
                                        </p:attrNameLst>
                                      </p:cBhvr>
                                      <p:to>
                                        <p:strVal val="visible"/>
                                      </p:to>
                                    </p:set>
                                    <p:animEffect filter="dissolve" transition="in">
                                      <p:cBhvr additive="repl">
                                        <p:cTn id="16" dur="2000"/>
                                        <p:tgtEl>
                                          <p:spTgt spid="54"/>
                                        </p:tgtEl>
                                      </p:cBhvr>
                                    </p:animEffect>
                                  </p:childTnLst>
                                </p:cTn>
                              </p:par>
                              <p:par>
                                <p:cTn id="17" nodeType="withEffect" fill="hold" presetClass="exit" presetID="9">
                                  <p:stCondLst>
                                    <p:cond delay="0"/>
                                  </p:stCondLst>
                                  <p:childTnLst>
                                    <p:animEffect filter="dissolve" transition="out">
                                      <p:cBhvr additive="repl">
                                        <p:cTn id="18" dur="2000"/>
                                        <p:tgtEl>
                                          <p:spTgt spid="50"/>
                                        </p:tgtEl>
                                      </p:cBhvr>
                                    </p:animEffect>
                                    <p:set>
                                      <p:cBhvr>
                                        <p:cTn id="19" dur="1" fill="hold">
                                          <p:stCondLst>
                                            <p:cond delay="1999"/>
                                          </p:stCondLst>
                                        </p:cTn>
                                        <p:tgtEl>
                                          <p:spTgt spid="50"/>
                                        </p:tgtEl>
                                        <p:attrNameLst>
                                          <p:attrName>style.visibility</p:attrName>
                                        </p:attrNameLst>
                                      </p:cBhvr>
                                      <p:to>
                                        <p:strVal val="hidden"/>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2">
                                  <p:stCondLst>
                                    <p:cond delay="0"/>
                                  </p:stCondLst>
                                  <p:childTnLst>
                                    <p:audio isNarration="0">
                                      <p:cMediaNode showWhenStopped="1">
                                        <p:cTn/>
                                        <p:tgtEl>
                                          <p:sndTgt r:embed="rId38" name="March.wav"/>
                                        </p:tgtEl>
                                      </p:cMediaNode>
                                    </p:audio>
                                    <p:set>
                                      <p:cBhvr>
                                        <p:cTn id="23" dur="1" fill="hold">
                                          <p:stCondLst>
                                            <p:cond delay="0"/>
                                          </p:stCondLst>
                                        </p:cTn>
                                        <p:tgtEl>
                                          <p:spTgt spid="56"/>
                                        </p:tgtEl>
                                        <p:attrNameLst>
                                          <p:attrName>style.visibility</p:attrName>
                                        </p:attrNameLst>
                                      </p:cBhvr>
                                      <p:to>
                                        <p:strVal val="visible"/>
                                      </p:to>
                                    </p:set>
                                    <p:animEffect filter="wipe(right)" transition="in">
                                      <p:cBhvr additive="repl">
                                        <p:cTn id="24" dur="2000"/>
                                        <p:tgtEl>
                                          <p:spTgt spid="5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audio isNarration="0">
                                      <p:cMediaNode showWhenStopped="1">
                                        <p:cTn/>
                                        <p:tgtEl>
                                          <p:sndTgt r:embed="rId39" name="drumroll.wav"/>
                                        </p:tgtEl>
                                      </p:cMediaNode>
                                    </p:audio>
                                    <p:set>
                                      <p:cBhvr>
                                        <p:cTn id="28" dur="1" fill="hold">
                                          <p:stCondLst>
                                            <p:cond delay="0"/>
                                          </p:stCondLst>
                                        </p:cTn>
                                        <p:tgtEl>
                                          <p:spTgt spid="57"/>
                                        </p:tgtEl>
                                        <p:attrNameLst>
                                          <p:attrName>style.visibility</p:attrName>
                                        </p:attrNameLst>
                                      </p:cBhvr>
                                      <p:to>
                                        <p:strVal val="visible"/>
                                      </p:to>
                                    </p:set>
                                    <p:animEffect filter="dissolve" transition="in">
                                      <p:cBhvr additive="repl">
                                        <p:cTn id="29" dur="2000"/>
                                        <p:tgtEl>
                                          <p:spTgt spid="57"/>
                                        </p:tgtEl>
                                      </p:cBhvr>
                                    </p:animEffect>
                                  </p:childTnLst>
                                </p:cTn>
                              </p:par>
                              <p:par>
                                <p:cTn id="30" nodeType="withEffect" fill="hold" presetClass="entr" presetID="9">
                                  <p:stCondLst>
                                    <p:cond delay="0"/>
                                  </p:stCondLst>
                                  <p:childTnLst>
                                    <p:set>
                                      <p:cBhvr>
                                        <p:cTn id="31" dur="1" fill="hold">
                                          <p:stCondLst>
                                            <p:cond delay="0"/>
                                          </p:stCondLst>
                                        </p:cTn>
                                        <p:tgtEl>
                                          <p:spTgt spid="58"/>
                                        </p:tgtEl>
                                        <p:attrNameLst>
                                          <p:attrName>style.visibility</p:attrName>
                                        </p:attrNameLst>
                                      </p:cBhvr>
                                      <p:to>
                                        <p:strVal val="visible"/>
                                      </p:to>
                                    </p:set>
                                    <p:animEffect filter="dissolve" transition="in">
                                      <p:cBhvr additive="repl">
                                        <p:cTn id="32" dur="2000"/>
                                        <p:tgtEl>
                                          <p:spTgt spid="5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audio isNarration="0">
                                      <p:cMediaNode showWhenStopped="1">
                                        <p:cTn/>
                                        <p:tgtEl>
                                          <p:sndTgt r:embed="rId40" name="March.wav"/>
                                        </p:tgtEl>
                                      </p:cMediaNode>
                                    </p:audio>
                                    <p:set>
                                      <p:cBhvr>
                                        <p:cTn id="36" dur="1" fill="hold">
                                          <p:stCondLst>
                                            <p:cond delay="0"/>
                                          </p:stCondLst>
                                        </p:cTn>
                                        <p:tgtEl>
                                          <p:spTgt spid="60"/>
                                        </p:tgtEl>
                                        <p:attrNameLst>
                                          <p:attrName>style.visibility</p:attrName>
                                        </p:attrNameLst>
                                      </p:cBhvr>
                                      <p:to>
                                        <p:strVal val="visible"/>
                                      </p:to>
                                    </p:set>
                                    <p:animEffect filter="wipe(down)" transition="in">
                                      <p:cBhvr additive="repl">
                                        <p:cTn id="37" dur="2000"/>
                                        <p:tgtEl>
                                          <p:spTgt spid="60"/>
                                        </p:tgtEl>
                                      </p:cBhvr>
                                    </p:animEffect>
                                  </p:childTnLst>
                                </p:cTn>
                              </p:par>
                              <p:par>
                                <p:cTn id="38" nodeType="withEffect" fill="hold" presetClass="entr" presetID="22" presetSubtype="1">
                                  <p:stCondLst>
                                    <p:cond delay="0"/>
                                  </p:stCondLst>
                                  <p:childTnLst>
                                    <p:set>
                                      <p:cBhvr>
                                        <p:cTn id="39" dur="1" fill="hold">
                                          <p:stCondLst>
                                            <p:cond delay="0"/>
                                          </p:stCondLst>
                                        </p:cTn>
                                        <p:tgtEl>
                                          <p:spTgt spid="59"/>
                                        </p:tgtEl>
                                        <p:attrNameLst>
                                          <p:attrName>style.visibility</p:attrName>
                                        </p:attrNameLst>
                                      </p:cBhvr>
                                      <p:to>
                                        <p:strVal val="visible"/>
                                      </p:to>
                                    </p:set>
                                    <p:animEffect filter="wipe(up)" transition="in">
                                      <p:cBhvr additive="repl">
                                        <p:cTn id="40" dur="2000"/>
                                        <p:tgtEl>
                                          <p:spTgt spid="5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audio isNarration="0">
                                      <p:cMediaNode showWhenStopped="1">
                                        <p:cTn/>
                                        <p:tgtEl>
                                          <p:sndTgt r:embed="rId41" name="drumroll.wav"/>
                                        </p:tgtEl>
                                      </p:cMediaNode>
                                    </p:audio>
                                    <p:set>
                                      <p:cBhvr>
                                        <p:cTn id="44" dur="1" fill="hold">
                                          <p:stCondLst>
                                            <p:cond delay="0"/>
                                          </p:stCondLst>
                                        </p:cTn>
                                        <p:tgtEl>
                                          <p:spTgt spid="61"/>
                                        </p:tgtEl>
                                        <p:attrNameLst>
                                          <p:attrName>style.visibility</p:attrName>
                                        </p:attrNameLst>
                                      </p:cBhvr>
                                      <p:to>
                                        <p:strVal val="visible"/>
                                      </p:to>
                                    </p:set>
                                    <p:animEffect filter="dissolve" transition="in">
                                      <p:cBhvr additive="repl">
                                        <p:cTn id="45" dur="2000"/>
                                        <p:tgtEl>
                                          <p:spTgt spid="61"/>
                                        </p:tgtEl>
                                      </p:cBhvr>
                                    </p:animEffect>
                                  </p:childTnLst>
                                </p:cTn>
                              </p:par>
                              <p:par>
                                <p:cTn id="46" nodeType="withEffect" fill="hold" presetClass="entr" presetID="9">
                                  <p:stCondLst>
                                    <p:cond delay="0"/>
                                  </p:stCondLst>
                                  <p:childTnLst>
                                    <p:set>
                                      <p:cBhvr>
                                        <p:cTn id="47" dur="1" fill="hold">
                                          <p:stCondLst>
                                            <p:cond delay="0"/>
                                          </p:stCondLst>
                                        </p:cTn>
                                        <p:tgtEl>
                                          <p:spTgt spid="62"/>
                                        </p:tgtEl>
                                        <p:attrNameLst>
                                          <p:attrName>style.visibility</p:attrName>
                                        </p:attrNameLst>
                                      </p:cBhvr>
                                      <p:to>
                                        <p:strVal val="visible"/>
                                      </p:to>
                                    </p:set>
                                    <p:animEffect filter="dissolve" transition="in">
                                      <p:cBhvr additive="repl">
                                        <p:cTn id="48" dur="2000"/>
                                        <p:tgtEl>
                                          <p:spTgt spid="6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audio isNarration="0">
                                      <p:cMediaNode showWhenStopped="1">
                                        <p:cTn/>
                                        <p:tgtEl>
                                          <p:sndTgt r:embed="rId42" name="drumroll.wav"/>
                                        </p:tgtEl>
                                      </p:cMediaNode>
                                    </p:audio>
                                    <p:set>
                                      <p:cBhvr>
                                        <p:cTn id="52" dur="1" fill="hold">
                                          <p:stCondLst>
                                            <p:cond delay="0"/>
                                          </p:stCondLst>
                                        </p:cTn>
                                        <p:tgtEl>
                                          <p:spTgt spid="74"/>
                                        </p:tgtEl>
                                        <p:attrNameLst>
                                          <p:attrName>style.visibility</p:attrName>
                                        </p:attrNameLst>
                                      </p:cBhvr>
                                      <p:to>
                                        <p:strVal val="visible"/>
                                      </p:to>
                                    </p:set>
                                    <p:animEffect filter="dissolve" transition="in">
                                      <p:cBhvr additive="repl">
                                        <p:cTn id="53" dur="2000"/>
                                        <p:tgtEl>
                                          <p:spTgt spid="74"/>
                                        </p:tgtEl>
                                      </p:cBhvr>
                                    </p:animEffect>
                                  </p:childTnLst>
                                </p:cTn>
                              </p:par>
                              <p:par>
                                <p:cTn id="54" nodeType="withEffect" fill="hold" presetClass="entr" presetID="9">
                                  <p:stCondLst>
                                    <p:cond delay="0"/>
                                  </p:stCondLst>
                                  <p:childTnLst>
                                    <p:set>
                                      <p:cBhvr>
                                        <p:cTn id="55" dur="1" fill="hold">
                                          <p:stCondLst>
                                            <p:cond delay="0"/>
                                          </p:stCondLst>
                                        </p:cTn>
                                        <p:tgtEl>
                                          <p:spTgt spid="81"/>
                                        </p:tgtEl>
                                        <p:attrNameLst>
                                          <p:attrName>style.visibility</p:attrName>
                                        </p:attrNameLst>
                                      </p:cBhvr>
                                      <p:to>
                                        <p:strVal val="visible"/>
                                      </p:to>
                                    </p:set>
                                    <p:animEffect filter="dissolve" transition="in">
                                      <p:cBhvr additive="repl">
                                        <p:cTn id="56" dur="2000"/>
                                        <p:tgtEl>
                                          <p:spTgt spid="81"/>
                                        </p:tgtEl>
                                      </p:cBhvr>
                                    </p:animEffect>
                                  </p:childTnLst>
                                </p:cTn>
                              </p:par>
                              <p:par>
                                <p:cTn id="57" nodeType="withEffect" fill="hold" presetClass="entr" presetID="9">
                                  <p:stCondLst>
                                    <p:cond delay="0"/>
                                  </p:stCondLst>
                                  <p:childTnLst>
                                    <p:set>
                                      <p:cBhvr>
                                        <p:cTn id="58" dur="1" fill="hold">
                                          <p:stCondLst>
                                            <p:cond delay="0"/>
                                          </p:stCondLst>
                                        </p:cTn>
                                        <p:tgtEl>
                                          <p:spTgt spid="76"/>
                                        </p:tgtEl>
                                        <p:attrNameLst>
                                          <p:attrName>style.visibility</p:attrName>
                                        </p:attrNameLst>
                                      </p:cBhvr>
                                      <p:to>
                                        <p:strVal val="visible"/>
                                      </p:to>
                                    </p:set>
                                    <p:animEffect filter="dissolve" transition="in">
                                      <p:cBhvr additive="repl">
                                        <p:cTn id="59" dur="2000"/>
                                        <p:tgtEl>
                                          <p:spTgt spid="76"/>
                                        </p:tgtEl>
                                      </p:cBhvr>
                                    </p:animEffect>
                                  </p:childTnLst>
                                </p:cTn>
                              </p:par>
                              <p:par>
                                <p:cTn id="60" nodeType="withEffect" fill="hold" presetClass="entr" presetID="9">
                                  <p:stCondLst>
                                    <p:cond delay="0"/>
                                  </p:stCondLst>
                                  <p:childTnLst>
                                    <p:set>
                                      <p:cBhvr>
                                        <p:cTn id="61" dur="1" fill="hold">
                                          <p:stCondLst>
                                            <p:cond delay="0"/>
                                          </p:stCondLst>
                                        </p:cTn>
                                        <p:tgtEl>
                                          <p:spTgt spid="75"/>
                                        </p:tgtEl>
                                        <p:attrNameLst>
                                          <p:attrName>style.visibility</p:attrName>
                                        </p:attrNameLst>
                                      </p:cBhvr>
                                      <p:to>
                                        <p:strVal val="visible"/>
                                      </p:to>
                                    </p:set>
                                    <p:animEffect filter="dissolve" transition="in">
                                      <p:cBhvr additive="repl">
                                        <p:cTn id="62" dur="2000"/>
                                        <p:tgtEl>
                                          <p:spTgt spid="75"/>
                                        </p:tgtEl>
                                      </p:cBhvr>
                                    </p:animEffect>
                                  </p:childTnLst>
                                </p:cTn>
                              </p:par>
                              <p:par>
                                <p:cTn id="63" nodeType="withEffect" fill="hold" presetClass="entr" presetID="9">
                                  <p:stCondLst>
                                    <p:cond delay="0"/>
                                  </p:stCondLst>
                                  <p:childTnLst>
                                    <p:set>
                                      <p:cBhvr>
                                        <p:cTn id="64" dur="1" fill="hold">
                                          <p:stCondLst>
                                            <p:cond delay="0"/>
                                          </p:stCondLst>
                                        </p:cTn>
                                        <p:tgtEl>
                                          <p:spTgt spid="80"/>
                                        </p:tgtEl>
                                        <p:attrNameLst>
                                          <p:attrName>style.visibility</p:attrName>
                                        </p:attrNameLst>
                                      </p:cBhvr>
                                      <p:to>
                                        <p:strVal val="visible"/>
                                      </p:to>
                                    </p:set>
                                    <p:animEffect filter="dissolve" transition="in">
                                      <p:cBhvr additive="repl">
                                        <p:cTn id="65" dur="2000"/>
                                        <p:tgtEl>
                                          <p:spTgt spid="8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audio isNarration="0">
                                      <p:cMediaNode showWhenStopped="1">
                                        <p:cTn/>
                                        <p:tgtEl>
                                          <p:sndTgt r:embed="rId43" name="Tank.wav"/>
                                        </p:tgtEl>
                                      </p:cMediaNode>
                                    </p:audio>
                                    <p:set>
                                      <p:cBhvr>
                                        <p:cTn id="69" dur="1" fill="hold">
                                          <p:stCondLst>
                                            <p:cond delay="0"/>
                                          </p:stCondLst>
                                        </p:cTn>
                                        <p:tgtEl>
                                          <p:spTgt spid="63"/>
                                        </p:tgtEl>
                                        <p:attrNameLst>
                                          <p:attrName>style.visibility</p:attrName>
                                        </p:attrNameLst>
                                      </p:cBhvr>
                                      <p:to>
                                        <p:strVal val="visible"/>
                                      </p:to>
                                    </p:set>
                                    <p:animEffect filter="wipe(left)" transition="in">
                                      <p:cBhvr additive="repl">
                                        <p:cTn id="70" dur="2000"/>
                                        <p:tgtEl>
                                          <p:spTgt spid="63"/>
                                        </p:tgtEl>
                                      </p:cBhvr>
                                    </p:animEffect>
                                  </p:childTnLst>
                                </p:cTn>
                              </p:par>
                              <p:par>
                                <p:cTn id="71" nodeType="withEffect" fill="hold" presetClass="entr" presetID="22" presetSubtype="1">
                                  <p:stCondLst>
                                    <p:cond delay="0"/>
                                  </p:stCondLst>
                                  <p:childTnLst>
                                    <p:set>
                                      <p:cBhvr>
                                        <p:cTn id="72" dur="1" fill="hold">
                                          <p:stCondLst>
                                            <p:cond delay="0"/>
                                          </p:stCondLst>
                                        </p:cTn>
                                        <p:tgtEl>
                                          <p:spTgt spid="71"/>
                                        </p:tgtEl>
                                        <p:attrNameLst>
                                          <p:attrName>style.visibility</p:attrName>
                                        </p:attrNameLst>
                                      </p:cBhvr>
                                      <p:to>
                                        <p:strVal val="visible"/>
                                      </p:to>
                                    </p:set>
                                    <p:animEffect filter="wipe(up)" transition="in">
                                      <p:cBhvr additive="repl">
                                        <p:cTn id="73" dur="2000"/>
                                        <p:tgtEl>
                                          <p:spTgt spid="71"/>
                                        </p:tgtEl>
                                      </p:cBhvr>
                                    </p:animEffect>
                                  </p:childTnLst>
                                </p:cTn>
                              </p:par>
                              <p:par>
                                <p:cTn id="74" nodeType="withEffect" fill="hold" presetClass="entr" presetID="22" presetSubtype="1">
                                  <p:stCondLst>
                                    <p:cond delay="0"/>
                                  </p:stCondLst>
                                  <p:childTnLst>
                                    <p:set>
                                      <p:cBhvr>
                                        <p:cTn id="75" dur="1" fill="hold">
                                          <p:stCondLst>
                                            <p:cond delay="0"/>
                                          </p:stCondLst>
                                        </p:cTn>
                                        <p:tgtEl>
                                          <p:spTgt spid="72"/>
                                        </p:tgtEl>
                                        <p:attrNameLst>
                                          <p:attrName>style.visibility</p:attrName>
                                        </p:attrNameLst>
                                      </p:cBhvr>
                                      <p:to>
                                        <p:strVal val="visible"/>
                                      </p:to>
                                    </p:set>
                                    <p:animEffect filter="wipe(up)" transition="in">
                                      <p:cBhvr additive="repl">
                                        <p:cTn id="76" dur="2000"/>
                                        <p:tgtEl>
                                          <p:spTgt spid="72"/>
                                        </p:tgtEl>
                                      </p:cBhvr>
                                    </p:animEffect>
                                  </p:childTnLst>
                                </p:cTn>
                              </p:par>
                              <p:par>
                                <p:cTn id="77" nodeType="withEffect" fill="hold" presetClass="entr" presetID="22" presetSubtype="4">
                                  <p:stCondLst>
                                    <p:cond delay="0"/>
                                  </p:stCondLst>
                                  <p:childTnLst>
                                    <p:set>
                                      <p:cBhvr>
                                        <p:cTn id="78" dur="1" fill="hold">
                                          <p:stCondLst>
                                            <p:cond delay="0"/>
                                          </p:stCondLst>
                                        </p:cTn>
                                        <p:tgtEl>
                                          <p:spTgt spid="64"/>
                                        </p:tgtEl>
                                        <p:attrNameLst>
                                          <p:attrName>style.visibility</p:attrName>
                                        </p:attrNameLst>
                                      </p:cBhvr>
                                      <p:to>
                                        <p:strVal val="visible"/>
                                      </p:to>
                                    </p:set>
                                    <p:animEffect filter="wipe(down)" transition="in">
                                      <p:cBhvr additive="repl">
                                        <p:cTn id="79" dur="2000"/>
                                        <p:tgtEl>
                                          <p:spTgt spid="64"/>
                                        </p:tgtEl>
                                      </p:cBhvr>
                                    </p:animEffect>
                                  </p:childTnLst>
                                </p:cTn>
                              </p:par>
                              <p:par>
                                <p:cTn id="80" nodeType="withEffect" fill="hold" presetClass="entr" presetID="22" presetSubtype="4">
                                  <p:stCondLst>
                                    <p:cond delay="0"/>
                                  </p:stCondLst>
                                  <p:childTnLst>
                                    <p:set>
                                      <p:cBhvr>
                                        <p:cTn id="81" dur="1" fill="hold">
                                          <p:stCondLst>
                                            <p:cond delay="0"/>
                                          </p:stCondLst>
                                        </p:cTn>
                                        <p:tgtEl>
                                          <p:spTgt spid="65"/>
                                        </p:tgtEl>
                                        <p:attrNameLst>
                                          <p:attrName>style.visibility</p:attrName>
                                        </p:attrNameLst>
                                      </p:cBhvr>
                                      <p:to>
                                        <p:strVal val="visible"/>
                                      </p:to>
                                    </p:set>
                                    <p:animEffect filter="wipe(down)" transition="in">
                                      <p:cBhvr additive="repl">
                                        <p:cTn id="82" dur="2000"/>
                                        <p:tgtEl>
                                          <p:spTgt spid="65"/>
                                        </p:tgtEl>
                                      </p:cBhvr>
                                    </p:animEffect>
                                  </p:childTnLst>
                                </p:cTn>
                              </p:par>
                            </p:childTnLst>
                          </p:cTn>
                        </p:par>
                        <p:par>
                          <p:cTn id="83" fill="hold">
                            <p:stCondLst>
                              <p:cond delay="2000"/>
                            </p:stCondLst>
                            <p:childTnLst>
                              <p:par>
                                <p:cTn id="84" nodeType="afterEffect" fill="hold" presetClass="exit" presetID="22" presetSubtype="8">
                                  <p:stCondLst>
                                    <p:cond delay="0"/>
                                  </p:stCondLst>
                                  <p:childTnLst>
                                    <p:animEffect filter="wipe(left)" transition="out">
                                      <p:cBhvr additive="repl">
                                        <p:cTn id="85" dur="2000"/>
                                        <p:tgtEl>
                                          <p:spTgt spid="63"/>
                                        </p:tgtEl>
                                      </p:cBhvr>
                                    </p:animEffect>
                                    <p:set>
                                      <p:cBhvr>
                                        <p:cTn id="86" dur="1" fill="hold">
                                          <p:stCondLst>
                                            <p:cond delay="1999"/>
                                          </p:stCondLst>
                                        </p:cTn>
                                        <p:tgtEl>
                                          <p:spTgt spid="63"/>
                                        </p:tgtEl>
                                        <p:attrNameLst>
                                          <p:attrName>style.visibility</p:attrName>
                                        </p:attrNameLst>
                                      </p:cBhvr>
                                      <p:to>
                                        <p:strVal val="hidden"/>
                                      </p:to>
                                    </p:set>
                                  </p:childTnLst>
                                </p:cTn>
                              </p:par>
                              <p:par>
                                <p:cTn id="87" nodeType="withEffect" fill="hold" presetClass="exit" presetID="22" presetSubtype="1">
                                  <p:stCondLst>
                                    <p:cond delay="0"/>
                                  </p:stCondLst>
                                  <p:childTnLst>
                                    <p:animEffect filter="wipe(up)" transition="out">
                                      <p:cBhvr additive="repl">
                                        <p:cTn id="88" dur="2000"/>
                                        <p:tgtEl>
                                          <p:spTgt spid="71"/>
                                        </p:tgtEl>
                                      </p:cBhvr>
                                    </p:animEffect>
                                    <p:set>
                                      <p:cBhvr>
                                        <p:cTn id="89" dur="1" fill="hold">
                                          <p:stCondLst>
                                            <p:cond delay="1999"/>
                                          </p:stCondLst>
                                        </p:cTn>
                                        <p:tgtEl>
                                          <p:spTgt spid="71"/>
                                        </p:tgtEl>
                                        <p:attrNameLst>
                                          <p:attrName>style.visibility</p:attrName>
                                        </p:attrNameLst>
                                      </p:cBhvr>
                                      <p:to>
                                        <p:strVal val="hidden"/>
                                      </p:to>
                                    </p:set>
                                  </p:childTnLst>
                                </p:cTn>
                              </p:par>
                              <p:par>
                                <p:cTn id="90" nodeType="withEffect" fill="hold" presetClass="exit" presetID="22" presetSubtype="1">
                                  <p:stCondLst>
                                    <p:cond delay="0"/>
                                  </p:stCondLst>
                                  <p:childTnLst>
                                    <p:animEffect filter="wipe(up)" transition="out">
                                      <p:cBhvr additive="repl">
                                        <p:cTn id="91" dur="2000"/>
                                        <p:tgtEl>
                                          <p:spTgt spid="72"/>
                                        </p:tgtEl>
                                      </p:cBhvr>
                                    </p:animEffect>
                                    <p:set>
                                      <p:cBhvr>
                                        <p:cTn id="92" dur="1" fill="hold">
                                          <p:stCondLst>
                                            <p:cond delay="1999"/>
                                          </p:stCondLst>
                                        </p:cTn>
                                        <p:tgtEl>
                                          <p:spTgt spid="72"/>
                                        </p:tgtEl>
                                        <p:attrNameLst>
                                          <p:attrName>style.visibility</p:attrName>
                                        </p:attrNameLst>
                                      </p:cBhvr>
                                      <p:to>
                                        <p:strVal val="hidden"/>
                                      </p:to>
                                    </p:set>
                                  </p:childTnLst>
                                </p:cTn>
                              </p:par>
                              <p:par>
                                <p:cTn id="93" nodeType="withEffect" fill="hold" presetClass="exit" presetID="22" presetSubtype="4">
                                  <p:stCondLst>
                                    <p:cond delay="0"/>
                                  </p:stCondLst>
                                  <p:childTnLst>
                                    <p:animEffect filter="wipe(down)" transition="out">
                                      <p:cBhvr additive="repl">
                                        <p:cTn id="94" dur="2000"/>
                                        <p:tgtEl>
                                          <p:spTgt spid="65"/>
                                        </p:tgtEl>
                                      </p:cBhvr>
                                    </p:animEffect>
                                    <p:set>
                                      <p:cBhvr>
                                        <p:cTn id="95" dur="1" fill="hold">
                                          <p:stCondLst>
                                            <p:cond delay="1999"/>
                                          </p:stCondLst>
                                        </p:cTn>
                                        <p:tgtEl>
                                          <p:spTgt spid="65"/>
                                        </p:tgtEl>
                                        <p:attrNameLst>
                                          <p:attrName>style.visibility</p:attrName>
                                        </p:attrNameLst>
                                      </p:cBhvr>
                                      <p:to>
                                        <p:strVal val="hidden"/>
                                      </p:to>
                                    </p:set>
                                  </p:childTnLst>
                                </p:cTn>
                              </p:par>
                              <p:par>
                                <p:cTn id="96" nodeType="withEffect" fill="hold" presetClass="exit" presetID="22" presetSubtype="4">
                                  <p:stCondLst>
                                    <p:cond delay="0"/>
                                  </p:stCondLst>
                                  <p:childTnLst>
                                    <p:animEffect filter="wipe(down)" transition="out">
                                      <p:cBhvr additive="repl">
                                        <p:cTn id="97" dur="2000"/>
                                        <p:tgtEl>
                                          <p:spTgt spid="64"/>
                                        </p:tgtEl>
                                      </p:cBhvr>
                                    </p:animEffect>
                                    <p:set>
                                      <p:cBhvr>
                                        <p:cTn id="98" dur="1" fill="hold">
                                          <p:stCondLst>
                                            <p:cond delay="1999"/>
                                          </p:stCondLst>
                                        </p:cTn>
                                        <p:tgtEl>
                                          <p:spTgt spid="64"/>
                                        </p:tgtEl>
                                        <p:attrNameLst>
                                          <p:attrName>style.visibility</p:attrName>
                                        </p:attrNameLst>
                                      </p:cBhvr>
                                      <p:to>
                                        <p:strVal val="hidden"/>
                                      </p:to>
                                    </p:set>
                                  </p:childTnLst>
                                </p:cTn>
                              </p:par>
                              <p:par>
                                <p:cTn id="99" nodeType="withEffect" fill="hold" presetClass="entr" presetID="22" presetSubtype="8">
                                  <p:stCondLst>
                                    <p:cond delay="0"/>
                                  </p:stCondLst>
                                  <p:childTnLst>
                                    <p:set>
                                      <p:cBhvr>
                                        <p:cTn id="100" dur="1" fill="hold">
                                          <p:stCondLst>
                                            <p:cond delay="0"/>
                                          </p:stCondLst>
                                        </p:cTn>
                                        <p:tgtEl>
                                          <p:spTgt spid="51"/>
                                        </p:tgtEl>
                                        <p:attrNameLst>
                                          <p:attrName>style.visibility</p:attrName>
                                        </p:attrNameLst>
                                      </p:cBhvr>
                                      <p:to>
                                        <p:strVal val="visible"/>
                                      </p:to>
                                    </p:set>
                                    <p:animEffect filter="wipe(left)" transition="in">
                                      <p:cBhvr additive="repl">
                                        <p:cTn id="101" dur="2000"/>
                                        <p:tgtEl>
                                          <p:spTgt spid="51"/>
                                        </p:tgtEl>
                                      </p:cBhvr>
                                    </p:animEffect>
                                  </p:childTnLst>
                                </p:cTn>
                              </p:par>
                              <p:par>
                                <p:cTn id="102" nodeType="withEffect" fill="hold" presetClass="entr" presetID="9">
                                  <p:stCondLst>
                                    <p:cond delay="0"/>
                                  </p:stCondLst>
                                  <p:childTnLst>
                                    <p:set>
                                      <p:cBhvr>
                                        <p:cTn id="103" dur="1" fill="hold">
                                          <p:stCondLst>
                                            <p:cond delay="0"/>
                                          </p:stCondLst>
                                        </p:cTn>
                                        <p:tgtEl>
                                          <p:spTgt spid="155"/>
                                        </p:tgtEl>
                                        <p:attrNameLst>
                                          <p:attrName>style.visibility</p:attrName>
                                        </p:attrNameLst>
                                      </p:cBhvr>
                                      <p:to>
                                        <p:strVal val="visible"/>
                                      </p:to>
                                    </p:set>
                                    <p:animEffect filter="dissolve" transition="in">
                                      <p:cBhvr additive="repl">
                                        <p:cTn id="104" dur="2000"/>
                                        <p:tgtEl>
                                          <p:spTgt spid="155"/>
                                        </p:tgtEl>
                                      </p:cBhvr>
                                    </p:animEffect>
                                  </p:childTnLst>
                                </p:cTn>
                              </p:par>
                              <p:par>
                                <p:cTn id="105" nodeType="withEffect" fill="hold" presetClass="entr" presetID="22" presetSubtype="8">
                                  <p:stCondLst>
                                    <p:cond delay="0"/>
                                  </p:stCondLst>
                                  <p:childTnLst>
                                    <p:set>
                                      <p:cBhvr>
                                        <p:cTn id="106" dur="1" fill="hold">
                                          <p:stCondLst>
                                            <p:cond delay="0"/>
                                          </p:stCondLst>
                                        </p:cTn>
                                        <p:tgtEl>
                                          <p:spTgt spid="68"/>
                                        </p:tgtEl>
                                        <p:attrNameLst>
                                          <p:attrName>style.visibility</p:attrName>
                                        </p:attrNameLst>
                                      </p:cBhvr>
                                      <p:to>
                                        <p:strVal val="visible"/>
                                      </p:to>
                                    </p:set>
                                    <p:animEffect filter="wipe(left)" transition="in">
                                      <p:cBhvr additive="repl">
                                        <p:cTn id="107" dur="2000"/>
                                        <p:tgtEl>
                                          <p:spTgt spid="68"/>
                                        </p:tgtEl>
                                      </p:cBhvr>
                                    </p:animEffect>
                                  </p:childTnLst>
                                </p:cTn>
                              </p:par>
                            </p:childTnLst>
                          </p:cTn>
                        </p:par>
                        <p:par>
                          <p:cTn id="108" fill="hold">
                            <p:stCondLst>
                              <p:cond delay="4000"/>
                            </p:stCondLst>
                            <p:childTnLst>
                              <p:par>
                                <p:cTn id="109" nodeType="afterEffect" fill="hold" presetClass="entr" presetID="22" presetSubtype="2">
                                  <p:stCondLst>
                                    <p:cond delay="0"/>
                                  </p:stCondLst>
                                  <p:childTnLst>
                                    <p:set>
                                      <p:cBhvr>
                                        <p:cTn id="110" dur="1" fill="hold">
                                          <p:stCondLst>
                                            <p:cond delay="0"/>
                                          </p:stCondLst>
                                        </p:cTn>
                                        <p:tgtEl>
                                          <p:spTgt spid="66"/>
                                        </p:tgtEl>
                                        <p:attrNameLst>
                                          <p:attrName>style.visibility</p:attrName>
                                        </p:attrNameLst>
                                      </p:cBhvr>
                                      <p:to>
                                        <p:strVal val="visible"/>
                                      </p:to>
                                    </p:set>
                                    <p:animEffect filter="wipe(right)" transition="in">
                                      <p:cBhvr additive="repl">
                                        <p:cTn id="111" dur="2000"/>
                                        <p:tgtEl>
                                          <p:spTgt spid="66"/>
                                        </p:tgtEl>
                                      </p:cBhvr>
                                    </p:animEffect>
                                  </p:childTnLst>
                                </p:cTn>
                              </p:par>
                              <p:par>
                                <p:cTn id="112" nodeType="withEffect" fill="hold" presetClass="entr" presetID="9">
                                  <p:stCondLst>
                                    <p:cond delay="0"/>
                                  </p:stCondLst>
                                  <p:childTnLst>
                                    <p:set>
                                      <p:cBhvr>
                                        <p:cTn id="113" dur="1" fill="hold">
                                          <p:stCondLst>
                                            <p:cond delay="0"/>
                                          </p:stCondLst>
                                        </p:cTn>
                                        <p:tgtEl>
                                          <p:spTgt spid="70"/>
                                        </p:tgtEl>
                                        <p:attrNameLst>
                                          <p:attrName>style.visibility</p:attrName>
                                        </p:attrNameLst>
                                      </p:cBhvr>
                                      <p:to>
                                        <p:strVal val="visible"/>
                                      </p:to>
                                    </p:set>
                                    <p:animEffect filter="dissolve" transition="in">
                                      <p:cBhvr additive="repl">
                                        <p:cTn id="114" dur="2000"/>
                                        <p:tgtEl>
                                          <p:spTgt spid="7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audio isNarration="0">
                                      <p:cMediaNode showWhenStopped="1">
                                        <p:cTn/>
                                        <p:tgtEl>
                                          <p:sndTgt r:embed="rId44" name="drumroll.wav"/>
                                        </p:tgtEl>
                                      </p:cMediaNode>
                                    </p:audio>
                                    <p:set>
                                      <p:cBhvr>
                                        <p:cTn id="118" dur="1" fill="hold">
                                          <p:stCondLst>
                                            <p:cond delay="0"/>
                                          </p:stCondLst>
                                        </p:cTn>
                                        <p:tgtEl>
                                          <p:spTgt spid="114"/>
                                        </p:tgtEl>
                                        <p:attrNameLst>
                                          <p:attrName>style.visibility</p:attrName>
                                        </p:attrNameLst>
                                      </p:cBhvr>
                                      <p:to>
                                        <p:strVal val="visible"/>
                                      </p:to>
                                    </p:set>
                                    <p:animEffect filter="dissolve" transition="in">
                                      <p:cBhvr additive="repl">
                                        <p:cTn id="119" dur="2000"/>
                                        <p:tgtEl>
                                          <p:spTgt spid="114"/>
                                        </p:tgtEl>
                                      </p:cBhvr>
                                    </p:animEffect>
                                  </p:childTnLst>
                                </p:cTn>
                              </p:par>
                              <p:par>
                                <p:cTn id="120" nodeType="withEffect" fill="hold" presetClass="entr" presetID="9">
                                  <p:stCondLst>
                                    <p:cond delay="0"/>
                                  </p:stCondLst>
                                  <p:childTnLst>
                                    <p:set>
                                      <p:cBhvr>
                                        <p:cTn id="121" dur="1" fill="hold">
                                          <p:stCondLst>
                                            <p:cond delay="0"/>
                                          </p:stCondLst>
                                        </p:cTn>
                                        <p:tgtEl>
                                          <p:spTgt spid="115"/>
                                        </p:tgtEl>
                                        <p:attrNameLst>
                                          <p:attrName>style.visibility</p:attrName>
                                        </p:attrNameLst>
                                      </p:cBhvr>
                                      <p:to>
                                        <p:strVal val="visible"/>
                                      </p:to>
                                    </p:set>
                                    <p:animEffect filter="dissolve" transition="in">
                                      <p:cBhvr additive="repl">
                                        <p:cTn id="122" dur="2000"/>
                                        <p:tgtEl>
                                          <p:spTgt spid="115"/>
                                        </p:tgtEl>
                                      </p:cBhvr>
                                    </p:animEffect>
                                  </p:childTnLst>
                                </p:cTn>
                              </p:par>
                              <p:par>
                                <p:cTn id="123" nodeType="withEffect" fill="hold" presetClass="entr" presetID="9">
                                  <p:stCondLst>
                                    <p:cond delay="0"/>
                                  </p:stCondLst>
                                  <p:childTnLst>
                                    <p:set>
                                      <p:cBhvr>
                                        <p:cTn id="124" dur="1" fill="hold">
                                          <p:stCondLst>
                                            <p:cond delay="0"/>
                                          </p:stCondLst>
                                        </p:cTn>
                                        <p:tgtEl>
                                          <p:spTgt spid="116"/>
                                        </p:tgtEl>
                                        <p:attrNameLst>
                                          <p:attrName>style.visibility</p:attrName>
                                        </p:attrNameLst>
                                      </p:cBhvr>
                                      <p:to>
                                        <p:strVal val="visible"/>
                                      </p:to>
                                    </p:set>
                                    <p:animEffect filter="dissolve" transition="in">
                                      <p:cBhvr additive="repl">
                                        <p:cTn id="125" dur="2000"/>
                                        <p:tgtEl>
                                          <p:spTgt spid="116"/>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audio isNarration="0">
                                      <p:cMediaNode showWhenStopped="1">
                                        <p:cTn/>
                                        <p:tgtEl>
                                          <p:sndTgt r:embed="rId45" name="drumroll.wav"/>
                                        </p:tgtEl>
                                      </p:cMediaNode>
                                    </p:audio>
                                    <p:set>
                                      <p:cBhvr>
                                        <p:cTn id="128" dur="1" fill="hold">
                                          <p:stCondLst>
                                            <p:cond delay="0"/>
                                          </p:stCondLst>
                                        </p:cTn>
                                        <p:tgtEl>
                                          <p:spTgt spid="93"/>
                                        </p:tgtEl>
                                        <p:attrNameLst>
                                          <p:attrName>style.visibility</p:attrName>
                                        </p:attrNameLst>
                                      </p:cBhvr>
                                      <p:to>
                                        <p:strVal val="visible"/>
                                      </p:to>
                                    </p:set>
                                    <p:animEffect filter="wipe(down)" transition="in">
                                      <p:cBhvr additive="repl">
                                        <p:cTn id="129" dur="1000"/>
                                        <p:tgtEl>
                                          <p:spTgt spid="93"/>
                                        </p:tgtEl>
                                      </p:cBhvr>
                                    </p:animEffect>
                                  </p:childTnLst>
                                </p:cTn>
                              </p:par>
                              <p:par>
                                <p:cTn id="130" nodeType="withEffect" fill="hold" presetClass="entr" presetID="9">
                                  <p:stCondLst>
                                    <p:cond delay="0"/>
                                  </p:stCondLst>
                                  <p:childTnLst>
                                    <p:set>
                                      <p:cBhvr>
                                        <p:cTn id="131" dur="1" fill="hold">
                                          <p:stCondLst>
                                            <p:cond delay="0"/>
                                          </p:stCondLst>
                                        </p:cTn>
                                        <p:tgtEl>
                                          <p:spTgt spid="151"/>
                                        </p:tgtEl>
                                        <p:attrNameLst>
                                          <p:attrName>style.visibility</p:attrName>
                                        </p:attrNameLst>
                                      </p:cBhvr>
                                      <p:to>
                                        <p:strVal val="visible"/>
                                      </p:to>
                                    </p:set>
                                    <p:animEffect filter="dissolve" transition="in">
                                      <p:cBhvr additive="repl">
                                        <p:cTn id="132" dur="500"/>
                                        <p:tgtEl>
                                          <p:spTgt spid="151"/>
                                        </p:tgtEl>
                                      </p:cBhvr>
                                    </p:animEffect>
                                  </p:childTnLst>
                                </p:cTn>
                              </p:par>
                            </p:childTnLst>
                          </p:cTn>
                        </p:par>
                        <p:par>
                          <p:cTn id="133" fill="hold">
                            <p:stCondLst>
                              <p:cond delay="3000"/>
                            </p:stCondLst>
                            <p:childTnLst>
                              <p:par>
                                <p:cTn id="134" nodeType="afterEffect" fill="hold" presetClass="entr" presetID="9">
                                  <p:stCondLst>
                                    <p:cond delay="0"/>
                                  </p:stCondLst>
                                  <p:childTnLst>
                                    <p:set>
                                      <p:cBhvr>
                                        <p:cTn id="135" dur="1" fill="hold">
                                          <p:stCondLst>
                                            <p:cond delay="0"/>
                                          </p:stCondLst>
                                        </p:cTn>
                                        <p:tgtEl>
                                          <p:spTgt spid="119"/>
                                        </p:tgtEl>
                                        <p:attrNameLst>
                                          <p:attrName>style.visibility</p:attrName>
                                        </p:attrNameLst>
                                      </p:cBhvr>
                                      <p:to>
                                        <p:strVal val="visible"/>
                                      </p:to>
                                    </p:set>
                                    <p:animEffect filter="dissolve" transition="in">
                                      <p:cBhvr additive="repl">
                                        <p:cTn id="136" dur="500"/>
                                        <p:tgtEl>
                                          <p:spTgt spid="119"/>
                                        </p:tgtEl>
                                      </p:cBhvr>
                                    </p:animEffect>
                                  </p:childTnLst>
                                </p:cTn>
                              </p:par>
                            </p:childTnLst>
                          </p:cTn>
                        </p:par>
                        <p:par>
                          <p:cTn id="137" fill="hold">
                            <p:stCondLst>
                              <p:cond delay="3500"/>
                            </p:stCondLst>
                            <p:childTnLst>
                              <p:par>
                                <p:cTn id="138" nodeType="afterEffect" fill="hold" presetClass="entr" presetID="9">
                                  <p:stCondLst>
                                    <p:cond delay="0"/>
                                  </p:stCondLst>
                                  <p:childTnLst>
                                    <p:set>
                                      <p:cBhvr>
                                        <p:cTn id="139" dur="1" fill="hold">
                                          <p:stCondLst>
                                            <p:cond delay="0"/>
                                          </p:stCondLst>
                                        </p:cTn>
                                        <p:tgtEl>
                                          <p:spTgt spid="113"/>
                                        </p:tgtEl>
                                        <p:attrNameLst>
                                          <p:attrName>style.visibility</p:attrName>
                                        </p:attrNameLst>
                                      </p:cBhvr>
                                      <p:to>
                                        <p:strVal val="visible"/>
                                      </p:to>
                                    </p:set>
                                    <p:animEffect filter="dissolve" transition="in">
                                      <p:cBhvr additive="repl">
                                        <p:cTn id="140" dur="500"/>
                                        <p:tgtEl>
                                          <p:spTgt spid="113"/>
                                        </p:tgtEl>
                                      </p:cBhvr>
                                    </p:animEffect>
                                  </p:childTnLst>
                                </p:cTn>
                              </p:par>
                            </p:childTnLst>
                          </p:cTn>
                        </p:par>
                        <p:par>
                          <p:cTn id="141" fill="hold">
                            <p:stCondLst>
                              <p:cond delay="4000"/>
                            </p:stCondLst>
                            <p:childTnLst>
                              <p:par>
                                <p:cTn id="142" nodeType="afterEffect" fill="hold" presetClass="entr" presetID="9">
                                  <p:stCondLst>
                                    <p:cond delay="0"/>
                                  </p:stCondLst>
                                  <p:childTnLst>
                                    <p:set>
                                      <p:cBhvr>
                                        <p:cTn id="143" dur="1" fill="hold">
                                          <p:stCondLst>
                                            <p:cond delay="0"/>
                                          </p:stCondLst>
                                        </p:cTn>
                                        <p:tgtEl>
                                          <p:spTgt spid="118"/>
                                        </p:tgtEl>
                                        <p:attrNameLst>
                                          <p:attrName>style.visibility</p:attrName>
                                        </p:attrNameLst>
                                      </p:cBhvr>
                                      <p:to>
                                        <p:strVal val="visible"/>
                                      </p:to>
                                    </p:set>
                                    <p:animEffect filter="dissolve" transition="in">
                                      <p:cBhvr additive="repl">
                                        <p:cTn id="144" dur="500"/>
                                        <p:tgtEl>
                                          <p:spTgt spid="118"/>
                                        </p:tgtEl>
                                      </p:cBhvr>
                                    </p:animEffect>
                                  </p:childTnLst>
                                </p:cTn>
                              </p:par>
                            </p:childTnLst>
                          </p:cTn>
                        </p:par>
                        <p:par>
                          <p:cTn id="145" fill="hold">
                            <p:stCondLst>
                              <p:cond delay="4500"/>
                            </p:stCondLst>
                            <p:childTnLst>
                              <p:par>
                                <p:cTn id="146" nodeType="afterEffect" fill="hold" presetClass="entr" presetID="9">
                                  <p:stCondLst>
                                    <p:cond delay="0"/>
                                  </p:stCondLst>
                                  <p:childTnLst>
                                    <p:set>
                                      <p:cBhvr>
                                        <p:cTn id="147" dur="1" fill="hold">
                                          <p:stCondLst>
                                            <p:cond delay="0"/>
                                          </p:stCondLst>
                                        </p:cTn>
                                        <p:tgtEl>
                                          <p:spTgt spid="117"/>
                                        </p:tgtEl>
                                        <p:attrNameLst>
                                          <p:attrName>style.visibility</p:attrName>
                                        </p:attrNameLst>
                                      </p:cBhvr>
                                      <p:to>
                                        <p:strVal val="visible"/>
                                      </p:to>
                                    </p:set>
                                    <p:animEffect filter="dissolve" transition="in">
                                      <p:cBhvr additive="repl">
                                        <p:cTn id="148" dur="500"/>
                                        <p:tgtEl>
                                          <p:spTgt spid="117"/>
                                        </p:tgtEl>
                                      </p:cBhvr>
                                    </p:animEffect>
                                  </p:childTnLst>
                                </p:cTn>
                              </p:par>
                            </p:childTnLst>
                          </p:cTn>
                        </p:par>
                        <p:par>
                          <p:cTn id="149" fill="hold">
                            <p:stCondLst>
                              <p:cond delay="5000"/>
                            </p:stCondLst>
                            <p:childTnLst>
                              <p:par>
                                <p:cTn id="150" nodeType="afterEffect" fill="hold" presetClass="entr" presetID="9">
                                  <p:stCondLst>
                                    <p:cond delay="0"/>
                                  </p:stCondLst>
                                  <p:childTnLst>
                                    <p:set>
                                      <p:cBhvr>
                                        <p:cTn id="151" dur="1" fill="hold">
                                          <p:stCondLst>
                                            <p:cond delay="0"/>
                                          </p:stCondLst>
                                        </p:cTn>
                                        <p:tgtEl>
                                          <p:spTgt spid="152"/>
                                        </p:tgtEl>
                                        <p:attrNameLst>
                                          <p:attrName>style.visibility</p:attrName>
                                        </p:attrNameLst>
                                      </p:cBhvr>
                                      <p:to>
                                        <p:strVal val="visible"/>
                                      </p:to>
                                    </p:set>
                                    <p:animEffect filter="dissolve" transition="in">
                                      <p:cBhvr additive="repl">
                                        <p:cTn id="152" dur="500"/>
                                        <p:tgtEl>
                                          <p:spTgt spid="15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audio isNarration="0">
                                      <p:cMediaNode showWhenStopped="1">
                                        <p:cTn/>
                                        <p:tgtEl>
                                          <p:sndTgt r:embed="rId46" name="trucks028.wav"/>
                                        </p:tgtEl>
                                      </p:cMediaNode>
                                    </p:audio>
                                    <p:set>
                                      <p:cBhvr>
                                        <p:cTn id="156" dur="1" fill="hold">
                                          <p:stCondLst>
                                            <p:cond delay="0"/>
                                          </p:stCondLst>
                                        </p:cTn>
                                        <p:tgtEl>
                                          <p:spTgt spid="82"/>
                                        </p:tgtEl>
                                        <p:attrNameLst>
                                          <p:attrName>style.visibility</p:attrName>
                                        </p:attrNameLst>
                                      </p:cBhvr>
                                      <p:to>
                                        <p:strVal val="visible"/>
                                      </p:to>
                                    </p:set>
                                    <p:animEffect filter="wipe(down)" transition="in">
                                      <p:cBhvr additive="repl">
                                        <p:cTn id="157" dur="2000"/>
                                        <p:tgtEl>
                                          <p:spTgt spid="82"/>
                                        </p:tgtEl>
                                      </p:cBhvr>
                                    </p:animEffect>
                                  </p:childTnLst>
                                </p:cTn>
                              </p:par>
                            </p:childTnLst>
                          </p:cTn>
                        </p:par>
                        <p:par>
                          <p:cTn id="158" fill="hold">
                            <p:stCondLst>
                              <p:cond delay="2000"/>
                            </p:stCondLst>
                            <p:childTnLst>
                              <p:par>
                                <p:cTn id="159" nodeType="afterEffect" fill="hold" presetClass="entr" presetID="22" presetSubtype="4">
                                  <p:stCondLst>
                                    <p:cond delay="0"/>
                                  </p:stCondLst>
                                  <p:childTnLst>
                                    <p:set>
                                      <p:cBhvr>
                                        <p:cTn id="160" dur="1" fill="hold">
                                          <p:stCondLst>
                                            <p:cond delay="0"/>
                                          </p:stCondLst>
                                        </p:cTn>
                                        <p:tgtEl>
                                          <p:spTgt spid="49"/>
                                        </p:tgtEl>
                                        <p:attrNameLst>
                                          <p:attrName>style.visibility</p:attrName>
                                        </p:attrNameLst>
                                      </p:cBhvr>
                                      <p:to>
                                        <p:strVal val="visible"/>
                                      </p:to>
                                    </p:set>
                                    <p:animEffect filter="wipe(down)" transition="in">
                                      <p:cBhvr additive="repl">
                                        <p:cTn id="161" dur="2000"/>
                                        <p:tgtEl>
                                          <p:spTgt spid="49"/>
                                        </p:tgtEl>
                                      </p:cBhvr>
                                    </p:animEffect>
                                  </p:childTnLst>
                                </p:cTn>
                              </p:par>
                              <p:par>
                                <p:cTn id="162" nodeType="withEffect" fill="hold" presetClass="entr" presetID="22" presetSubtype="4">
                                  <p:stCondLst>
                                    <p:cond delay="0"/>
                                  </p:stCondLst>
                                  <p:childTnLst>
                                    <p:set>
                                      <p:cBhvr>
                                        <p:cTn id="163" dur="1" fill="hold">
                                          <p:stCondLst>
                                            <p:cond delay="0"/>
                                          </p:stCondLst>
                                        </p:cTn>
                                        <p:tgtEl>
                                          <p:spTgt spid="83"/>
                                        </p:tgtEl>
                                        <p:attrNameLst>
                                          <p:attrName>style.visibility</p:attrName>
                                        </p:attrNameLst>
                                      </p:cBhvr>
                                      <p:to>
                                        <p:strVal val="visible"/>
                                      </p:to>
                                    </p:set>
                                    <p:animEffect filter="wipe(down)" transition="in">
                                      <p:cBhvr additive="repl">
                                        <p:cTn id="164" dur="2000"/>
                                        <p:tgtEl>
                                          <p:spTgt spid="83"/>
                                        </p:tgtEl>
                                      </p:cBhvr>
                                    </p:animEffect>
                                  </p:childTnLst>
                                </p:cTn>
                              </p:par>
                              <p:par>
                                <p:cTn id="165" nodeType="withEffect" fill="hold" presetClass="entr" presetID="22" presetSubtype="4">
                                  <p:stCondLst>
                                    <p:cond delay="0"/>
                                  </p:stCondLst>
                                  <p:childTnLst>
                                    <p:set>
                                      <p:cBhvr>
                                        <p:cTn id="166" dur="1" fill="hold">
                                          <p:stCondLst>
                                            <p:cond delay="0"/>
                                          </p:stCondLst>
                                        </p:cTn>
                                        <p:tgtEl>
                                          <p:spTgt spid="85"/>
                                        </p:tgtEl>
                                        <p:attrNameLst>
                                          <p:attrName>style.visibility</p:attrName>
                                        </p:attrNameLst>
                                      </p:cBhvr>
                                      <p:to>
                                        <p:strVal val="visible"/>
                                      </p:to>
                                    </p:set>
                                    <p:animEffect filter="wipe(down)" transition="in">
                                      <p:cBhvr additive="repl">
                                        <p:cTn id="167" dur="2000"/>
                                        <p:tgtEl>
                                          <p:spTgt spid="85"/>
                                        </p:tgtEl>
                                      </p:cBhvr>
                                    </p:animEffect>
                                  </p:childTnLst>
                                </p:cTn>
                              </p:par>
                              <p:par>
                                <p:cTn id="168" nodeType="withEffect" fill="hold" presetClass="entr" presetID="22" presetSubtype="4">
                                  <p:stCondLst>
                                    <p:cond delay="0"/>
                                  </p:stCondLst>
                                  <p:childTnLst>
                                    <p:set>
                                      <p:cBhvr>
                                        <p:cTn id="169" dur="1" fill="hold">
                                          <p:stCondLst>
                                            <p:cond delay="0"/>
                                          </p:stCondLst>
                                        </p:cTn>
                                        <p:tgtEl>
                                          <p:spTgt spid="84"/>
                                        </p:tgtEl>
                                        <p:attrNameLst>
                                          <p:attrName>style.visibility</p:attrName>
                                        </p:attrNameLst>
                                      </p:cBhvr>
                                      <p:to>
                                        <p:strVal val="visible"/>
                                      </p:to>
                                    </p:set>
                                    <p:animEffect filter="wipe(down)" transition="in">
                                      <p:cBhvr additive="repl">
                                        <p:cTn id="170" dur="2000"/>
                                        <p:tgtEl>
                                          <p:spTgt spid="84"/>
                                        </p:tgtEl>
                                      </p:cBhvr>
                                    </p:animEffect>
                                  </p:childTnLst>
                                </p:cTn>
                              </p:par>
                              <p:par>
                                <p:cTn id="171" nodeType="withEffect" fill="hold" presetClass="exit" presetID="22" presetSubtype="4">
                                  <p:stCondLst>
                                    <p:cond delay="0"/>
                                  </p:stCondLst>
                                  <p:childTnLst>
                                    <p:animEffect filter="wipe(down)" transition="out">
                                      <p:cBhvr additive="repl">
                                        <p:cTn id="172" dur="2000"/>
                                        <p:tgtEl>
                                          <p:spTgt spid="82"/>
                                        </p:tgtEl>
                                      </p:cBhvr>
                                    </p:animEffect>
                                    <p:set>
                                      <p:cBhvr>
                                        <p:cTn id="173" dur="1" fill="hold">
                                          <p:stCondLst>
                                            <p:cond delay="1999"/>
                                          </p:stCondLst>
                                        </p:cTn>
                                        <p:tgtEl>
                                          <p:spTgt spid="82"/>
                                        </p:tgtEl>
                                        <p:attrNameLst>
                                          <p:attrName>style.visibility</p:attrName>
                                        </p:attrNameLst>
                                      </p:cBhvr>
                                      <p:to>
                                        <p:strVal val="hidden"/>
                                      </p:to>
                                    </p:set>
                                  </p:childTnLst>
                                </p:cTn>
                              </p:par>
                              <p:par>
                                <p:cTn id="174" nodeType="withEffect" fill="hold" presetClass="entr" presetID="9">
                                  <p:stCondLst>
                                    <p:cond delay="0"/>
                                  </p:stCondLst>
                                  <p:childTnLst>
                                    <p:set>
                                      <p:cBhvr>
                                        <p:cTn id="175" dur="1" fill="hold">
                                          <p:stCondLst>
                                            <p:cond delay="0"/>
                                          </p:stCondLst>
                                        </p:cTn>
                                        <p:tgtEl>
                                          <p:spTgt spid="86"/>
                                        </p:tgtEl>
                                        <p:attrNameLst>
                                          <p:attrName>style.visibility</p:attrName>
                                        </p:attrNameLst>
                                      </p:cBhvr>
                                      <p:to>
                                        <p:strVal val="visible"/>
                                      </p:to>
                                    </p:set>
                                    <p:animEffect filter="dissolve" transition="in">
                                      <p:cBhvr additive="repl">
                                        <p:cTn id="176" dur="2000"/>
                                        <p:tgtEl>
                                          <p:spTgt spid="8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audio isNarration="0">
                                      <p:cMediaNode showWhenStopped="1">
                                        <p:cTn/>
                                        <p:tgtEl>
                                          <p:sndTgt r:embed="rId47" name="SHIP%20HORN.wav"/>
                                        </p:tgtEl>
                                      </p:cMediaNode>
                                    </p:audio>
                                    <p:set>
                                      <p:cBhvr>
                                        <p:cTn id="180" dur="1" fill="hold">
                                          <p:stCondLst>
                                            <p:cond delay="0"/>
                                          </p:stCondLst>
                                        </p:cTn>
                                        <p:tgtEl>
                                          <p:spTgt spid="89"/>
                                        </p:tgtEl>
                                        <p:attrNameLst>
                                          <p:attrName>style.visibility</p:attrName>
                                        </p:attrNameLst>
                                      </p:cBhvr>
                                      <p:to>
                                        <p:strVal val="visible"/>
                                      </p:to>
                                    </p:set>
                                    <p:animEffect filter="wipe(down)" transition="in">
                                      <p:cBhvr additive="repl">
                                        <p:cTn id="181" dur="2000"/>
                                        <p:tgtEl>
                                          <p:spTgt spid="89"/>
                                        </p:tgtEl>
                                      </p:cBhvr>
                                    </p:animEffect>
                                  </p:childTnLst>
                                </p:cTn>
                              </p:par>
                              <p:par>
                                <p:cTn id="182" nodeType="withEffect" fill="hold" presetClass="entr" presetID="22" presetSubtype="4">
                                  <p:stCondLst>
                                    <p:cond delay="0"/>
                                  </p:stCondLst>
                                  <p:childTnLst>
                                    <p:set>
                                      <p:cBhvr>
                                        <p:cTn id="183" dur="1" fill="hold">
                                          <p:stCondLst>
                                            <p:cond delay="0"/>
                                          </p:stCondLst>
                                        </p:cTn>
                                        <p:tgtEl>
                                          <p:spTgt spid="90"/>
                                        </p:tgtEl>
                                        <p:attrNameLst>
                                          <p:attrName>style.visibility</p:attrName>
                                        </p:attrNameLst>
                                      </p:cBhvr>
                                      <p:to>
                                        <p:strVal val="visible"/>
                                      </p:to>
                                    </p:set>
                                    <p:animEffect filter="wipe(down)" transition="in">
                                      <p:cBhvr additive="repl">
                                        <p:cTn id="184" dur="2000"/>
                                        <p:tgtEl>
                                          <p:spTgt spid="90"/>
                                        </p:tgtEl>
                                      </p:cBhvr>
                                    </p:animEffect>
                                  </p:childTnLst>
                                </p:cTn>
                              </p:par>
                              <p:par>
                                <p:cTn id="185" nodeType="withEffect" fill="hold" presetClass="entr" presetID="22" presetSubtype="4">
                                  <p:stCondLst>
                                    <p:cond delay="0"/>
                                  </p:stCondLst>
                                  <p:childTnLst>
                                    <p:set>
                                      <p:cBhvr>
                                        <p:cTn id="186" dur="1" fill="hold">
                                          <p:stCondLst>
                                            <p:cond delay="0"/>
                                          </p:stCondLst>
                                        </p:cTn>
                                        <p:tgtEl>
                                          <p:spTgt spid="91"/>
                                        </p:tgtEl>
                                        <p:attrNameLst>
                                          <p:attrName>style.visibility</p:attrName>
                                        </p:attrNameLst>
                                      </p:cBhvr>
                                      <p:to>
                                        <p:strVal val="visible"/>
                                      </p:to>
                                    </p:set>
                                    <p:animEffect filter="wipe(down)" transition="in">
                                      <p:cBhvr additive="repl">
                                        <p:cTn id="187" dur="2000"/>
                                        <p:tgtEl>
                                          <p:spTgt spid="91"/>
                                        </p:tgtEl>
                                      </p:cBhvr>
                                    </p:animEffect>
                                  </p:childTnLst>
                                </p:cTn>
                              </p:par>
                              <p:par>
                                <p:cTn id="188" nodeType="withEffect" fill="hold" presetClass="entr" presetID="22" presetSubtype="4">
                                  <p:stCondLst>
                                    <p:cond delay="0"/>
                                  </p:stCondLst>
                                  <p:childTnLst>
                                    <p:set>
                                      <p:cBhvr>
                                        <p:cTn id="189" dur="1" fill="hold">
                                          <p:stCondLst>
                                            <p:cond delay="0"/>
                                          </p:stCondLst>
                                        </p:cTn>
                                        <p:tgtEl>
                                          <p:spTgt spid="92"/>
                                        </p:tgtEl>
                                        <p:attrNameLst>
                                          <p:attrName>style.visibility</p:attrName>
                                        </p:attrNameLst>
                                      </p:cBhvr>
                                      <p:to>
                                        <p:strVal val="visible"/>
                                      </p:to>
                                    </p:set>
                                    <p:animEffect filter="wipe(down)" transition="in">
                                      <p:cBhvr additive="repl">
                                        <p:cTn id="190" dur="2000"/>
                                        <p:tgtEl>
                                          <p:spTgt spid="92"/>
                                        </p:tgtEl>
                                      </p:cBhvr>
                                    </p:animEffect>
                                  </p:childTnLst>
                                </p:cTn>
                              </p:par>
                            </p:childTnLst>
                          </p:cTn>
                        </p:par>
                        <p:par>
                          <p:cTn id="191" fill="hold">
                            <p:stCondLst>
                              <p:cond delay="2000"/>
                            </p:stCondLst>
                            <p:childTnLst>
                              <p:par>
                                <p:cTn id="192" nodeType="afterEffect" fill="hold" presetClass="entr" presetID="9">
                                  <p:stCondLst>
                                    <p:cond delay="0"/>
                                  </p:stCondLst>
                                  <p:childTnLst>
                                    <p:set>
                                      <p:cBhvr>
                                        <p:cTn id="193" dur="1" fill="hold">
                                          <p:stCondLst>
                                            <p:cond delay="0"/>
                                          </p:stCondLst>
                                        </p:cTn>
                                        <p:tgtEl>
                                          <p:spTgt spid="124"/>
                                        </p:tgtEl>
                                        <p:attrNameLst>
                                          <p:attrName>style.visibility</p:attrName>
                                        </p:attrNameLst>
                                      </p:cBhvr>
                                      <p:to>
                                        <p:strVal val="visible"/>
                                      </p:to>
                                    </p:set>
                                    <p:animEffect filter="dissolve" transition="in">
                                      <p:cBhvr additive="repl">
                                        <p:cTn id="194" dur="500"/>
                                        <p:tgtEl>
                                          <p:spTgt spid="124"/>
                                        </p:tgtEl>
                                      </p:cBhvr>
                                    </p:animEffect>
                                  </p:childTnLst>
                                </p:cTn>
                              </p:par>
                              <p:par>
                                <p:cTn id="195" nodeType="withEffect" fill="hold" presetClass="entr" presetID="9">
                                  <p:stCondLst>
                                    <p:cond delay="0"/>
                                  </p:stCondLst>
                                  <p:childTnLst>
                                    <p:set>
                                      <p:cBhvr>
                                        <p:cTn id="196" dur="1" fill="hold">
                                          <p:stCondLst>
                                            <p:cond delay="0"/>
                                          </p:stCondLst>
                                        </p:cTn>
                                        <p:tgtEl>
                                          <p:spTgt spid="131"/>
                                        </p:tgtEl>
                                        <p:attrNameLst>
                                          <p:attrName>style.visibility</p:attrName>
                                        </p:attrNameLst>
                                      </p:cBhvr>
                                      <p:to>
                                        <p:strVal val="visible"/>
                                      </p:to>
                                    </p:set>
                                    <p:animEffect filter="dissolve" transition="in">
                                      <p:cBhvr additive="repl">
                                        <p:cTn id="197" dur="500"/>
                                        <p:tgtEl>
                                          <p:spTgt spid="131"/>
                                        </p:tgtEl>
                                      </p:cBhvr>
                                    </p:animEffect>
                                  </p:childTnLst>
                                </p:cTn>
                              </p:par>
                            </p:childTnLst>
                          </p:cTn>
                        </p:par>
                        <p:par>
                          <p:cTn id="198" fill="hold">
                            <p:stCondLst>
                              <p:cond delay="2500"/>
                            </p:stCondLst>
                            <p:childTnLst>
                              <p:par>
                                <p:cTn id="199" nodeType="afterEffect" fill="hold" presetClass="path" presetID="0">
                                  <p:stCondLst>
                                    <p:cond delay="0"/>
                                  </p:stCondLst>
                                  <p:childTnLst>
                                    <p:audio isNarration="0">
                                      <p:cMediaNode showWhenStopped="1">
                                        <p:cTn/>
                                        <p:tgtEl>
                                          <p:sndTgt r:embed="rId48" name="airplanes.wav"/>
                                        </p:tgtEl>
                                      </p:cMediaNode>
                                    </p:audio>
                                    <p:animMotion origin="layout" path="M -2.22222E-006 4.07407E-006 L -2.22222E-006 -0.02408 L -0.00087 -0.06158 E">
                                      <p:cBhvr>
                                        <p:cTn id="200" dur="2000" fill="hold"/>
                                        <p:tgtEl>
                                          <p:spTgt spid="124"/>
                                        </p:tgtEl>
                                      </p:cBhvr>
                                    </p:animMotion>
                                  </p:childTnLst>
                                </p:cTn>
                              </p:par>
                              <p:par>
                                <p:cTn id="201" nodeType="withEffect" fill="hold" presetClass="path" presetID="0">
                                  <p:stCondLst>
                                    <p:cond delay="0"/>
                                  </p:stCondLst>
                                  <p:childTnLst>
                                    <p:animMotion origin="layout" path="M 5.55556E-007 -2.96296E-006 L 0.00382 -0.02453 L 0.00972 -0.06342 E">
                                      <p:cBhvr>
                                        <p:cTn id="202" dur="2000" fill="hold"/>
                                        <p:tgtEl>
                                          <p:spTgt spid="131"/>
                                        </p:tgtEl>
                                      </p:cBhvr>
                                    </p:animMotion>
                                  </p:childTnLst>
                                </p:cTn>
                              </p:par>
                            </p:childTnLst>
                          </p:cTn>
                        </p:par>
                        <p:par>
                          <p:cTn id="203" fill="hold">
                            <p:stCondLst>
                              <p:cond delay="4500"/>
                            </p:stCondLst>
                            <p:childTnLst>
                              <p:par>
                                <p:cTn id="204" nodeType="afterEffect" fill="hold" presetClass="exit" presetID="9">
                                  <p:stCondLst>
                                    <p:cond delay="0"/>
                                  </p:stCondLst>
                                  <p:childTnLst>
                                    <p:animEffect filter="dissolve" transition="out">
                                      <p:cBhvr additive="repl">
                                        <p:cTn id="205" dur="2000"/>
                                        <p:tgtEl>
                                          <p:spTgt spid="124"/>
                                        </p:tgtEl>
                                      </p:cBhvr>
                                    </p:animEffect>
                                    <p:set>
                                      <p:cBhvr>
                                        <p:cTn id="206" dur="1" fill="hold">
                                          <p:stCondLst>
                                            <p:cond delay="1999"/>
                                          </p:stCondLst>
                                        </p:cTn>
                                        <p:tgtEl>
                                          <p:spTgt spid="124"/>
                                        </p:tgtEl>
                                        <p:attrNameLst>
                                          <p:attrName>style.visibility</p:attrName>
                                        </p:attrNameLst>
                                      </p:cBhvr>
                                      <p:to>
                                        <p:strVal val="hidden"/>
                                      </p:to>
                                    </p:set>
                                  </p:childTnLst>
                                </p:cTn>
                              </p:par>
                              <p:par>
                                <p:cTn id="207" nodeType="withEffect" fill="hold" presetClass="exit" presetID="9">
                                  <p:stCondLst>
                                    <p:cond delay="0"/>
                                  </p:stCondLst>
                                  <p:childTnLst>
                                    <p:animEffect filter="dissolve" transition="out">
                                      <p:cBhvr additive="repl">
                                        <p:cTn id="208" dur="2000"/>
                                        <p:tgtEl>
                                          <p:spTgt spid="131"/>
                                        </p:tgtEl>
                                      </p:cBhvr>
                                    </p:animEffect>
                                    <p:set>
                                      <p:cBhvr>
                                        <p:cTn id="209" dur="1" fill="hold">
                                          <p:stCondLst>
                                            <p:cond delay="1999"/>
                                          </p:stCondLst>
                                        </p:cTn>
                                        <p:tgtEl>
                                          <p:spTgt spid="131"/>
                                        </p:tgtEl>
                                        <p:attrNameLst>
                                          <p:attrName>style.visibility</p:attrName>
                                        </p:attrNameLst>
                                      </p:cBhvr>
                                      <p:to>
                                        <p:strVal val="hidden"/>
                                      </p:to>
                                    </p:set>
                                  </p:childTnLst>
                                </p:cTn>
                              </p:par>
                              <p:par>
                                <p:cTn id="210" nodeType="withEffect" fill="hold" presetClass="entr" presetID="22" presetSubtype="1">
                                  <p:stCondLst>
                                    <p:cond delay="0"/>
                                  </p:stCondLst>
                                  <p:childTnLst>
                                    <p:set>
                                      <p:cBhvr>
                                        <p:cTn id="211" dur="1" fill="hold">
                                          <p:stCondLst>
                                            <p:cond delay="0"/>
                                          </p:stCondLst>
                                        </p:cTn>
                                        <p:tgtEl>
                                          <p:spTgt spid="125"/>
                                        </p:tgtEl>
                                        <p:attrNameLst>
                                          <p:attrName>style.visibility</p:attrName>
                                        </p:attrNameLst>
                                      </p:cBhvr>
                                      <p:to>
                                        <p:strVal val="visible"/>
                                      </p:to>
                                    </p:set>
                                    <p:animEffect filter="wipe(up)" transition="in">
                                      <p:cBhvr additive="repl">
                                        <p:cTn id="212" dur="1000"/>
                                        <p:tgtEl>
                                          <p:spTgt spid="125"/>
                                        </p:tgtEl>
                                      </p:cBhvr>
                                    </p:animEffect>
                                  </p:childTnLst>
                                </p:cTn>
                              </p:par>
                              <p:par>
                                <p:cTn id="213" nodeType="withEffect" fill="hold" presetClass="entr" presetID="22" presetSubtype="1">
                                  <p:stCondLst>
                                    <p:cond delay="0"/>
                                  </p:stCondLst>
                                  <p:childTnLst>
                                    <p:set>
                                      <p:cBhvr>
                                        <p:cTn id="214" dur="1" fill="hold">
                                          <p:stCondLst>
                                            <p:cond delay="0"/>
                                          </p:stCondLst>
                                        </p:cTn>
                                        <p:tgtEl>
                                          <p:spTgt spid="132"/>
                                        </p:tgtEl>
                                        <p:attrNameLst>
                                          <p:attrName>style.visibility</p:attrName>
                                        </p:attrNameLst>
                                      </p:cBhvr>
                                      <p:to>
                                        <p:strVal val="visible"/>
                                      </p:to>
                                    </p:set>
                                    <p:animEffect filter="wipe(up)" transition="in">
                                      <p:cBhvr additive="repl">
                                        <p:cTn id="215" dur="1000"/>
                                        <p:tgtEl>
                                          <p:spTgt spid="132"/>
                                        </p:tgtEl>
                                      </p:cBhvr>
                                    </p:animEffect>
                                  </p:childTnLst>
                                </p:cTn>
                              </p:par>
                            </p:childTnLst>
                          </p:cTn>
                        </p:par>
                        <p:par>
                          <p:cTn id="216" fill="hold">
                            <p:stCondLst>
                              <p:cond delay="6500"/>
                            </p:stCondLst>
                            <p:childTnLst>
                              <p:par>
                                <p:cTn id="217" nodeType="afterEffect" fill="hold" presetClass="entr" presetID="1">
                                  <p:stCondLst>
                                    <p:cond delay="0"/>
                                  </p:stCondLst>
                                  <p:childTnLst>
                                    <p:audio isNarration="0">
                                      <p:cMediaNode showWhenStopped="1">
                                        <p:cTn/>
                                        <p:tgtEl>
                                          <p:sndTgt r:embed="rId49" name="explode.wav"/>
                                        </p:tgtEl>
                                      </p:cMediaNode>
                                    </p:audio>
                                    <p:set>
                                      <p:cBhvr>
                                        <p:cTn id="218" dur="1" fill="hold">
                                          <p:stCondLst>
                                            <p:cond delay="0"/>
                                          </p:stCondLst>
                                        </p:cTn>
                                        <p:tgtEl>
                                          <p:spTgt spid="138"/>
                                        </p:tgtEl>
                                        <p:attrNameLst>
                                          <p:attrName>style.visibility</p:attrName>
                                        </p:attrNameLst>
                                      </p:cBhvr>
                                      <p:to>
                                        <p:strVal val="visible"/>
                                      </p:to>
                                    </p:set>
                                  </p:childTnLst>
                                </p:cTn>
                              </p:par>
                            </p:childTnLst>
                          </p:cTn>
                        </p:par>
                        <p:par>
                          <p:cTn id="219" fill="hold">
                            <p:stCondLst>
                              <p:cond delay="6500"/>
                            </p:stCondLst>
                            <p:childTnLst>
                              <p:par>
                                <p:cTn id="220" nodeType="afterEffect" fill="hold" presetClass="exit" presetID="3" presetSubtype="10">
                                  <p:stCondLst>
                                    <p:cond delay="0"/>
                                  </p:stCondLst>
                                  <p:childTnLst>
                                    <p:animEffect filter="blinds(horizontal)" transition="out">
                                      <p:cBhvr additive="repl">
                                        <p:cTn id="221" dur="500"/>
                                        <p:tgtEl>
                                          <p:spTgt spid="138"/>
                                        </p:tgtEl>
                                      </p:cBhvr>
                                    </p:animEffect>
                                    <p:set>
                                      <p:cBhvr>
                                        <p:cTn id="222" dur="1" fill="hold">
                                          <p:stCondLst>
                                            <p:cond delay="499"/>
                                          </p:stCondLst>
                                        </p:cTn>
                                        <p:tgtEl>
                                          <p:spTgt spid="138"/>
                                        </p:tgtEl>
                                        <p:attrNameLst>
                                          <p:attrName>style.visibility</p:attrName>
                                        </p:attrNameLst>
                                      </p:cBhvr>
                                      <p:to>
                                        <p:strVal val="hidden"/>
                                      </p:to>
                                    </p:set>
                                  </p:childTnLst>
                                </p:cTn>
                              </p:par>
                            </p:childTnLst>
                          </p:cTn>
                        </p:par>
                        <p:par>
                          <p:cTn id="223" fill="hold">
                            <p:stCondLst>
                              <p:cond delay="7000"/>
                            </p:stCondLst>
                            <p:childTnLst>
                              <p:par>
                                <p:cTn id="224" nodeType="afterEffect" fill="hold" presetClass="entr" presetID="1">
                                  <p:stCondLst>
                                    <p:cond delay="0"/>
                                  </p:stCondLst>
                                  <p:childTnLst>
                                    <p:audio isNarration="0">
                                      <p:cMediaNode showWhenStopped="1">
                                        <p:cTn/>
                                        <p:tgtEl>
                                          <p:sndTgt r:embed="rId50" name="explode.wav"/>
                                        </p:tgtEl>
                                      </p:cMediaNode>
                                    </p:audio>
                                    <p:set>
                                      <p:cBhvr>
                                        <p:cTn id="225" dur="1" fill="hold">
                                          <p:stCondLst>
                                            <p:cond delay="0"/>
                                          </p:stCondLst>
                                        </p:cTn>
                                        <p:tgtEl>
                                          <p:spTgt spid="139"/>
                                        </p:tgtEl>
                                        <p:attrNameLst>
                                          <p:attrName>style.visibility</p:attrName>
                                        </p:attrNameLst>
                                      </p:cBhvr>
                                      <p:to>
                                        <p:strVal val="visible"/>
                                      </p:to>
                                    </p:set>
                                  </p:childTnLst>
                                </p:cTn>
                              </p:par>
                            </p:childTnLst>
                          </p:cTn>
                        </p:par>
                        <p:par>
                          <p:cTn id="226" fill="hold">
                            <p:stCondLst>
                              <p:cond delay="7000"/>
                            </p:stCondLst>
                            <p:childTnLst>
                              <p:par>
                                <p:cTn id="227" nodeType="afterEffect" fill="hold" presetClass="exit" presetID="3" presetSubtype="10">
                                  <p:stCondLst>
                                    <p:cond delay="0"/>
                                  </p:stCondLst>
                                  <p:childTnLst>
                                    <p:animEffect filter="blinds(horizontal)" transition="out">
                                      <p:cBhvr additive="repl">
                                        <p:cTn id="228" dur="500"/>
                                        <p:tgtEl>
                                          <p:spTgt spid="139"/>
                                        </p:tgtEl>
                                      </p:cBhvr>
                                    </p:animEffect>
                                    <p:set>
                                      <p:cBhvr>
                                        <p:cTn id="229" dur="1" fill="hold">
                                          <p:stCondLst>
                                            <p:cond delay="499"/>
                                          </p:stCondLst>
                                        </p:cTn>
                                        <p:tgtEl>
                                          <p:spTgt spid="139"/>
                                        </p:tgtEl>
                                        <p:attrNameLst>
                                          <p:attrName>style.visibility</p:attrName>
                                        </p:attrNameLst>
                                      </p:cBhvr>
                                      <p:to>
                                        <p:strVal val="hidden"/>
                                      </p:to>
                                    </p:set>
                                  </p:childTnLst>
                                </p:cTn>
                              </p:par>
                            </p:childTnLst>
                          </p:cTn>
                        </p:par>
                        <p:par>
                          <p:cTn id="230" fill="hold">
                            <p:stCondLst>
                              <p:cond delay="7500"/>
                            </p:stCondLst>
                            <p:childTnLst>
                              <p:par>
                                <p:cTn id="231" nodeType="afterEffect" fill="hold" presetClass="entr" presetID="1">
                                  <p:stCondLst>
                                    <p:cond delay="0"/>
                                  </p:stCondLst>
                                  <p:childTnLst>
                                    <p:audio isNarration="0">
                                      <p:cMediaNode showWhenStopped="1">
                                        <p:cTn/>
                                        <p:tgtEl>
                                          <p:sndTgt r:embed="rId51" name="explode.wav"/>
                                        </p:tgtEl>
                                      </p:cMediaNode>
                                    </p:audio>
                                    <p:set>
                                      <p:cBhvr>
                                        <p:cTn id="232" dur="1" fill="hold">
                                          <p:stCondLst>
                                            <p:cond delay="0"/>
                                          </p:stCondLst>
                                        </p:cTn>
                                        <p:tgtEl>
                                          <p:spTgt spid="140"/>
                                        </p:tgtEl>
                                        <p:attrNameLst>
                                          <p:attrName>style.visibility</p:attrName>
                                        </p:attrNameLst>
                                      </p:cBhvr>
                                      <p:to>
                                        <p:strVal val="visible"/>
                                      </p:to>
                                    </p:set>
                                  </p:childTnLst>
                                </p:cTn>
                              </p:par>
                            </p:childTnLst>
                          </p:cTn>
                        </p:par>
                        <p:par>
                          <p:cTn id="233" fill="hold">
                            <p:stCondLst>
                              <p:cond delay="7500"/>
                            </p:stCondLst>
                            <p:childTnLst>
                              <p:par>
                                <p:cTn id="234" nodeType="afterEffect" fill="hold" presetClass="exit" presetID="3" presetSubtype="10">
                                  <p:stCondLst>
                                    <p:cond delay="0"/>
                                  </p:stCondLst>
                                  <p:childTnLst>
                                    <p:animEffect filter="blinds(horizontal)" transition="out">
                                      <p:cBhvr additive="repl">
                                        <p:cTn id="235" dur="500"/>
                                        <p:tgtEl>
                                          <p:spTgt spid="140"/>
                                        </p:tgtEl>
                                      </p:cBhvr>
                                    </p:animEffect>
                                    <p:set>
                                      <p:cBhvr>
                                        <p:cTn id="236" dur="1" fill="hold">
                                          <p:stCondLst>
                                            <p:cond delay="499"/>
                                          </p:stCondLst>
                                        </p:cTn>
                                        <p:tgtEl>
                                          <p:spTgt spid="140"/>
                                        </p:tgtEl>
                                        <p:attrNameLst>
                                          <p:attrName>style.visibility</p:attrName>
                                        </p:attrNameLst>
                                      </p:cBhvr>
                                      <p:to>
                                        <p:strVal val="hidden"/>
                                      </p:to>
                                    </p:set>
                                  </p:childTnLst>
                                </p:cTn>
                              </p:par>
                            </p:childTnLst>
                          </p:cTn>
                        </p:par>
                        <p:par>
                          <p:cTn id="237" fill="hold">
                            <p:stCondLst>
                              <p:cond delay="8000"/>
                            </p:stCondLst>
                            <p:childTnLst>
                              <p:par>
                                <p:cTn id="238" nodeType="afterEffect" fill="hold" presetClass="entr" presetID="22" presetSubtype="4">
                                  <p:stCondLst>
                                    <p:cond delay="0"/>
                                  </p:stCondLst>
                                  <p:childTnLst>
                                    <p:set>
                                      <p:cBhvr>
                                        <p:cTn id="239" dur="1" fill="hold">
                                          <p:stCondLst>
                                            <p:cond delay="0"/>
                                          </p:stCondLst>
                                        </p:cTn>
                                        <p:tgtEl>
                                          <p:spTgt spid="87"/>
                                        </p:tgtEl>
                                        <p:attrNameLst>
                                          <p:attrName>style.visibility</p:attrName>
                                        </p:attrNameLst>
                                      </p:cBhvr>
                                      <p:to>
                                        <p:strVal val="visible"/>
                                      </p:to>
                                    </p:set>
                                    <p:animEffect filter="wipe(down)" transition="in">
                                      <p:cBhvr additive="repl">
                                        <p:cTn id="240" dur="2000"/>
                                        <p:tgtEl>
                                          <p:spTgt spid="87"/>
                                        </p:tgtEl>
                                      </p:cBhvr>
                                    </p:animEffect>
                                  </p:childTnLst>
                                </p:cTn>
                              </p:par>
                              <p:par>
                                <p:cTn id="241" nodeType="withEffect" fill="hold" presetClass="entr" presetID="9">
                                  <p:stCondLst>
                                    <p:cond delay="0"/>
                                  </p:stCondLst>
                                  <p:childTnLst>
                                    <p:set>
                                      <p:cBhvr>
                                        <p:cTn id="242" dur="1" fill="hold">
                                          <p:stCondLst>
                                            <p:cond delay="0"/>
                                          </p:stCondLst>
                                        </p:cTn>
                                        <p:tgtEl>
                                          <p:spTgt spid="88"/>
                                        </p:tgtEl>
                                        <p:attrNameLst>
                                          <p:attrName>style.visibility</p:attrName>
                                        </p:attrNameLst>
                                      </p:cBhvr>
                                      <p:to>
                                        <p:strVal val="visible"/>
                                      </p:to>
                                    </p:set>
                                    <p:animEffect filter="dissolve" transition="in">
                                      <p:cBhvr additive="repl">
                                        <p:cTn id="243" dur="2000"/>
                                        <p:tgtEl>
                                          <p:spTgt spid="88"/>
                                        </p:tgtEl>
                                      </p:cBhvr>
                                    </p:animEffect>
                                  </p:childTnLst>
                                </p:cTn>
                              </p:par>
                              <p:par>
                                <p:cTn id="244" nodeType="withEffect" fill="hold" presetClass="exit" presetID="22" presetSubtype="4">
                                  <p:stCondLst>
                                    <p:cond delay="0"/>
                                  </p:stCondLst>
                                  <p:childTnLst>
                                    <p:animEffect filter="wipe(down)" transition="out">
                                      <p:cBhvr additive="repl">
                                        <p:cTn id="245" dur="2000"/>
                                        <p:tgtEl>
                                          <p:spTgt spid="89"/>
                                        </p:tgtEl>
                                      </p:cBhvr>
                                    </p:animEffect>
                                    <p:set>
                                      <p:cBhvr>
                                        <p:cTn id="246" dur="1" fill="hold">
                                          <p:stCondLst>
                                            <p:cond delay="1999"/>
                                          </p:stCondLst>
                                        </p:cTn>
                                        <p:tgtEl>
                                          <p:spTgt spid="89"/>
                                        </p:tgtEl>
                                        <p:attrNameLst>
                                          <p:attrName>style.visibility</p:attrName>
                                        </p:attrNameLst>
                                      </p:cBhvr>
                                      <p:to>
                                        <p:strVal val="hidden"/>
                                      </p:to>
                                    </p:set>
                                  </p:childTnLst>
                                </p:cTn>
                              </p:par>
                              <p:par>
                                <p:cTn id="247" nodeType="withEffect" fill="hold" presetClass="exit" presetID="22" presetSubtype="4">
                                  <p:stCondLst>
                                    <p:cond delay="0"/>
                                  </p:stCondLst>
                                  <p:childTnLst>
                                    <p:animEffect filter="wipe(down)" transition="out">
                                      <p:cBhvr additive="repl">
                                        <p:cTn id="248" dur="2000"/>
                                        <p:tgtEl>
                                          <p:spTgt spid="90"/>
                                        </p:tgtEl>
                                      </p:cBhvr>
                                    </p:animEffect>
                                    <p:set>
                                      <p:cBhvr>
                                        <p:cTn id="249" dur="1" fill="hold">
                                          <p:stCondLst>
                                            <p:cond delay="1999"/>
                                          </p:stCondLst>
                                        </p:cTn>
                                        <p:tgtEl>
                                          <p:spTgt spid="90"/>
                                        </p:tgtEl>
                                        <p:attrNameLst>
                                          <p:attrName>style.visibility</p:attrName>
                                        </p:attrNameLst>
                                      </p:cBhvr>
                                      <p:to>
                                        <p:strVal val="hidden"/>
                                      </p:to>
                                    </p:set>
                                  </p:childTnLst>
                                </p:cTn>
                              </p:par>
                              <p:par>
                                <p:cTn id="250" nodeType="withEffect" fill="hold" presetClass="exit" presetID="22" presetSubtype="4">
                                  <p:stCondLst>
                                    <p:cond delay="0"/>
                                  </p:stCondLst>
                                  <p:childTnLst>
                                    <p:animEffect filter="wipe(down)" transition="out">
                                      <p:cBhvr additive="repl">
                                        <p:cTn id="251" dur="2000"/>
                                        <p:tgtEl>
                                          <p:spTgt spid="91"/>
                                        </p:tgtEl>
                                      </p:cBhvr>
                                    </p:animEffect>
                                    <p:set>
                                      <p:cBhvr>
                                        <p:cTn id="252" dur="1" fill="hold">
                                          <p:stCondLst>
                                            <p:cond delay="1999"/>
                                          </p:stCondLst>
                                        </p:cTn>
                                        <p:tgtEl>
                                          <p:spTgt spid="91"/>
                                        </p:tgtEl>
                                        <p:attrNameLst>
                                          <p:attrName>style.visibility</p:attrName>
                                        </p:attrNameLst>
                                      </p:cBhvr>
                                      <p:to>
                                        <p:strVal val="hidden"/>
                                      </p:to>
                                    </p:set>
                                  </p:childTnLst>
                                </p:cTn>
                              </p:par>
                              <p:par>
                                <p:cTn id="253" nodeType="withEffect" fill="hold" presetClass="exit" presetID="22" presetSubtype="4">
                                  <p:stCondLst>
                                    <p:cond delay="0"/>
                                  </p:stCondLst>
                                  <p:childTnLst>
                                    <p:animEffect filter="wipe(down)" transition="out">
                                      <p:cBhvr additive="repl">
                                        <p:cTn id="254" dur="2000"/>
                                        <p:tgtEl>
                                          <p:spTgt spid="92"/>
                                        </p:tgtEl>
                                      </p:cBhvr>
                                    </p:animEffect>
                                    <p:set>
                                      <p:cBhvr>
                                        <p:cTn id="255" dur="1" fill="hold">
                                          <p:stCondLst>
                                            <p:cond delay="1999"/>
                                          </p:stCondLst>
                                        </p:cTn>
                                        <p:tgtEl>
                                          <p:spTgt spid="92"/>
                                        </p:tgtEl>
                                        <p:attrNameLst>
                                          <p:attrName>style.visibility</p:attrName>
                                        </p:attrNameLst>
                                      </p:cBhvr>
                                      <p:to>
                                        <p:strVal val="hidden"/>
                                      </p:to>
                                    </p:set>
                                  </p:childTnLst>
                                </p:cTn>
                              </p:par>
                              <p:par>
                                <p:cTn id="256" nodeType="withEffect" fill="hold" presetClass="exit" presetID="9">
                                  <p:stCondLst>
                                    <p:cond delay="0"/>
                                  </p:stCondLst>
                                  <p:childTnLst>
                                    <p:animEffect filter="dissolve" transition="out">
                                      <p:cBhvr additive="repl">
                                        <p:cTn id="257" dur="1000"/>
                                        <p:tgtEl>
                                          <p:spTgt spid="125"/>
                                        </p:tgtEl>
                                      </p:cBhvr>
                                    </p:animEffect>
                                    <p:set>
                                      <p:cBhvr>
                                        <p:cTn id="258" dur="1" fill="hold">
                                          <p:stCondLst>
                                            <p:cond delay="999"/>
                                          </p:stCondLst>
                                        </p:cTn>
                                        <p:tgtEl>
                                          <p:spTgt spid="125"/>
                                        </p:tgtEl>
                                        <p:attrNameLst>
                                          <p:attrName>style.visibility</p:attrName>
                                        </p:attrNameLst>
                                      </p:cBhvr>
                                      <p:to>
                                        <p:strVal val="hidden"/>
                                      </p:to>
                                    </p:set>
                                  </p:childTnLst>
                                </p:cTn>
                              </p:par>
                              <p:par>
                                <p:cTn id="259" nodeType="withEffect" fill="hold" presetClass="exit" presetID="9">
                                  <p:stCondLst>
                                    <p:cond delay="0"/>
                                  </p:stCondLst>
                                  <p:childTnLst>
                                    <p:animEffect filter="dissolve" transition="out">
                                      <p:cBhvr additive="repl">
                                        <p:cTn id="260" dur="1000"/>
                                        <p:tgtEl>
                                          <p:spTgt spid="132"/>
                                        </p:tgtEl>
                                      </p:cBhvr>
                                    </p:animEffect>
                                    <p:set>
                                      <p:cBhvr>
                                        <p:cTn id="261" dur="1" fill="hold">
                                          <p:stCondLst>
                                            <p:cond delay="999"/>
                                          </p:stCondLst>
                                        </p:cTn>
                                        <p:tgtEl>
                                          <p:spTgt spid="132"/>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path" presetID="0">
                                  <p:stCondLst>
                                    <p:cond delay="0"/>
                                  </p:stCondLst>
                                  <p:childTnLst>
                                    <p:audio isNarration="0">
                                      <p:cMediaNode showWhenStopped="1">
                                        <p:cTn/>
                                        <p:tgtEl>
                                          <p:sndTgt r:embed="rId52" name="Tank.wav"/>
                                        </p:tgtEl>
                                      </p:cMediaNode>
                                    </p:audio>
                                    <p:animMotion origin="layout" path="M 0.00035 -0.00023 L -0.01406 0.00162 L -0.02465 -0.00671 E">
                                      <p:cBhvr>
                                        <p:cTn id="265" dur="2000" fill="hold"/>
                                        <p:tgtEl>
                                          <p:spTgt spid="116"/>
                                        </p:tgtEl>
                                      </p:cBhvr>
                                    </p:animMotion>
                                  </p:childTnLst>
                                </p:cTn>
                              </p:par>
                            </p:childTnLst>
                          </p:cTn>
                        </p:par>
                        <p:par>
                          <p:cTn id="266" fill="hold">
                            <p:stCondLst>
                              <p:cond delay="2000"/>
                            </p:stCondLst>
                            <p:childTnLst>
                              <p:par>
                                <p:cTn id="267" nodeType="afterEffect" fill="hold" presetClass="path" presetID="0">
                                  <p:stCondLst>
                                    <p:cond delay="0"/>
                                  </p:stCondLst>
                                  <p:childTnLst>
                                    <p:audio isNarration="0">
                                      <p:cMediaNode showWhenStopped="1">
                                        <p:cTn/>
                                        <p:tgtEl>
                                          <p:sndTgt r:embed="rId53" name="Tank.wav"/>
                                        </p:tgtEl>
                                      </p:cMediaNode>
                                    </p:audio>
                                    <p:animMotion origin="layout" path="M 0.00017 -2.22222E-006 L 0.01996 -0.01319 L 0.0276 -0.01736 E">
                                      <p:cBhvr>
                                        <p:cTn id="268" dur="2000" fill="hold"/>
                                        <p:tgtEl>
                                          <p:spTgt spid="117"/>
                                        </p:tgtEl>
                                      </p:cBhvr>
                                    </p:animMotion>
                                  </p:childTnLst>
                                </p:cTn>
                              </p:par>
                              <p:par>
                                <p:cTn id="269" nodeType="withEffect" fill="hold" presetClass="path" presetID="0">
                                  <p:stCondLst>
                                    <p:cond delay="0"/>
                                  </p:stCondLst>
                                  <p:childTnLst>
                                    <p:animMotion origin="layout" path="M 2.5E-006 3.33333E-006 L 0.0092 -0.01111 L 0.01909 -0.0169 E">
                                      <p:cBhvr>
                                        <p:cTn id="270" dur="2000" fill="hold"/>
                                        <p:tgtEl>
                                          <p:spTgt spid="118"/>
                                        </p:tgtEl>
                                      </p:cBhvr>
                                    </p:animMotion>
                                  </p:childTnLst>
                                </p:cTn>
                              </p:par>
                              <p:par>
                                <p:cTn id="271" nodeType="withEffect" fill="hold" presetClass="path" presetID="0">
                                  <p:stCondLst>
                                    <p:cond delay="0"/>
                                  </p:stCondLst>
                                  <p:childTnLst>
                                    <p:animMotion origin="layout" path="M -4.16667E-006 -2.59259E-006 L 0.00868 -0.0125 L 0.01441 -0.01597 E">
                                      <p:cBhvr>
                                        <p:cTn id="272" dur="2000" fill="hold"/>
                                        <p:tgtEl>
                                          <p:spTgt spid="113"/>
                                        </p:tgtEl>
                                      </p:cBhvr>
                                    </p:animMotion>
                                  </p:childTnLst>
                                </p:cTn>
                              </p:par>
                              <p:par>
                                <p:cTn id="273" nodeType="withEffect" fill="hold" presetClass="path" presetID="0">
                                  <p:stCondLst>
                                    <p:cond delay="0"/>
                                  </p:stCondLst>
                                  <p:childTnLst>
                                    <p:animMotion origin="layout" path="M -1.11111E-006 2.96296E-006 L 0.01285 -0.00648 L 0.02761 -0.0132 E">
                                      <p:cBhvr>
                                        <p:cTn id="274" dur="2000" fill="hold"/>
                                        <p:tgtEl>
                                          <p:spTgt spid="152"/>
                                        </p:tgtEl>
                                      </p:cBhvr>
                                    </p:animMotion>
                                  </p:childTnLst>
                                </p:cTn>
                              </p:par>
                            </p:childTnLst>
                          </p:cTn>
                        </p:par>
                        <p:par>
                          <p:cTn id="275" fill="hold">
                            <p:stCondLst>
                              <p:cond delay="4000"/>
                            </p:stCondLst>
                            <p:childTnLst>
                              <p:par>
                                <p:cTn id="276" nodeType="afterEffect" fill="hold" presetClass="entr" presetID="1">
                                  <p:stCondLst>
                                    <p:cond delay="0"/>
                                  </p:stCondLst>
                                  <p:childTnLst>
                                    <p:audio isNarration="0">
                                      <p:cMediaNode showWhenStopped="1">
                                        <p:cTn/>
                                        <p:tgtEl>
                                          <p:sndTgt r:embed="rId54" name="explode.wav"/>
                                        </p:tgtEl>
                                      </p:cMediaNode>
                                    </p:audio>
                                    <p:set>
                                      <p:cBhvr>
                                        <p:cTn id="277" dur="1" fill="hold">
                                          <p:stCondLst>
                                            <p:cond delay="0"/>
                                          </p:stCondLst>
                                        </p:cTn>
                                        <p:tgtEl>
                                          <p:spTgt spid="141"/>
                                        </p:tgtEl>
                                        <p:attrNameLst>
                                          <p:attrName>style.visibility</p:attrName>
                                        </p:attrNameLst>
                                      </p:cBhvr>
                                      <p:to>
                                        <p:strVal val="visible"/>
                                      </p:to>
                                    </p:set>
                                  </p:childTnLst>
                                </p:cTn>
                              </p:par>
                            </p:childTnLst>
                          </p:cTn>
                        </p:par>
                        <p:par>
                          <p:cTn id="278" fill="hold">
                            <p:stCondLst>
                              <p:cond delay="4000"/>
                            </p:stCondLst>
                            <p:childTnLst>
                              <p:par>
                                <p:cTn id="279" nodeType="afterEffect" fill="hold" presetClass="exit" presetID="3" presetSubtype="10">
                                  <p:stCondLst>
                                    <p:cond delay="0"/>
                                  </p:stCondLst>
                                  <p:childTnLst>
                                    <p:animEffect filter="blinds(horizontal)" transition="out">
                                      <p:cBhvr additive="repl">
                                        <p:cTn id="280" dur="500"/>
                                        <p:tgtEl>
                                          <p:spTgt spid="141"/>
                                        </p:tgtEl>
                                      </p:cBhvr>
                                    </p:animEffect>
                                    <p:set>
                                      <p:cBhvr>
                                        <p:cTn id="281" dur="1" fill="hold">
                                          <p:stCondLst>
                                            <p:cond delay="499"/>
                                          </p:stCondLst>
                                        </p:cTn>
                                        <p:tgtEl>
                                          <p:spTgt spid="141"/>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2">
                                  <p:stCondLst>
                                    <p:cond delay="0"/>
                                  </p:stCondLst>
                                  <p:childTnLst>
                                    <p:audio isNarration="0">
                                      <p:cMediaNode showWhenStopped="1">
                                        <p:cTn/>
                                        <p:tgtEl>
                                          <p:sndTgt r:embed="rId55" name="Tank.wav"/>
                                        </p:tgtEl>
                                      </p:cMediaNode>
                                    </p:audio>
                                    <p:set>
                                      <p:cBhvr>
                                        <p:cTn id="285" dur="1" fill="hold">
                                          <p:stCondLst>
                                            <p:cond delay="0"/>
                                          </p:stCondLst>
                                        </p:cTn>
                                        <p:tgtEl>
                                          <p:spTgt spid="120"/>
                                        </p:tgtEl>
                                        <p:attrNameLst>
                                          <p:attrName>style.visibility</p:attrName>
                                        </p:attrNameLst>
                                      </p:cBhvr>
                                      <p:to>
                                        <p:strVal val="visible"/>
                                      </p:to>
                                    </p:set>
                                    <p:animEffect filter="wipe(right)" transition="in">
                                      <p:cBhvr additive="repl">
                                        <p:cTn id="286" dur="2000"/>
                                        <p:tgtEl>
                                          <p:spTgt spid="120"/>
                                        </p:tgtEl>
                                      </p:cBhvr>
                                    </p:animEffect>
                                  </p:childTnLst>
                                </p:cTn>
                              </p:par>
                            </p:childTnLst>
                          </p:cTn>
                        </p:par>
                        <p:par>
                          <p:cTn id="287" fill="hold">
                            <p:stCondLst>
                              <p:cond delay="2000"/>
                            </p:stCondLst>
                            <p:childTnLst>
                              <p:par>
                                <p:cTn id="288" nodeType="afterEffect" fill="hold" presetClass="entr" presetID="1">
                                  <p:stCondLst>
                                    <p:cond delay="0"/>
                                  </p:stCondLst>
                                  <p:childTnLst>
                                    <p:audio isNarration="0">
                                      <p:cMediaNode showWhenStopped="1">
                                        <p:cTn/>
                                        <p:tgtEl>
                                          <p:sndTgt r:embed="rId56" name="explode.wav"/>
                                        </p:tgtEl>
                                      </p:cMediaNode>
                                    </p:audio>
                                    <p:set>
                                      <p:cBhvr>
                                        <p:cTn id="289" dur="1" fill="hold">
                                          <p:stCondLst>
                                            <p:cond delay="0"/>
                                          </p:stCondLst>
                                        </p:cTn>
                                        <p:tgtEl>
                                          <p:spTgt spid="142"/>
                                        </p:tgtEl>
                                        <p:attrNameLst>
                                          <p:attrName>style.visibility</p:attrName>
                                        </p:attrNameLst>
                                      </p:cBhvr>
                                      <p:to>
                                        <p:strVal val="visible"/>
                                      </p:to>
                                    </p:set>
                                  </p:childTnLst>
                                </p:cTn>
                              </p:par>
                            </p:childTnLst>
                          </p:cTn>
                        </p:par>
                        <p:par>
                          <p:cTn id="290" fill="hold">
                            <p:stCondLst>
                              <p:cond delay="2000"/>
                            </p:stCondLst>
                            <p:childTnLst>
                              <p:par>
                                <p:cTn id="291" nodeType="afterEffect" fill="hold" presetClass="exit" presetID="3" presetSubtype="10">
                                  <p:stCondLst>
                                    <p:cond delay="0"/>
                                  </p:stCondLst>
                                  <p:childTnLst>
                                    <p:animEffect filter="blinds(horizontal)" transition="out">
                                      <p:cBhvr additive="repl">
                                        <p:cTn id="292" dur="500"/>
                                        <p:tgtEl>
                                          <p:spTgt spid="142"/>
                                        </p:tgtEl>
                                      </p:cBhvr>
                                    </p:animEffect>
                                    <p:set>
                                      <p:cBhvr>
                                        <p:cTn id="293" dur="1" fill="hold">
                                          <p:stCondLst>
                                            <p:cond delay="499"/>
                                          </p:stCondLst>
                                        </p:cTn>
                                        <p:tgtEl>
                                          <p:spTgt spid="142"/>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9">
                                  <p:stCondLst>
                                    <p:cond delay="0"/>
                                  </p:stCondLst>
                                  <p:childTnLst>
                                    <p:animEffect filter="dissolve" transition="out">
                                      <p:cBhvr additive="repl">
                                        <p:cTn id="297" dur="500"/>
                                        <p:tgtEl>
                                          <p:spTgt spid="119"/>
                                        </p:tgtEl>
                                      </p:cBhvr>
                                    </p:animEffect>
                                    <p:set>
                                      <p:cBhvr>
                                        <p:cTn id="298" dur="1" fill="hold">
                                          <p:stCondLst>
                                            <p:cond delay="499"/>
                                          </p:stCondLst>
                                        </p:cTn>
                                        <p:tgtEl>
                                          <p:spTgt spid="119"/>
                                        </p:tgtEl>
                                        <p:attrNameLst>
                                          <p:attrName>style.visibility</p:attrName>
                                        </p:attrNameLst>
                                      </p:cBhvr>
                                      <p:to>
                                        <p:strVal val="hidden"/>
                                      </p:to>
                                    </p:set>
                                  </p:childTnLst>
                                </p:cTn>
                              </p:par>
                              <p:par>
                                <p:cTn id="299" nodeType="withEffect" fill="hold" presetClass="exit" presetID="9">
                                  <p:stCondLst>
                                    <p:cond delay="0"/>
                                  </p:stCondLst>
                                  <p:childTnLst>
                                    <p:animEffect filter="dissolve" transition="out">
                                      <p:cBhvr additive="repl">
                                        <p:cTn id="300" dur="500"/>
                                        <p:tgtEl>
                                          <p:spTgt spid="93"/>
                                        </p:tgtEl>
                                      </p:cBhvr>
                                    </p:animEffect>
                                    <p:set>
                                      <p:cBhvr>
                                        <p:cTn id="301" dur="1" fill="hold">
                                          <p:stCondLst>
                                            <p:cond delay="499"/>
                                          </p:stCondLst>
                                        </p:cTn>
                                        <p:tgtEl>
                                          <p:spTgt spid="93"/>
                                        </p:tgtEl>
                                        <p:attrNameLst>
                                          <p:attrName>style.visibility</p:attrName>
                                        </p:attrNameLst>
                                      </p:cBhvr>
                                      <p:to>
                                        <p:strVal val="hidden"/>
                                      </p:to>
                                    </p:set>
                                  </p:childTnLst>
                                </p:cTn>
                              </p:par>
                              <p:par>
                                <p:cTn id="302" nodeType="withEffect" fill="hold" presetClass="exit" presetID="9">
                                  <p:stCondLst>
                                    <p:cond delay="0"/>
                                  </p:stCondLst>
                                  <p:childTnLst>
                                    <p:animEffect filter="dissolve" transition="out">
                                      <p:cBhvr additive="repl">
                                        <p:cTn id="303" dur="500"/>
                                        <p:tgtEl>
                                          <p:spTgt spid="113"/>
                                        </p:tgtEl>
                                      </p:cBhvr>
                                    </p:animEffect>
                                    <p:set>
                                      <p:cBhvr>
                                        <p:cTn id="304" dur="1" fill="hold">
                                          <p:stCondLst>
                                            <p:cond delay="499"/>
                                          </p:stCondLst>
                                        </p:cTn>
                                        <p:tgtEl>
                                          <p:spTgt spid="113"/>
                                        </p:tgtEl>
                                        <p:attrNameLst>
                                          <p:attrName>style.visibility</p:attrName>
                                        </p:attrNameLst>
                                      </p:cBhvr>
                                      <p:to>
                                        <p:strVal val="hidden"/>
                                      </p:to>
                                    </p:set>
                                  </p:childTnLst>
                                </p:cTn>
                              </p:par>
                              <p:par>
                                <p:cTn id="305" nodeType="withEffect" fill="hold" presetClass="exit" presetID="9">
                                  <p:stCondLst>
                                    <p:cond delay="0"/>
                                  </p:stCondLst>
                                  <p:childTnLst>
                                    <p:animEffect filter="dissolve" transition="out">
                                      <p:cBhvr additive="repl">
                                        <p:cTn id="306" dur="500"/>
                                        <p:tgtEl>
                                          <p:spTgt spid="118"/>
                                        </p:tgtEl>
                                      </p:cBhvr>
                                    </p:animEffect>
                                    <p:set>
                                      <p:cBhvr>
                                        <p:cTn id="307" dur="1" fill="hold">
                                          <p:stCondLst>
                                            <p:cond delay="499"/>
                                          </p:stCondLst>
                                        </p:cTn>
                                        <p:tgtEl>
                                          <p:spTgt spid="118"/>
                                        </p:tgtEl>
                                        <p:attrNameLst>
                                          <p:attrName>style.visibility</p:attrName>
                                        </p:attrNameLst>
                                      </p:cBhvr>
                                      <p:to>
                                        <p:strVal val="hidden"/>
                                      </p:to>
                                    </p:set>
                                  </p:childTnLst>
                                </p:cTn>
                              </p:par>
                              <p:par>
                                <p:cTn id="308" nodeType="withEffect" fill="hold" presetClass="exit" presetID="9">
                                  <p:stCondLst>
                                    <p:cond delay="0"/>
                                  </p:stCondLst>
                                  <p:childTnLst>
                                    <p:animEffect filter="dissolve" transition="out">
                                      <p:cBhvr additive="repl">
                                        <p:cTn id="309" dur="500"/>
                                        <p:tgtEl>
                                          <p:spTgt spid="117"/>
                                        </p:tgtEl>
                                      </p:cBhvr>
                                    </p:animEffect>
                                    <p:set>
                                      <p:cBhvr>
                                        <p:cTn id="310" dur="1" fill="hold">
                                          <p:stCondLst>
                                            <p:cond delay="499"/>
                                          </p:stCondLst>
                                        </p:cTn>
                                        <p:tgtEl>
                                          <p:spTgt spid="117"/>
                                        </p:tgtEl>
                                        <p:attrNameLst>
                                          <p:attrName>style.visibility</p:attrName>
                                        </p:attrNameLst>
                                      </p:cBhvr>
                                      <p:to>
                                        <p:strVal val="hidden"/>
                                      </p:to>
                                    </p:set>
                                  </p:childTnLst>
                                </p:cTn>
                              </p:par>
                              <p:par>
                                <p:cTn id="311" nodeType="withEffect" fill="hold" presetClass="exit" presetID="9">
                                  <p:stCondLst>
                                    <p:cond delay="0"/>
                                  </p:stCondLst>
                                  <p:childTnLst>
                                    <p:animEffect filter="dissolve" transition="out">
                                      <p:cBhvr additive="repl">
                                        <p:cTn id="312" dur="500"/>
                                        <p:tgtEl>
                                          <p:spTgt spid="120"/>
                                        </p:tgtEl>
                                      </p:cBhvr>
                                    </p:animEffect>
                                    <p:set>
                                      <p:cBhvr>
                                        <p:cTn id="313" dur="1" fill="hold">
                                          <p:stCondLst>
                                            <p:cond delay="499"/>
                                          </p:stCondLst>
                                        </p:cTn>
                                        <p:tgtEl>
                                          <p:spTgt spid="120"/>
                                        </p:tgtEl>
                                        <p:attrNameLst>
                                          <p:attrName>style.visibility</p:attrName>
                                        </p:attrNameLst>
                                      </p:cBhvr>
                                      <p:to>
                                        <p:strVal val="hidden"/>
                                      </p:to>
                                    </p:set>
                                  </p:childTnLst>
                                </p:cTn>
                              </p:par>
                              <p:par>
                                <p:cTn id="314" nodeType="withEffect" fill="hold" presetClass="exit" presetID="9">
                                  <p:stCondLst>
                                    <p:cond delay="0"/>
                                  </p:stCondLst>
                                  <p:childTnLst>
                                    <p:animEffect filter="dissolve" transition="out">
                                      <p:cBhvr additive="repl">
                                        <p:cTn id="315" dur="500"/>
                                        <p:tgtEl>
                                          <p:spTgt spid="114"/>
                                        </p:tgtEl>
                                      </p:cBhvr>
                                    </p:animEffect>
                                    <p:set>
                                      <p:cBhvr>
                                        <p:cTn id="316" dur="1" fill="hold">
                                          <p:stCondLst>
                                            <p:cond delay="499"/>
                                          </p:stCondLst>
                                        </p:cTn>
                                        <p:tgtEl>
                                          <p:spTgt spid="114"/>
                                        </p:tgtEl>
                                        <p:attrNameLst>
                                          <p:attrName>style.visibility</p:attrName>
                                        </p:attrNameLst>
                                      </p:cBhvr>
                                      <p:to>
                                        <p:strVal val="hidden"/>
                                      </p:to>
                                    </p:set>
                                  </p:childTnLst>
                                </p:cTn>
                              </p:par>
                              <p:par>
                                <p:cTn id="317" nodeType="withEffect" fill="hold" presetClass="exit" presetID="9">
                                  <p:stCondLst>
                                    <p:cond delay="0"/>
                                  </p:stCondLst>
                                  <p:childTnLst>
                                    <p:animEffect filter="dissolve" transition="out">
                                      <p:cBhvr additive="repl">
                                        <p:cTn id="318" dur="500"/>
                                        <p:tgtEl>
                                          <p:spTgt spid="115"/>
                                        </p:tgtEl>
                                      </p:cBhvr>
                                    </p:animEffect>
                                    <p:set>
                                      <p:cBhvr>
                                        <p:cTn id="319" dur="1" fill="hold">
                                          <p:stCondLst>
                                            <p:cond delay="499"/>
                                          </p:stCondLst>
                                        </p:cTn>
                                        <p:tgtEl>
                                          <p:spTgt spid="115"/>
                                        </p:tgtEl>
                                        <p:attrNameLst>
                                          <p:attrName>style.visibility</p:attrName>
                                        </p:attrNameLst>
                                      </p:cBhvr>
                                      <p:to>
                                        <p:strVal val="hidden"/>
                                      </p:to>
                                    </p:set>
                                  </p:childTnLst>
                                </p:cTn>
                              </p:par>
                              <p:par>
                                <p:cTn id="320" nodeType="withEffect" fill="hold" presetClass="exit" presetID="9">
                                  <p:stCondLst>
                                    <p:cond delay="0"/>
                                  </p:stCondLst>
                                  <p:childTnLst>
                                    <p:animEffect filter="dissolve" transition="out">
                                      <p:cBhvr additive="repl">
                                        <p:cTn id="321" dur="500"/>
                                        <p:tgtEl>
                                          <p:spTgt spid="116"/>
                                        </p:tgtEl>
                                      </p:cBhvr>
                                    </p:animEffect>
                                    <p:set>
                                      <p:cBhvr>
                                        <p:cTn id="322" dur="1" fill="hold">
                                          <p:stCondLst>
                                            <p:cond delay="499"/>
                                          </p:stCondLst>
                                        </p:cTn>
                                        <p:tgtEl>
                                          <p:spTgt spid="116"/>
                                        </p:tgtEl>
                                        <p:attrNameLst>
                                          <p:attrName>style.visibility</p:attrName>
                                        </p:attrNameLst>
                                      </p:cBhvr>
                                      <p:to>
                                        <p:strVal val="hidden"/>
                                      </p:to>
                                    </p:set>
                                  </p:childTnLst>
                                </p:cTn>
                              </p:par>
                              <p:par>
                                <p:cTn id="323" nodeType="withEffect" fill="hold" presetClass="exit" presetID="9">
                                  <p:stCondLst>
                                    <p:cond delay="0"/>
                                  </p:stCondLst>
                                  <p:childTnLst>
                                    <p:animEffect filter="dissolve" transition="out">
                                      <p:cBhvr additive="repl">
                                        <p:cTn id="324" dur="500"/>
                                        <p:tgtEl>
                                          <p:spTgt spid="151"/>
                                        </p:tgtEl>
                                      </p:cBhvr>
                                    </p:animEffect>
                                    <p:set>
                                      <p:cBhvr>
                                        <p:cTn id="325" dur="1" fill="hold">
                                          <p:stCondLst>
                                            <p:cond delay="499"/>
                                          </p:stCondLst>
                                        </p:cTn>
                                        <p:tgtEl>
                                          <p:spTgt spid="151"/>
                                        </p:tgtEl>
                                        <p:attrNameLst>
                                          <p:attrName>style.visibility</p:attrName>
                                        </p:attrNameLst>
                                      </p:cBhvr>
                                      <p:to>
                                        <p:strVal val="hidden"/>
                                      </p:to>
                                    </p:set>
                                  </p:childTnLst>
                                </p:cTn>
                              </p:par>
                              <p:par>
                                <p:cTn id="326" nodeType="withEffect" fill="hold" presetClass="exit" presetID="9">
                                  <p:stCondLst>
                                    <p:cond delay="0"/>
                                  </p:stCondLst>
                                  <p:childTnLst>
                                    <p:animEffect filter="dissolve" transition="out">
                                      <p:cBhvr additive="repl">
                                        <p:cTn id="327" dur="500"/>
                                        <p:tgtEl>
                                          <p:spTgt spid="152"/>
                                        </p:tgtEl>
                                      </p:cBhvr>
                                    </p:animEffect>
                                    <p:set>
                                      <p:cBhvr>
                                        <p:cTn id="328" dur="1" fill="hold">
                                          <p:stCondLst>
                                            <p:cond delay="499"/>
                                          </p:stCondLst>
                                        </p:cTn>
                                        <p:tgtEl>
                                          <p:spTgt spid="152"/>
                                        </p:tgtEl>
                                        <p:attrNameLst>
                                          <p:attrName>style.visibility</p:attrName>
                                        </p:attrNameLst>
                                      </p:cBhvr>
                                      <p:to>
                                        <p:strVal val="hidden"/>
                                      </p:to>
                                    </p:set>
                                  </p:childTnLst>
                                </p:cTn>
                              </p:par>
                            </p:childTnLst>
                          </p:cTn>
                        </p:par>
                        <p:par>
                          <p:cTn id="329" fill="hold">
                            <p:stCondLst>
                              <p:cond delay="500"/>
                            </p:stCondLst>
                            <p:childTnLst>
                              <p:par>
                                <p:cTn id="330" nodeType="afterEffect" fill="hold" presetClass="entr" presetID="22" presetSubtype="2">
                                  <p:stCondLst>
                                    <p:cond delay="0"/>
                                  </p:stCondLst>
                                  <p:childTnLst>
                                    <p:set>
                                      <p:cBhvr>
                                        <p:cTn id="331" dur="1" fill="hold">
                                          <p:stCondLst>
                                            <p:cond delay="0"/>
                                          </p:stCondLst>
                                        </p:cTn>
                                        <p:tgtEl>
                                          <p:spTgt spid="48"/>
                                        </p:tgtEl>
                                        <p:attrNameLst>
                                          <p:attrName>style.visibility</p:attrName>
                                        </p:attrNameLst>
                                      </p:cBhvr>
                                      <p:to>
                                        <p:strVal val="visible"/>
                                      </p:to>
                                    </p:set>
                                    <p:animEffect filter="wipe(right)" transition="in">
                                      <p:cBhvr additive="repl">
                                        <p:cTn id="332" dur="2000"/>
                                        <p:tgtEl>
                                          <p:spTgt spid="48"/>
                                        </p:tgtEl>
                                      </p:cBhvr>
                                    </p:animEffect>
                                  </p:childTnLst>
                                </p:cTn>
                              </p:par>
                              <p:par>
                                <p:cTn id="333" nodeType="withEffect" fill="hold" presetClass="exit" presetID="9">
                                  <p:stCondLst>
                                    <p:cond delay="0"/>
                                  </p:stCondLst>
                                  <p:childTnLst>
                                    <p:animEffect filter="dissolve" transition="out">
                                      <p:cBhvr additive="repl">
                                        <p:cTn id="334" dur="2000"/>
                                        <p:tgtEl>
                                          <p:spTgt spid="77"/>
                                        </p:tgtEl>
                                      </p:cBhvr>
                                    </p:animEffect>
                                    <p:set>
                                      <p:cBhvr>
                                        <p:cTn id="335" dur="1" fill="hold">
                                          <p:stCondLst>
                                            <p:cond delay="1999"/>
                                          </p:stCondLst>
                                        </p:cTn>
                                        <p:tgtEl>
                                          <p:spTgt spid="77"/>
                                        </p:tgtEl>
                                        <p:attrNameLst>
                                          <p:attrName>style.visibility</p:attrName>
                                        </p:attrNameLst>
                                      </p:cBhvr>
                                      <p:to>
                                        <p:strVal val="hidden"/>
                                      </p:to>
                                    </p:set>
                                  </p:childTnLst>
                                </p:cTn>
                              </p:par>
                              <p:par>
                                <p:cTn id="336" nodeType="withEffect" fill="hold" presetClass="entr" presetID="9">
                                  <p:stCondLst>
                                    <p:cond delay="0"/>
                                  </p:stCondLst>
                                  <p:childTnLst>
                                    <p:set>
                                      <p:cBhvr>
                                        <p:cTn id="337" dur="1" fill="hold">
                                          <p:stCondLst>
                                            <p:cond delay="0"/>
                                          </p:stCondLst>
                                        </p:cTn>
                                        <p:tgtEl>
                                          <p:spTgt spid="122"/>
                                        </p:tgtEl>
                                        <p:attrNameLst>
                                          <p:attrName>style.visibility</p:attrName>
                                        </p:attrNameLst>
                                      </p:cBhvr>
                                      <p:to>
                                        <p:strVal val="visible"/>
                                      </p:to>
                                    </p:set>
                                    <p:animEffect filter="dissolve" transition="in">
                                      <p:cBhvr additive="repl">
                                        <p:cTn id="338" dur="2000"/>
                                        <p:tgtEl>
                                          <p:spTgt spid="122"/>
                                        </p:tgtEl>
                                      </p:cBhvr>
                                    </p:animEffect>
                                  </p:childTnLst>
                                </p:cTn>
                              </p:par>
                            </p:childTnLst>
                          </p:cTn>
                        </p:par>
                        <p:par>
                          <p:cTn id="339" fill="hold">
                            <p:stCondLst>
                              <p:cond delay="2500"/>
                            </p:stCondLst>
                            <p:childTnLst>
                              <p:par>
                                <p:cTn id="340" nodeType="afterEffect" fill="hold" presetClass="entr" presetID="22" presetSubtype="1">
                                  <p:stCondLst>
                                    <p:cond delay="0"/>
                                  </p:stCondLst>
                                  <p:childTnLst>
                                    <p:set>
                                      <p:cBhvr>
                                        <p:cTn id="341" dur="1" fill="hold">
                                          <p:stCondLst>
                                            <p:cond delay="0"/>
                                          </p:stCondLst>
                                        </p:cTn>
                                        <p:tgtEl>
                                          <p:spTgt spid="47"/>
                                        </p:tgtEl>
                                        <p:attrNameLst>
                                          <p:attrName>style.visibility</p:attrName>
                                        </p:attrNameLst>
                                      </p:cBhvr>
                                      <p:to>
                                        <p:strVal val="visible"/>
                                      </p:to>
                                    </p:set>
                                    <p:animEffect filter="wipe(up)" transition="in">
                                      <p:cBhvr additive="repl">
                                        <p:cTn id="342" dur="2000"/>
                                        <p:tgtEl>
                                          <p:spTgt spid="47"/>
                                        </p:tgtEl>
                                      </p:cBhvr>
                                    </p:animEffect>
                                  </p:childTnLst>
                                </p:cTn>
                              </p:par>
                              <p:par>
                                <p:cTn id="343" nodeType="withEffect" fill="hold" presetClass="entr" presetID="9">
                                  <p:stCondLst>
                                    <p:cond delay="0"/>
                                  </p:stCondLst>
                                  <p:childTnLst>
                                    <p:set>
                                      <p:cBhvr>
                                        <p:cTn id="344" dur="1" fill="hold">
                                          <p:stCondLst>
                                            <p:cond delay="0"/>
                                          </p:stCondLst>
                                        </p:cTn>
                                        <p:tgtEl>
                                          <p:spTgt spid="121"/>
                                        </p:tgtEl>
                                        <p:attrNameLst>
                                          <p:attrName>style.visibility</p:attrName>
                                        </p:attrNameLst>
                                      </p:cBhvr>
                                      <p:to>
                                        <p:strVal val="visible"/>
                                      </p:to>
                                    </p:set>
                                    <p:animEffect filter="dissolve" transition="in">
                                      <p:cBhvr additive="repl">
                                        <p:cTn id="345" dur="2000"/>
                                        <p:tgtEl>
                                          <p:spTgt spid="121"/>
                                        </p:tgtEl>
                                      </p:cBhvr>
                                    </p:animEffect>
                                  </p:childTnLst>
                                </p:cTn>
                              </p:par>
                              <p:par>
                                <p:cTn id="346" nodeType="withEffect" fill="hold" presetClass="entr" presetID="22" presetSubtype="1">
                                  <p:stCondLst>
                                    <p:cond delay="0"/>
                                  </p:stCondLst>
                                  <p:childTnLst>
                                    <p:set>
                                      <p:cBhvr>
                                        <p:cTn id="347" dur="1" fill="hold">
                                          <p:stCondLst>
                                            <p:cond delay="0"/>
                                          </p:stCondLst>
                                        </p:cTn>
                                        <p:tgtEl>
                                          <p:spTgt spid="149"/>
                                        </p:tgtEl>
                                        <p:attrNameLst>
                                          <p:attrName>style.visibility</p:attrName>
                                        </p:attrNameLst>
                                      </p:cBhvr>
                                      <p:to>
                                        <p:strVal val="visible"/>
                                      </p:to>
                                    </p:set>
                                    <p:animEffect filter="wipe(up)" transition="in">
                                      <p:cBhvr additive="repl">
                                        <p:cTn id="348" dur="2000"/>
                                        <p:tgtEl>
                                          <p:spTgt spid="149"/>
                                        </p:tgtEl>
                                      </p:cBhvr>
                                    </p:animEffect>
                                  </p:childTnLst>
                                </p:cTn>
                              </p:par>
                              <p:par>
                                <p:cTn id="349" nodeType="withEffect" fill="hold" presetClass="entr" presetID="22" presetSubtype="1">
                                  <p:stCondLst>
                                    <p:cond delay="0"/>
                                  </p:stCondLst>
                                  <p:childTnLst>
                                    <p:set>
                                      <p:cBhvr>
                                        <p:cTn id="350" dur="1" fill="hold">
                                          <p:stCondLst>
                                            <p:cond delay="0"/>
                                          </p:stCondLst>
                                        </p:cTn>
                                        <p:tgtEl>
                                          <p:spTgt spid="46"/>
                                        </p:tgtEl>
                                        <p:attrNameLst>
                                          <p:attrName>style.visibility</p:attrName>
                                        </p:attrNameLst>
                                      </p:cBhvr>
                                      <p:to>
                                        <p:strVal val="visible"/>
                                      </p:to>
                                    </p:set>
                                    <p:animEffect filter="wipe(up)" transition="in">
                                      <p:cBhvr additive="repl">
                                        <p:cTn id="351" dur="2000"/>
                                        <p:tgtEl>
                                          <p:spTgt spid="46"/>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audio isNarration="0">
                                      <p:cMediaNode showWhenStopped="1">
                                        <p:cTn/>
                                        <p:tgtEl>
                                          <p:sndTgt r:embed="rId57" name="drumroll.wav"/>
                                        </p:tgtEl>
                                      </p:cMediaNode>
                                    </p:audio>
                                    <p:set>
                                      <p:cBhvr>
                                        <p:cTn id="355" dur="1" fill="hold">
                                          <p:stCondLst>
                                            <p:cond delay="0"/>
                                          </p:stCondLst>
                                        </p:cTn>
                                        <p:tgtEl>
                                          <p:spTgt spid="67"/>
                                        </p:tgtEl>
                                        <p:attrNameLst>
                                          <p:attrName>style.visibility</p:attrName>
                                        </p:attrNameLst>
                                      </p:cBhvr>
                                      <p:to>
                                        <p:strVal val="visible"/>
                                      </p:to>
                                    </p:set>
                                    <p:animEffect filter="dissolve" transition="in">
                                      <p:cBhvr additive="repl">
                                        <p:cTn id="356" dur="1000"/>
                                        <p:tgtEl>
                                          <p:spTgt spid="67"/>
                                        </p:tgtEl>
                                      </p:cBhvr>
                                    </p:animEffect>
                                  </p:childTnLst>
                                </p:cTn>
                              </p:par>
                            </p:childTnLst>
                          </p:cTn>
                        </p:par>
                        <p:par>
                          <p:cTn id="357" fill="hold">
                            <p:stCondLst>
                              <p:cond delay="1000"/>
                            </p:stCondLst>
                            <p:childTnLst>
                              <p:par>
                                <p:cTn id="358" nodeType="afterEffect" fill="hold" presetClass="entr" presetID="9">
                                  <p:stCondLst>
                                    <p:cond delay="0"/>
                                  </p:stCondLst>
                                  <p:childTnLst>
                                    <p:set>
                                      <p:cBhvr>
                                        <p:cTn id="359" dur="1" fill="hold">
                                          <p:stCondLst>
                                            <p:cond delay="0"/>
                                          </p:stCondLst>
                                        </p:cTn>
                                        <p:tgtEl>
                                          <p:spTgt spid="73"/>
                                        </p:tgtEl>
                                        <p:attrNameLst>
                                          <p:attrName>style.visibility</p:attrName>
                                        </p:attrNameLst>
                                      </p:cBhvr>
                                      <p:to>
                                        <p:strVal val="visible"/>
                                      </p:to>
                                    </p:set>
                                    <p:animEffect filter="dissolve" transition="in">
                                      <p:cBhvr additive="repl">
                                        <p:cTn id="360" dur="1000"/>
                                        <p:tgtEl>
                                          <p:spTgt spid="73"/>
                                        </p:tgtEl>
                                      </p:cBhvr>
                                    </p:animEffect>
                                  </p:childTnLst>
                                </p:cTn>
                              </p:par>
                            </p:childTnLst>
                          </p:cTn>
                        </p:par>
                        <p:par>
                          <p:cTn id="361" fill="hold">
                            <p:stCondLst>
                              <p:cond delay="2000"/>
                            </p:stCondLst>
                            <p:childTnLst>
                              <p:par>
                                <p:cTn id="362" nodeType="afterEffect" fill="hold" presetClass="entr" presetID="9">
                                  <p:stCondLst>
                                    <p:cond delay="0"/>
                                  </p:stCondLst>
                                  <p:childTnLst>
                                    <p:set>
                                      <p:cBhvr>
                                        <p:cTn id="363" dur="1" fill="hold">
                                          <p:stCondLst>
                                            <p:cond delay="0"/>
                                          </p:stCondLst>
                                        </p:cTn>
                                        <p:tgtEl>
                                          <p:spTgt spid="79"/>
                                        </p:tgtEl>
                                        <p:attrNameLst>
                                          <p:attrName>style.visibility</p:attrName>
                                        </p:attrNameLst>
                                      </p:cBhvr>
                                      <p:to>
                                        <p:strVal val="visible"/>
                                      </p:to>
                                    </p:set>
                                    <p:animEffect filter="dissolve" transition="in">
                                      <p:cBhvr additive="repl">
                                        <p:cTn id="364" dur="1000"/>
                                        <p:tgtEl>
                                          <p:spTgt spid="7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46"/>
                                        </p:tgtEl>
                                        <p:attrNameLst>
                                          <p:attrName>style.visibility</p:attrName>
                                        </p:attrNameLst>
                                      </p:cBhvr>
                                      <p:to>
                                        <p:strVal val="visible"/>
                                      </p:to>
                                    </p:set>
                                    <p:animEffect filter="dissolve" transition="in">
                                      <p:cBhvr additive="repl">
                                        <p:cTn id="369" dur="500"/>
                                        <p:tgtEl>
                                          <p:spTgt spid="146"/>
                                        </p:tgtEl>
                                      </p:cBhvr>
                                    </p:animEffect>
                                  </p:childTnLst>
                                </p:cTn>
                              </p:par>
                              <p:par>
                                <p:cTn id="370" nodeType="withEffect" fill="hold" presetClass="entr" presetID="9">
                                  <p:stCondLst>
                                    <p:cond delay="0"/>
                                  </p:stCondLst>
                                  <p:childTnLst>
                                    <p:set>
                                      <p:cBhvr>
                                        <p:cTn id="371" dur="1" fill="hold">
                                          <p:stCondLst>
                                            <p:cond delay="0"/>
                                          </p:stCondLst>
                                        </p:cTn>
                                        <p:tgtEl>
                                          <p:spTgt spid="147"/>
                                        </p:tgtEl>
                                        <p:attrNameLst>
                                          <p:attrName>style.visibility</p:attrName>
                                        </p:attrNameLst>
                                      </p:cBhvr>
                                      <p:to>
                                        <p:strVal val="visible"/>
                                      </p:to>
                                    </p:set>
                                    <p:animEffect filter="dissolve" transition="in">
                                      <p:cBhvr additive="repl">
                                        <p:cTn id="372" dur="500"/>
                                        <p:tgtEl>
                                          <p:spTgt spid="147"/>
                                        </p:tgtEl>
                                      </p:cBhvr>
                                    </p:animEffect>
                                  </p:childTnLst>
                                </p:cTn>
                              </p:par>
                            </p:childTnLst>
                          </p:cTn>
                        </p:par>
                        <p:par>
                          <p:cTn id="373" fill="hold">
                            <p:stCondLst>
                              <p:cond delay="500"/>
                            </p:stCondLst>
                            <p:childTnLst>
                              <p:par>
                                <p:cTn id="374" nodeType="afterEffect" fill="hold" presetClass="path" presetID="0">
                                  <p:stCondLst>
                                    <p:cond delay="0"/>
                                  </p:stCondLst>
                                  <p:childTnLst>
                                    <p:audio isNarration="0">
                                      <p:cMediaNode showWhenStopped="1">
                                        <p:cTn/>
                                        <p:tgtEl>
                                          <p:sndTgt r:embed="rId58" name="airplanes.wav"/>
                                        </p:tgtEl>
                                      </p:cMediaNode>
                                    </p:audio>
                                    <p:animMotion origin="layout" path="M 1.38889E-006 -3.7037E-007 L -0.0184 -0.02639 L -0.0309 -0.05139 E">
                                      <p:cBhvr>
                                        <p:cTn id="375" dur="2000" fill="hold"/>
                                        <p:tgtEl>
                                          <p:spTgt spid="146"/>
                                        </p:tgtEl>
                                      </p:cBhvr>
                                    </p:animMotion>
                                  </p:childTnLst>
                                </p:cTn>
                              </p:par>
                              <p:par>
                                <p:cTn id="376" nodeType="withEffect" fill="hold" presetClass="path" presetID="0">
                                  <p:stCondLst>
                                    <p:cond delay="0"/>
                                  </p:stCondLst>
                                  <p:childTnLst>
                                    <p:animMotion origin="layout" path="M -3.61111E-006 -1.48148E-006 L -0.01076 -0.01805 L -0.03507 -0.04722 E">
                                      <p:cBhvr>
                                        <p:cTn id="377" dur="2000" fill="hold"/>
                                        <p:tgtEl>
                                          <p:spTgt spid="147"/>
                                        </p:tgtEl>
                                      </p:cBhvr>
                                    </p:animMotion>
                                  </p:childTnLst>
                                </p:cTn>
                              </p:par>
                            </p:childTnLst>
                          </p:cTn>
                        </p:par>
                        <p:par>
                          <p:cTn id="378" fill="hold">
                            <p:stCondLst>
                              <p:cond delay="2500"/>
                            </p:stCondLst>
                            <p:childTnLst>
                              <p:par>
                                <p:cTn id="379" nodeType="afterEffect" fill="hold" presetClass="entr" presetID="1">
                                  <p:stCondLst>
                                    <p:cond delay="0"/>
                                  </p:stCondLst>
                                  <p:childTnLst>
                                    <p:audio isNarration="0">
                                      <p:cMediaNode showWhenStopped="1">
                                        <p:cTn/>
                                        <p:tgtEl>
                                          <p:sndTgt r:embed="rId59" name="explode.wav"/>
                                        </p:tgtEl>
                                      </p:cMediaNode>
                                    </p:audio>
                                    <p:set>
                                      <p:cBhvr>
                                        <p:cTn id="380" dur="1" fill="hold">
                                          <p:stCondLst>
                                            <p:cond delay="0"/>
                                          </p:stCondLst>
                                        </p:cTn>
                                        <p:tgtEl>
                                          <p:spTgt spid="145"/>
                                        </p:tgtEl>
                                        <p:attrNameLst>
                                          <p:attrName>style.visibility</p:attrName>
                                        </p:attrNameLst>
                                      </p:cBhvr>
                                      <p:to>
                                        <p:strVal val="visible"/>
                                      </p:to>
                                    </p:set>
                                  </p:childTnLst>
                                </p:cTn>
                              </p:par>
                            </p:childTnLst>
                          </p:cTn>
                        </p:par>
                        <p:par>
                          <p:cTn id="381" fill="hold">
                            <p:stCondLst>
                              <p:cond delay="2500"/>
                            </p:stCondLst>
                            <p:childTnLst>
                              <p:par>
                                <p:cTn id="382" nodeType="afterEffect" fill="hold" presetClass="exit" presetID="3" presetSubtype="10">
                                  <p:stCondLst>
                                    <p:cond delay="0"/>
                                  </p:stCondLst>
                                  <p:childTnLst>
                                    <p:animEffect filter="blinds(horizontal)" transition="out">
                                      <p:cBhvr additive="repl">
                                        <p:cTn id="383" dur="500"/>
                                        <p:tgtEl>
                                          <p:spTgt spid="145"/>
                                        </p:tgtEl>
                                      </p:cBhvr>
                                    </p:animEffect>
                                    <p:set>
                                      <p:cBhvr>
                                        <p:cTn id="384" dur="1" fill="hold">
                                          <p:stCondLst>
                                            <p:cond delay="499"/>
                                          </p:stCondLst>
                                        </p:cTn>
                                        <p:tgtEl>
                                          <p:spTgt spid="145"/>
                                        </p:tgtEl>
                                        <p:attrNameLst>
                                          <p:attrName>style.visibility</p:attrName>
                                        </p:attrNameLst>
                                      </p:cBhvr>
                                      <p:to>
                                        <p:strVal val="hidden"/>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audio isNarration="0">
                                      <p:cMediaNode showWhenStopped="1">
                                        <p:cTn/>
                                        <p:tgtEl>
                                          <p:sndTgt r:embed="rId60" name="flyby.wav"/>
                                        </p:tgtEl>
                                      </p:cMediaNode>
                                    </p:audio>
                                    <p:set>
                                      <p:cBhvr>
                                        <p:cTn id="388" dur="1" fill="hold">
                                          <p:stCondLst>
                                            <p:cond delay="0"/>
                                          </p:stCondLst>
                                        </p:cTn>
                                        <p:tgtEl>
                                          <p:spTgt spid="144"/>
                                        </p:tgtEl>
                                        <p:attrNameLst>
                                          <p:attrName>style.visibility</p:attrName>
                                        </p:attrNameLst>
                                      </p:cBhvr>
                                      <p:to>
                                        <p:strVal val="visible"/>
                                      </p:to>
                                    </p:set>
                                    <p:animEffect filter="dissolve" transition="in">
                                      <p:cBhvr additive="repl">
                                        <p:cTn id="389" dur="2000"/>
                                        <p:tgtEl>
                                          <p:spTgt spid="144"/>
                                        </p:tgtEl>
                                      </p:cBhvr>
                                    </p:animEffect>
                                  </p:childTnLst>
                                </p:cTn>
                              </p:par>
                              <p:par>
                                <p:cTn id="390" nodeType="withEffect" fill="hold" presetClass="entr" presetID="9">
                                  <p:stCondLst>
                                    <p:cond delay="0"/>
                                  </p:stCondLst>
                                  <p:childTnLst>
                                    <p:set>
                                      <p:cBhvr>
                                        <p:cTn id="391" dur="1" fill="hold">
                                          <p:stCondLst>
                                            <p:cond delay="0"/>
                                          </p:stCondLst>
                                        </p:cTn>
                                        <p:tgtEl>
                                          <p:spTgt spid="143"/>
                                        </p:tgtEl>
                                        <p:attrNameLst>
                                          <p:attrName>style.visibility</p:attrName>
                                        </p:attrNameLst>
                                      </p:cBhvr>
                                      <p:to>
                                        <p:strVal val="visible"/>
                                      </p:to>
                                    </p:set>
                                    <p:animEffect filter="dissolve" transition="in">
                                      <p:cBhvr additive="repl">
                                        <p:cTn id="392" dur="2000"/>
                                        <p:tgtEl>
                                          <p:spTgt spid="143"/>
                                        </p:tgtEl>
                                      </p:cBhvr>
                                    </p:animEffect>
                                  </p:childTnLst>
                                </p:cTn>
                              </p:par>
                            </p:childTnLst>
                          </p:cTn>
                        </p:par>
                        <p:par>
                          <p:cTn id="393" fill="hold">
                            <p:stCondLst>
                              <p:cond delay="2000"/>
                            </p:stCondLst>
                            <p:childTnLst>
                              <p:par>
                                <p:cTn id="394" nodeType="afterEffect" fill="hold" presetClass="entr" presetID="1">
                                  <p:stCondLst>
                                    <p:cond delay="0"/>
                                  </p:stCondLst>
                                  <p:childTnLst>
                                    <p:audio isNarration="0">
                                      <p:cMediaNode showWhenStopped="1">
                                        <p:cTn/>
                                        <p:tgtEl>
                                          <p:sndTgt r:embed="rId61" name="explode.wav"/>
                                        </p:tgtEl>
                                      </p:cMediaNode>
                                    </p:audio>
                                    <p:set>
                                      <p:cBhvr>
                                        <p:cTn id="395" dur="1" fill="hold">
                                          <p:stCondLst>
                                            <p:cond delay="0"/>
                                          </p:stCondLst>
                                        </p:cTn>
                                        <p:tgtEl>
                                          <p:spTgt spid="148"/>
                                        </p:tgtEl>
                                        <p:attrNameLst>
                                          <p:attrName>style.visibility</p:attrName>
                                        </p:attrNameLst>
                                      </p:cBhvr>
                                      <p:to>
                                        <p:strVal val="visible"/>
                                      </p:to>
                                    </p:set>
                                  </p:childTnLst>
                                </p:cTn>
                              </p:par>
                            </p:childTnLst>
                          </p:cTn>
                        </p:par>
                        <p:par>
                          <p:cTn id="396" fill="hold">
                            <p:stCondLst>
                              <p:cond delay="2000"/>
                            </p:stCondLst>
                            <p:childTnLst>
                              <p:par>
                                <p:cTn id="397" nodeType="afterEffect" fill="hold" presetClass="exit" presetID="3" presetSubtype="10">
                                  <p:stCondLst>
                                    <p:cond delay="0"/>
                                  </p:stCondLst>
                                  <p:childTnLst>
                                    <p:animEffect filter="blinds(horizontal)" transition="out">
                                      <p:cBhvr additive="repl">
                                        <p:cTn id="398" dur="500"/>
                                        <p:tgtEl>
                                          <p:spTgt spid="148"/>
                                        </p:tgtEl>
                                      </p:cBhvr>
                                    </p:animEffect>
                                    <p:set>
                                      <p:cBhvr>
                                        <p:cTn id="399" dur="1" fill="hold">
                                          <p:stCondLst>
                                            <p:cond delay="499"/>
                                          </p:stCondLst>
                                        </p:cTn>
                                        <p:tgtEl>
                                          <p:spTgt spid="1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14"/>
          <p:cNvSpPr/>
          <p:nvPr/>
        </p:nvSpPr>
        <p:spPr>
          <a:xfrm>
            <a:off x="1353960" y="590400"/>
            <a:ext cx="762120" cy="524160"/>
          </a:xfrm>
          <a:prstGeom prst="rect">
            <a:avLst/>
          </a:prstGeom>
          <a:solidFill>
            <a:srgbClr val="b6c9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 name="Group 819"/>
          <p:cNvGrpSpPr/>
          <p:nvPr/>
        </p:nvGrpSpPr>
        <p:grpSpPr>
          <a:xfrm>
            <a:off x="4951440" y="3832200"/>
            <a:ext cx="1673280" cy="1549440"/>
            <a:chOff x="4951440" y="3832200"/>
            <a:chExt cx="1673280" cy="1549440"/>
          </a:xfrm>
        </p:grpSpPr>
        <p:sp>
          <p:nvSpPr>
            <p:cNvPr id="167" name="Freeform 782"/>
            <p:cNvSpPr/>
            <p:nvPr/>
          </p:nvSpPr>
          <p:spPr>
            <a:xfrm>
              <a:off x="4951440" y="3832200"/>
              <a:ext cx="1673280" cy="1549440"/>
            </a:xfrm>
            <a:custGeom>
              <a:avLst/>
              <a:gdLst>
                <a:gd name="textAreaLeft" fmla="*/ 0 w 1673280"/>
                <a:gd name="textAreaRight" fmla="*/ 1673640 w 1673280"/>
                <a:gd name="textAreaTop" fmla="*/ 0 h 1549440"/>
                <a:gd name="textAreaBottom" fmla="*/ 1549800 h 1549440"/>
              </a:gdLst>
              <a:ahLst/>
              <a:rect l="textAreaLeft" t="textAreaTop" r="textAreaRight" b="textAreaBottom"/>
              <a:pathLst>
                <a:path w="1054" h="976">
                  <a:moveTo>
                    <a:pt x="91" y="280"/>
                  </a:moveTo>
                  <a:cubicBezTo>
                    <a:pt x="89" y="252"/>
                    <a:pt x="81" y="241"/>
                    <a:pt x="79" y="226"/>
                  </a:cubicBezTo>
                  <a:cubicBezTo>
                    <a:pt x="77" y="211"/>
                    <a:pt x="81" y="201"/>
                    <a:pt x="77" y="192"/>
                  </a:cubicBezTo>
                  <a:cubicBezTo>
                    <a:pt x="73" y="183"/>
                    <a:pt x="59" y="181"/>
                    <a:pt x="53" y="170"/>
                  </a:cubicBezTo>
                  <a:cubicBezTo>
                    <a:pt x="47" y="159"/>
                    <a:pt x="49" y="144"/>
                    <a:pt x="41" y="128"/>
                  </a:cubicBezTo>
                  <a:cubicBezTo>
                    <a:pt x="33" y="112"/>
                    <a:pt x="0" y="81"/>
                    <a:pt x="7" y="76"/>
                  </a:cubicBezTo>
                  <a:cubicBezTo>
                    <a:pt x="14" y="71"/>
                    <a:pt x="62" y="94"/>
                    <a:pt x="81" y="96"/>
                  </a:cubicBezTo>
                  <a:cubicBezTo>
                    <a:pt x="100" y="98"/>
                    <a:pt x="111" y="95"/>
                    <a:pt x="123" y="86"/>
                  </a:cubicBezTo>
                  <a:cubicBezTo>
                    <a:pt x="135" y="77"/>
                    <a:pt x="140" y="46"/>
                    <a:pt x="151" y="40"/>
                  </a:cubicBezTo>
                  <a:cubicBezTo>
                    <a:pt x="162" y="34"/>
                    <a:pt x="176" y="49"/>
                    <a:pt x="187" y="48"/>
                  </a:cubicBezTo>
                  <a:cubicBezTo>
                    <a:pt x="198" y="47"/>
                    <a:pt x="206" y="35"/>
                    <a:pt x="219" y="34"/>
                  </a:cubicBezTo>
                  <a:cubicBezTo>
                    <a:pt x="232" y="33"/>
                    <a:pt x="253" y="45"/>
                    <a:pt x="267" y="40"/>
                  </a:cubicBezTo>
                  <a:cubicBezTo>
                    <a:pt x="281" y="35"/>
                    <a:pt x="292" y="0"/>
                    <a:pt x="303" y="6"/>
                  </a:cubicBezTo>
                  <a:cubicBezTo>
                    <a:pt x="314" y="12"/>
                    <a:pt x="318" y="53"/>
                    <a:pt x="335" y="76"/>
                  </a:cubicBezTo>
                  <a:cubicBezTo>
                    <a:pt x="352" y="99"/>
                    <a:pt x="383" y="126"/>
                    <a:pt x="403" y="146"/>
                  </a:cubicBezTo>
                  <a:cubicBezTo>
                    <a:pt x="423" y="166"/>
                    <a:pt x="435" y="189"/>
                    <a:pt x="457" y="198"/>
                  </a:cubicBezTo>
                  <a:cubicBezTo>
                    <a:pt x="479" y="207"/>
                    <a:pt x="511" y="206"/>
                    <a:pt x="533" y="202"/>
                  </a:cubicBezTo>
                  <a:cubicBezTo>
                    <a:pt x="555" y="198"/>
                    <a:pt x="570" y="181"/>
                    <a:pt x="587" y="176"/>
                  </a:cubicBezTo>
                  <a:cubicBezTo>
                    <a:pt x="604" y="171"/>
                    <a:pt x="615" y="179"/>
                    <a:pt x="635" y="174"/>
                  </a:cubicBezTo>
                  <a:cubicBezTo>
                    <a:pt x="655" y="169"/>
                    <a:pt x="684" y="150"/>
                    <a:pt x="707" y="146"/>
                  </a:cubicBezTo>
                  <a:cubicBezTo>
                    <a:pt x="730" y="142"/>
                    <a:pt x="764" y="138"/>
                    <a:pt x="775" y="152"/>
                  </a:cubicBezTo>
                  <a:cubicBezTo>
                    <a:pt x="786" y="166"/>
                    <a:pt x="758" y="206"/>
                    <a:pt x="771" y="230"/>
                  </a:cubicBezTo>
                  <a:cubicBezTo>
                    <a:pt x="784" y="254"/>
                    <a:pt x="839" y="274"/>
                    <a:pt x="853" y="296"/>
                  </a:cubicBezTo>
                  <a:cubicBezTo>
                    <a:pt x="867" y="318"/>
                    <a:pt x="847" y="349"/>
                    <a:pt x="853" y="362"/>
                  </a:cubicBezTo>
                  <a:cubicBezTo>
                    <a:pt x="859" y="375"/>
                    <a:pt x="878" y="366"/>
                    <a:pt x="891" y="372"/>
                  </a:cubicBezTo>
                  <a:cubicBezTo>
                    <a:pt x="904" y="378"/>
                    <a:pt x="917" y="392"/>
                    <a:pt x="931" y="396"/>
                  </a:cubicBezTo>
                  <a:cubicBezTo>
                    <a:pt x="945" y="400"/>
                    <a:pt x="964" y="389"/>
                    <a:pt x="975" y="398"/>
                  </a:cubicBezTo>
                  <a:cubicBezTo>
                    <a:pt x="986" y="407"/>
                    <a:pt x="1003" y="432"/>
                    <a:pt x="999" y="448"/>
                  </a:cubicBezTo>
                  <a:cubicBezTo>
                    <a:pt x="995" y="464"/>
                    <a:pt x="953" y="476"/>
                    <a:pt x="953" y="492"/>
                  </a:cubicBezTo>
                  <a:cubicBezTo>
                    <a:pt x="953" y="508"/>
                    <a:pt x="987" y="524"/>
                    <a:pt x="1001" y="544"/>
                  </a:cubicBezTo>
                  <a:cubicBezTo>
                    <a:pt x="1015" y="564"/>
                    <a:pt x="1040" y="594"/>
                    <a:pt x="1039" y="610"/>
                  </a:cubicBezTo>
                  <a:cubicBezTo>
                    <a:pt x="1038" y="626"/>
                    <a:pt x="1001" y="624"/>
                    <a:pt x="995" y="638"/>
                  </a:cubicBezTo>
                  <a:cubicBezTo>
                    <a:pt x="989" y="652"/>
                    <a:pt x="1009" y="677"/>
                    <a:pt x="1005" y="694"/>
                  </a:cubicBezTo>
                  <a:cubicBezTo>
                    <a:pt x="1001" y="711"/>
                    <a:pt x="977" y="727"/>
                    <a:pt x="973" y="740"/>
                  </a:cubicBezTo>
                  <a:cubicBezTo>
                    <a:pt x="969" y="753"/>
                    <a:pt x="972" y="759"/>
                    <a:pt x="983" y="772"/>
                  </a:cubicBezTo>
                  <a:cubicBezTo>
                    <a:pt x="994" y="785"/>
                    <a:pt x="1026" y="801"/>
                    <a:pt x="1037" y="818"/>
                  </a:cubicBezTo>
                  <a:cubicBezTo>
                    <a:pt x="1048" y="835"/>
                    <a:pt x="1054" y="862"/>
                    <a:pt x="1049" y="874"/>
                  </a:cubicBezTo>
                  <a:cubicBezTo>
                    <a:pt x="1044" y="886"/>
                    <a:pt x="1014" y="882"/>
                    <a:pt x="1009" y="892"/>
                  </a:cubicBezTo>
                  <a:cubicBezTo>
                    <a:pt x="1004" y="902"/>
                    <a:pt x="1027" y="922"/>
                    <a:pt x="1021" y="932"/>
                  </a:cubicBezTo>
                  <a:cubicBezTo>
                    <a:pt x="1015" y="942"/>
                    <a:pt x="990" y="950"/>
                    <a:pt x="973" y="954"/>
                  </a:cubicBezTo>
                  <a:cubicBezTo>
                    <a:pt x="956" y="958"/>
                    <a:pt x="933" y="958"/>
                    <a:pt x="917" y="956"/>
                  </a:cubicBezTo>
                  <a:cubicBezTo>
                    <a:pt x="901" y="954"/>
                    <a:pt x="894" y="939"/>
                    <a:pt x="879" y="942"/>
                  </a:cubicBezTo>
                  <a:cubicBezTo>
                    <a:pt x="864" y="945"/>
                    <a:pt x="839" y="976"/>
                    <a:pt x="825" y="972"/>
                  </a:cubicBezTo>
                  <a:cubicBezTo>
                    <a:pt x="811" y="968"/>
                    <a:pt x="803" y="934"/>
                    <a:pt x="795" y="920"/>
                  </a:cubicBezTo>
                  <a:cubicBezTo>
                    <a:pt x="787" y="906"/>
                    <a:pt x="780" y="910"/>
                    <a:pt x="779" y="890"/>
                  </a:cubicBezTo>
                  <a:cubicBezTo>
                    <a:pt x="778" y="870"/>
                    <a:pt x="791" y="821"/>
                    <a:pt x="789" y="800"/>
                  </a:cubicBezTo>
                  <a:cubicBezTo>
                    <a:pt x="787" y="779"/>
                    <a:pt x="774" y="777"/>
                    <a:pt x="765" y="766"/>
                  </a:cubicBezTo>
                  <a:cubicBezTo>
                    <a:pt x="756" y="755"/>
                    <a:pt x="749" y="738"/>
                    <a:pt x="737" y="732"/>
                  </a:cubicBezTo>
                  <a:cubicBezTo>
                    <a:pt x="725" y="726"/>
                    <a:pt x="708" y="736"/>
                    <a:pt x="695" y="732"/>
                  </a:cubicBezTo>
                  <a:cubicBezTo>
                    <a:pt x="682" y="728"/>
                    <a:pt x="672" y="691"/>
                    <a:pt x="657" y="706"/>
                  </a:cubicBezTo>
                  <a:lnTo>
                    <a:pt x="605" y="822"/>
                  </a:lnTo>
                  <a:cubicBezTo>
                    <a:pt x="594" y="836"/>
                    <a:pt x="597" y="801"/>
                    <a:pt x="589" y="790"/>
                  </a:cubicBezTo>
                  <a:cubicBezTo>
                    <a:pt x="581" y="779"/>
                    <a:pt x="566" y="767"/>
                    <a:pt x="557" y="756"/>
                  </a:cubicBezTo>
                  <a:cubicBezTo>
                    <a:pt x="548" y="745"/>
                    <a:pt x="547" y="728"/>
                    <a:pt x="537" y="722"/>
                  </a:cubicBezTo>
                  <a:cubicBezTo>
                    <a:pt x="527" y="716"/>
                    <a:pt x="503" y="724"/>
                    <a:pt x="495" y="720"/>
                  </a:cubicBezTo>
                  <a:cubicBezTo>
                    <a:pt x="487" y="716"/>
                    <a:pt x="496" y="707"/>
                    <a:pt x="487" y="700"/>
                  </a:cubicBezTo>
                  <a:cubicBezTo>
                    <a:pt x="478" y="693"/>
                    <a:pt x="459" y="683"/>
                    <a:pt x="443" y="676"/>
                  </a:cubicBezTo>
                  <a:cubicBezTo>
                    <a:pt x="427" y="669"/>
                    <a:pt x="405" y="668"/>
                    <a:pt x="393" y="660"/>
                  </a:cubicBezTo>
                  <a:cubicBezTo>
                    <a:pt x="381" y="652"/>
                    <a:pt x="369" y="630"/>
                    <a:pt x="373" y="628"/>
                  </a:cubicBezTo>
                  <a:cubicBezTo>
                    <a:pt x="377" y="626"/>
                    <a:pt x="404" y="646"/>
                    <a:pt x="415" y="650"/>
                  </a:cubicBezTo>
                  <a:cubicBezTo>
                    <a:pt x="426" y="654"/>
                    <a:pt x="442" y="658"/>
                    <a:pt x="441" y="654"/>
                  </a:cubicBezTo>
                  <a:cubicBezTo>
                    <a:pt x="440" y="650"/>
                    <a:pt x="418" y="636"/>
                    <a:pt x="407" y="626"/>
                  </a:cubicBezTo>
                  <a:cubicBezTo>
                    <a:pt x="396" y="616"/>
                    <a:pt x="393" y="603"/>
                    <a:pt x="377" y="596"/>
                  </a:cubicBezTo>
                  <a:cubicBezTo>
                    <a:pt x="361" y="589"/>
                    <a:pt x="322" y="589"/>
                    <a:pt x="313" y="582"/>
                  </a:cubicBezTo>
                  <a:cubicBezTo>
                    <a:pt x="304" y="575"/>
                    <a:pt x="329" y="562"/>
                    <a:pt x="325" y="554"/>
                  </a:cubicBezTo>
                  <a:cubicBezTo>
                    <a:pt x="321" y="546"/>
                    <a:pt x="300" y="542"/>
                    <a:pt x="289" y="534"/>
                  </a:cubicBezTo>
                  <a:cubicBezTo>
                    <a:pt x="278" y="526"/>
                    <a:pt x="270" y="512"/>
                    <a:pt x="261" y="508"/>
                  </a:cubicBezTo>
                  <a:cubicBezTo>
                    <a:pt x="252" y="504"/>
                    <a:pt x="246" y="514"/>
                    <a:pt x="237" y="510"/>
                  </a:cubicBezTo>
                  <a:cubicBezTo>
                    <a:pt x="228" y="506"/>
                    <a:pt x="220" y="496"/>
                    <a:pt x="209" y="486"/>
                  </a:cubicBezTo>
                  <a:cubicBezTo>
                    <a:pt x="198" y="476"/>
                    <a:pt x="176" y="457"/>
                    <a:pt x="173" y="448"/>
                  </a:cubicBezTo>
                  <a:cubicBezTo>
                    <a:pt x="170" y="439"/>
                    <a:pt x="182" y="433"/>
                    <a:pt x="189" y="434"/>
                  </a:cubicBezTo>
                  <a:cubicBezTo>
                    <a:pt x="196" y="435"/>
                    <a:pt x="209" y="451"/>
                    <a:pt x="217" y="454"/>
                  </a:cubicBezTo>
                  <a:cubicBezTo>
                    <a:pt x="225" y="457"/>
                    <a:pt x="241" y="458"/>
                    <a:pt x="237" y="452"/>
                  </a:cubicBezTo>
                  <a:cubicBezTo>
                    <a:pt x="233" y="446"/>
                    <a:pt x="208" y="434"/>
                    <a:pt x="195" y="420"/>
                  </a:cubicBezTo>
                  <a:cubicBezTo>
                    <a:pt x="182" y="406"/>
                    <a:pt x="171" y="383"/>
                    <a:pt x="159" y="366"/>
                  </a:cubicBezTo>
                  <a:cubicBezTo>
                    <a:pt x="147" y="349"/>
                    <a:pt x="136" y="334"/>
                    <a:pt x="125" y="320"/>
                  </a:cubicBezTo>
                  <a:cubicBezTo>
                    <a:pt x="114" y="306"/>
                    <a:pt x="98" y="288"/>
                    <a:pt x="91" y="280"/>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783"/>
            <p:cNvSpPr/>
            <p:nvPr/>
          </p:nvSpPr>
          <p:spPr>
            <a:xfrm>
              <a:off x="5081760" y="4311720"/>
              <a:ext cx="56880" cy="115920"/>
            </a:xfrm>
            <a:custGeom>
              <a:avLst/>
              <a:gdLst>
                <a:gd name="textAreaLeft" fmla="*/ 0 w 56880"/>
                <a:gd name="textAreaRight" fmla="*/ 57240 w 56880"/>
                <a:gd name="textAreaTop" fmla="*/ 0 h 115920"/>
                <a:gd name="textAreaBottom" fmla="*/ 116280 h 115920"/>
              </a:gdLst>
              <a:ahLst/>
              <a:rect l="textAreaLeft" t="textAreaTop" r="textAreaRight" b="textAreaBottom"/>
              <a:pathLst>
                <a:path w="36" h="73">
                  <a:moveTo>
                    <a:pt x="9" y="0"/>
                  </a:moveTo>
                  <a:cubicBezTo>
                    <a:pt x="13" y="0"/>
                    <a:pt x="25" y="25"/>
                    <a:pt x="27" y="34"/>
                  </a:cubicBezTo>
                  <a:cubicBezTo>
                    <a:pt x="29" y="43"/>
                    <a:pt x="20" y="48"/>
                    <a:pt x="21" y="53"/>
                  </a:cubicBezTo>
                  <a:cubicBezTo>
                    <a:pt x="22" y="58"/>
                    <a:pt x="34" y="62"/>
                    <a:pt x="35" y="65"/>
                  </a:cubicBezTo>
                  <a:cubicBezTo>
                    <a:pt x="36" y="68"/>
                    <a:pt x="31" y="73"/>
                    <a:pt x="27" y="70"/>
                  </a:cubicBezTo>
                  <a:cubicBezTo>
                    <a:pt x="23" y="67"/>
                    <a:pt x="13" y="56"/>
                    <a:pt x="9" y="50"/>
                  </a:cubicBezTo>
                  <a:cubicBezTo>
                    <a:pt x="5" y="44"/>
                    <a:pt x="0" y="39"/>
                    <a:pt x="0" y="34"/>
                  </a:cubicBezTo>
                  <a:cubicBezTo>
                    <a:pt x="0" y="29"/>
                    <a:pt x="8" y="25"/>
                    <a:pt x="9" y="19"/>
                  </a:cubicBezTo>
                  <a:cubicBezTo>
                    <a:pt x="10" y="13"/>
                    <a:pt x="9" y="4"/>
                    <a:pt x="9" y="0"/>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784"/>
            <p:cNvSpPr/>
            <p:nvPr/>
          </p:nvSpPr>
          <p:spPr>
            <a:xfrm>
              <a:off x="5151600" y="4410000"/>
              <a:ext cx="80640" cy="90720"/>
            </a:xfrm>
            <a:custGeom>
              <a:avLst/>
              <a:gdLst>
                <a:gd name="textAreaLeft" fmla="*/ 0 w 80640"/>
                <a:gd name="textAreaRight" fmla="*/ 81000 w 80640"/>
                <a:gd name="textAreaTop" fmla="*/ 0 h 90720"/>
                <a:gd name="textAreaBottom" fmla="*/ 91080 h 90720"/>
              </a:gdLst>
              <a:ahLst/>
              <a:rect l="textAreaLeft" t="textAreaTop" r="textAreaRight" b="textAreaBottom"/>
              <a:pathLst>
                <a:path w="51" h="57">
                  <a:moveTo>
                    <a:pt x="13" y="1"/>
                  </a:moveTo>
                  <a:cubicBezTo>
                    <a:pt x="18" y="3"/>
                    <a:pt x="25" y="13"/>
                    <a:pt x="28" y="18"/>
                  </a:cubicBezTo>
                  <a:cubicBezTo>
                    <a:pt x="31" y="23"/>
                    <a:pt x="27" y="28"/>
                    <a:pt x="30" y="32"/>
                  </a:cubicBezTo>
                  <a:cubicBezTo>
                    <a:pt x="33" y="36"/>
                    <a:pt x="42" y="38"/>
                    <a:pt x="45" y="42"/>
                  </a:cubicBezTo>
                  <a:cubicBezTo>
                    <a:pt x="48" y="46"/>
                    <a:pt x="51" y="57"/>
                    <a:pt x="48" y="57"/>
                  </a:cubicBezTo>
                  <a:cubicBezTo>
                    <a:pt x="45" y="57"/>
                    <a:pt x="32" y="48"/>
                    <a:pt x="27" y="44"/>
                  </a:cubicBezTo>
                  <a:cubicBezTo>
                    <a:pt x="22" y="40"/>
                    <a:pt x="17" y="36"/>
                    <a:pt x="15" y="32"/>
                  </a:cubicBezTo>
                  <a:cubicBezTo>
                    <a:pt x="13" y="28"/>
                    <a:pt x="17" y="22"/>
                    <a:pt x="15" y="18"/>
                  </a:cubicBezTo>
                  <a:cubicBezTo>
                    <a:pt x="13" y="14"/>
                    <a:pt x="0" y="11"/>
                    <a:pt x="0" y="8"/>
                  </a:cubicBezTo>
                  <a:cubicBezTo>
                    <a:pt x="0" y="5"/>
                    <a:pt x="10" y="0"/>
                    <a:pt x="13" y="1"/>
                  </a:cubicBezTo>
                  <a:close/>
                </a:path>
              </a:pathLst>
            </a:custGeom>
            <a:solidFill>
              <a:srgbClr val="ff0000">
                <a:alpha val="30000"/>
              </a:srgbClr>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70" name="Freeform 785"/>
            <p:cNvSpPr/>
            <p:nvPr/>
          </p:nvSpPr>
          <p:spPr>
            <a:xfrm>
              <a:off x="5092560" y="4432320"/>
              <a:ext cx="44640" cy="44280"/>
            </a:xfrm>
            <a:custGeom>
              <a:avLst/>
              <a:gdLst>
                <a:gd name="textAreaLeft" fmla="*/ 0 w 44640"/>
                <a:gd name="textAreaRight" fmla="*/ 45000 w 44640"/>
                <a:gd name="textAreaTop" fmla="*/ 0 h 44280"/>
                <a:gd name="textAreaBottom" fmla="*/ 44640 h 44280"/>
              </a:gdLst>
              <a:ahLst/>
              <a:rect l="textAreaLeft" t="textAreaTop" r="textAreaRight" b="textAreaBottom"/>
              <a:pathLst>
                <a:path w="28" h="28">
                  <a:moveTo>
                    <a:pt x="1" y="1"/>
                  </a:moveTo>
                  <a:cubicBezTo>
                    <a:pt x="5" y="0"/>
                    <a:pt x="23" y="11"/>
                    <a:pt x="25" y="15"/>
                  </a:cubicBezTo>
                  <a:cubicBezTo>
                    <a:pt x="28" y="20"/>
                    <a:pt x="20" y="28"/>
                    <a:pt x="16" y="28"/>
                  </a:cubicBezTo>
                  <a:cubicBezTo>
                    <a:pt x="12" y="28"/>
                    <a:pt x="4" y="22"/>
                    <a:pt x="2" y="18"/>
                  </a:cubicBezTo>
                  <a:cubicBezTo>
                    <a:pt x="0" y="14"/>
                    <a:pt x="1" y="5"/>
                    <a:pt x="1" y="1"/>
                  </a:cubicBezTo>
                  <a:close/>
                </a:path>
              </a:pathLst>
            </a:custGeom>
            <a:solidFill>
              <a:srgbClr val="ff0000">
                <a:alpha val="3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1" name="Freeform 786"/>
            <p:cNvSpPr/>
            <p:nvPr/>
          </p:nvSpPr>
          <p:spPr>
            <a:xfrm>
              <a:off x="5365800" y="4813200"/>
              <a:ext cx="42840" cy="39960"/>
            </a:xfrm>
            <a:custGeom>
              <a:avLst/>
              <a:gdLst>
                <a:gd name="textAreaLeft" fmla="*/ 0 w 42840"/>
                <a:gd name="textAreaRight" fmla="*/ 43200 w 42840"/>
                <a:gd name="textAreaTop" fmla="*/ 0 h 39960"/>
                <a:gd name="textAreaBottom" fmla="*/ 40320 h 39960"/>
              </a:gdLst>
              <a:ahLst/>
              <a:rect l="textAreaLeft" t="textAreaTop" r="textAreaRight" b="textAreaBottom"/>
              <a:pathLst>
                <a:path w="27" h="25">
                  <a:moveTo>
                    <a:pt x="7" y="0"/>
                  </a:moveTo>
                  <a:cubicBezTo>
                    <a:pt x="11" y="0"/>
                    <a:pt x="23" y="8"/>
                    <a:pt x="24" y="12"/>
                  </a:cubicBezTo>
                  <a:cubicBezTo>
                    <a:pt x="27" y="17"/>
                    <a:pt x="19" y="25"/>
                    <a:pt x="15" y="25"/>
                  </a:cubicBezTo>
                  <a:cubicBezTo>
                    <a:pt x="11" y="25"/>
                    <a:pt x="2" y="19"/>
                    <a:pt x="1" y="15"/>
                  </a:cubicBezTo>
                  <a:cubicBezTo>
                    <a:pt x="0" y="11"/>
                    <a:pt x="3" y="0"/>
                    <a:pt x="7" y="0"/>
                  </a:cubicBezTo>
                  <a:close/>
                </a:path>
              </a:pathLst>
            </a:custGeom>
            <a:solidFill>
              <a:srgbClr val="ff0000">
                <a:alpha val="30000"/>
              </a:srgbClr>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2" name="Freeform 787"/>
            <p:cNvSpPr/>
            <p:nvPr/>
          </p:nvSpPr>
          <p:spPr>
            <a:xfrm>
              <a:off x="5475240" y="4846680"/>
              <a:ext cx="65160" cy="38160"/>
            </a:xfrm>
            <a:custGeom>
              <a:avLst/>
              <a:gdLst>
                <a:gd name="textAreaLeft" fmla="*/ 0 w 65160"/>
                <a:gd name="textAreaRight" fmla="*/ 65520 w 65160"/>
                <a:gd name="textAreaTop" fmla="*/ 0 h 38160"/>
                <a:gd name="textAreaBottom" fmla="*/ 38520 h 38160"/>
              </a:gdLst>
              <a:ahLst/>
              <a:rect l="textAreaLeft" t="textAreaTop" r="textAreaRight" b="textAreaBottom"/>
              <a:pathLst>
                <a:path w="41" h="24">
                  <a:moveTo>
                    <a:pt x="4" y="0"/>
                  </a:moveTo>
                  <a:cubicBezTo>
                    <a:pt x="8" y="0"/>
                    <a:pt x="33" y="9"/>
                    <a:pt x="37" y="13"/>
                  </a:cubicBezTo>
                  <a:cubicBezTo>
                    <a:pt x="41" y="18"/>
                    <a:pt x="32" y="24"/>
                    <a:pt x="28" y="24"/>
                  </a:cubicBezTo>
                  <a:cubicBezTo>
                    <a:pt x="24" y="24"/>
                    <a:pt x="16" y="16"/>
                    <a:pt x="12" y="12"/>
                  </a:cubicBezTo>
                  <a:cubicBezTo>
                    <a:pt x="8" y="8"/>
                    <a:pt x="0" y="0"/>
                    <a:pt x="4" y="0"/>
                  </a:cubicBezTo>
                  <a:close/>
                </a:path>
              </a:pathLst>
            </a:custGeom>
            <a:solidFill>
              <a:srgbClr val="ff0000">
                <a:alpha val="3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3" name="Freeform 788"/>
            <p:cNvSpPr/>
            <p:nvPr/>
          </p:nvSpPr>
          <p:spPr>
            <a:xfrm>
              <a:off x="5614920" y="4921200"/>
              <a:ext cx="55800" cy="25560"/>
            </a:xfrm>
            <a:custGeom>
              <a:avLst/>
              <a:gdLst>
                <a:gd name="textAreaLeft" fmla="*/ 0 w 55800"/>
                <a:gd name="textAreaRight" fmla="*/ 56160 w 55800"/>
                <a:gd name="textAreaTop" fmla="*/ 0 h 25560"/>
                <a:gd name="textAreaBottom" fmla="*/ 25920 h 25560"/>
              </a:gdLst>
              <a:ahLst/>
              <a:rect l="textAreaLeft" t="textAreaTop" r="textAreaRight" b="textAreaBottom"/>
              <a:pathLst>
                <a:path w="35" h="16">
                  <a:moveTo>
                    <a:pt x="6" y="1"/>
                  </a:moveTo>
                  <a:cubicBezTo>
                    <a:pt x="11" y="0"/>
                    <a:pt x="30" y="8"/>
                    <a:pt x="32" y="10"/>
                  </a:cubicBezTo>
                  <a:cubicBezTo>
                    <a:pt x="35" y="13"/>
                    <a:pt x="22" y="16"/>
                    <a:pt x="17" y="16"/>
                  </a:cubicBezTo>
                  <a:cubicBezTo>
                    <a:pt x="12" y="16"/>
                    <a:pt x="4" y="15"/>
                    <a:pt x="2" y="13"/>
                  </a:cubicBezTo>
                  <a:cubicBezTo>
                    <a:pt x="0" y="11"/>
                    <a:pt x="1" y="2"/>
                    <a:pt x="6" y="1"/>
                  </a:cubicBezTo>
                  <a:close/>
                </a:path>
              </a:pathLst>
            </a:custGeom>
            <a:solidFill>
              <a:srgbClr val="ff0000">
                <a:alpha val="3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174" name="Group 2"/>
          <p:cNvGrpSpPr/>
          <p:nvPr/>
        </p:nvGrpSpPr>
        <p:grpSpPr>
          <a:xfrm>
            <a:off x="6045120" y="5127480"/>
            <a:ext cx="1266840" cy="1447920"/>
            <a:chOff x="6045120" y="5127480"/>
            <a:chExt cx="1266840" cy="1447920"/>
          </a:xfrm>
        </p:grpSpPr>
        <p:sp>
          <p:nvSpPr>
            <p:cNvPr id="175" name="Freeform 3"/>
            <p:cNvSpPr/>
            <p:nvPr/>
          </p:nvSpPr>
          <p:spPr>
            <a:xfrm>
              <a:off x="6045120" y="5127480"/>
              <a:ext cx="1247760" cy="1370160"/>
            </a:xfrm>
            <a:custGeom>
              <a:avLst/>
              <a:gdLst>
                <a:gd name="textAreaLeft" fmla="*/ 0 w 1247760"/>
                <a:gd name="textAreaRight" fmla="*/ 1248120 w 1247760"/>
                <a:gd name="textAreaTop" fmla="*/ 0 h 1370160"/>
                <a:gd name="textAreaBottom" fmla="*/ 1370160 h 1370160"/>
              </a:gdLst>
              <a:ahLst/>
              <a:rect l="textAreaLeft" t="textAreaTop" r="textAreaRight" b="textAreaBottom"/>
              <a:pathLst>
                <a:path w="786" h="863">
                  <a:moveTo>
                    <a:pt x="0" y="336"/>
                  </a:moveTo>
                  <a:cubicBezTo>
                    <a:pt x="1" y="326"/>
                    <a:pt x="8" y="317"/>
                    <a:pt x="12" y="302"/>
                  </a:cubicBezTo>
                  <a:cubicBezTo>
                    <a:pt x="16" y="287"/>
                    <a:pt x="12" y="256"/>
                    <a:pt x="22" y="246"/>
                  </a:cubicBezTo>
                  <a:cubicBezTo>
                    <a:pt x="32" y="236"/>
                    <a:pt x="56" y="242"/>
                    <a:pt x="70" y="240"/>
                  </a:cubicBezTo>
                  <a:cubicBezTo>
                    <a:pt x="84" y="238"/>
                    <a:pt x="99" y="242"/>
                    <a:pt x="106" y="236"/>
                  </a:cubicBezTo>
                  <a:cubicBezTo>
                    <a:pt x="113" y="230"/>
                    <a:pt x="107" y="213"/>
                    <a:pt x="112" y="204"/>
                  </a:cubicBezTo>
                  <a:cubicBezTo>
                    <a:pt x="117" y="195"/>
                    <a:pt x="133" y="187"/>
                    <a:pt x="136" y="180"/>
                  </a:cubicBezTo>
                  <a:cubicBezTo>
                    <a:pt x="139" y="173"/>
                    <a:pt x="128" y="167"/>
                    <a:pt x="132" y="162"/>
                  </a:cubicBezTo>
                  <a:cubicBezTo>
                    <a:pt x="136" y="157"/>
                    <a:pt x="150" y="155"/>
                    <a:pt x="160" y="150"/>
                  </a:cubicBezTo>
                  <a:cubicBezTo>
                    <a:pt x="170" y="145"/>
                    <a:pt x="182" y="131"/>
                    <a:pt x="194" y="130"/>
                  </a:cubicBezTo>
                  <a:cubicBezTo>
                    <a:pt x="206" y="129"/>
                    <a:pt x="216" y="140"/>
                    <a:pt x="230" y="142"/>
                  </a:cubicBezTo>
                  <a:cubicBezTo>
                    <a:pt x="244" y="144"/>
                    <a:pt x="265" y="145"/>
                    <a:pt x="280" y="142"/>
                  </a:cubicBezTo>
                  <a:cubicBezTo>
                    <a:pt x="295" y="139"/>
                    <a:pt x="307" y="125"/>
                    <a:pt x="322" y="122"/>
                  </a:cubicBezTo>
                  <a:cubicBezTo>
                    <a:pt x="337" y="119"/>
                    <a:pt x="354" y="125"/>
                    <a:pt x="368" y="122"/>
                  </a:cubicBezTo>
                  <a:cubicBezTo>
                    <a:pt x="382" y="119"/>
                    <a:pt x="388" y="109"/>
                    <a:pt x="404" y="106"/>
                  </a:cubicBezTo>
                  <a:cubicBezTo>
                    <a:pt x="420" y="103"/>
                    <a:pt x="447" y="109"/>
                    <a:pt x="466" y="102"/>
                  </a:cubicBezTo>
                  <a:cubicBezTo>
                    <a:pt x="485" y="95"/>
                    <a:pt x="497" y="68"/>
                    <a:pt x="518" y="66"/>
                  </a:cubicBezTo>
                  <a:cubicBezTo>
                    <a:pt x="539" y="64"/>
                    <a:pt x="563" y="96"/>
                    <a:pt x="590" y="92"/>
                  </a:cubicBezTo>
                  <a:cubicBezTo>
                    <a:pt x="617" y="88"/>
                    <a:pt x="658" y="57"/>
                    <a:pt x="680" y="42"/>
                  </a:cubicBezTo>
                  <a:cubicBezTo>
                    <a:pt x="702" y="27"/>
                    <a:pt x="704" y="0"/>
                    <a:pt x="720" y="0"/>
                  </a:cubicBezTo>
                  <a:cubicBezTo>
                    <a:pt x="736" y="0"/>
                    <a:pt x="770" y="28"/>
                    <a:pt x="778" y="44"/>
                  </a:cubicBezTo>
                  <a:cubicBezTo>
                    <a:pt x="786" y="60"/>
                    <a:pt x="775" y="83"/>
                    <a:pt x="770" y="94"/>
                  </a:cubicBezTo>
                  <a:cubicBezTo>
                    <a:pt x="765" y="105"/>
                    <a:pt x="753" y="103"/>
                    <a:pt x="750" y="112"/>
                  </a:cubicBezTo>
                  <a:cubicBezTo>
                    <a:pt x="747" y="121"/>
                    <a:pt x="754" y="138"/>
                    <a:pt x="752" y="148"/>
                  </a:cubicBezTo>
                  <a:lnTo>
                    <a:pt x="736" y="174"/>
                  </a:lnTo>
                  <a:cubicBezTo>
                    <a:pt x="730" y="179"/>
                    <a:pt x="722" y="180"/>
                    <a:pt x="716" y="177"/>
                  </a:cubicBezTo>
                  <a:cubicBezTo>
                    <a:pt x="710" y="174"/>
                    <a:pt x="705" y="160"/>
                    <a:pt x="697" y="157"/>
                  </a:cubicBezTo>
                  <a:cubicBezTo>
                    <a:pt x="689" y="154"/>
                    <a:pt x="676" y="160"/>
                    <a:pt x="670" y="159"/>
                  </a:cubicBezTo>
                  <a:cubicBezTo>
                    <a:pt x="664" y="158"/>
                    <a:pt x="666" y="154"/>
                    <a:pt x="658" y="151"/>
                  </a:cubicBezTo>
                  <a:cubicBezTo>
                    <a:pt x="650" y="148"/>
                    <a:pt x="630" y="142"/>
                    <a:pt x="619" y="138"/>
                  </a:cubicBezTo>
                  <a:cubicBezTo>
                    <a:pt x="608" y="134"/>
                    <a:pt x="606" y="127"/>
                    <a:pt x="593" y="129"/>
                  </a:cubicBezTo>
                  <a:cubicBezTo>
                    <a:pt x="580" y="131"/>
                    <a:pt x="554" y="148"/>
                    <a:pt x="542" y="150"/>
                  </a:cubicBezTo>
                  <a:cubicBezTo>
                    <a:pt x="530" y="152"/>
                    <a:pt x="533" y="140"/>
                    <a:pt x="523" y="144"/>
                  </a:cubicBezTo>
                  <a:cubicBezTo>
                    <a:pt x="513" y="148"/>
                    <a:pt x="497" y="168"/>
                    <a:pt x="482" y="175"/>
                  </a:cubicBezTo>
                  <a:cubicBezTo>
                    <a:pt x="467" y="182"/>
                    <a:pt x="437" y="181"/>
                    <a:pt x="433" y="187"/>
                  </a:cubicBezTo>
                  <a:cubicBezTo>
                    <a:pt x="429" y="193"/>
                    <a:pt x="451" y="208"/>
                    <a:pt x="460" y="214"/>
                  </a:cubicBezTo>
                  <a:cubicBezTo>
                    <a:pt x="469" y="220"/>
                    <a:pt x="477" y="214"/>
                    <a:pt x="487" y="223"/>
                  </a:cubicBezTo>
                  <a:cubicBezTo>
                    <a:pt x="497" y="232"/>
                    <a:pt x="518" y="260"/>
                    <a:pt x="520" y="268"/>
                  </a:cubicBezTo>
                  <a:cubicBezTo>
                    <a:pt x="522" y="276"/>
                    <a:pt x="504" y="276"/>
                    <a:pt x="496" y="273"/>
                  </a:cubicBezTo>
                  <a:cubicBezTo>
                    <a:pt x="488" y="270"/>
                    <a:pt x="481" y="253"/>
                    <a:pt x="472" y="247"/>
                  </a:cubicBezTo>
                  <a:cubicBezTo>
                    <a:pt x="463" y="241"/>
                    <a:pt x="448" y="235"/>
                    <a:pt x="443" y="235"/>
                  </a:cubicBezTo>
                  <a:cubicBezTo>
                    <a:pt x="438" y="235"/>
                    <a:pt x="436" y="241"/>
                    <a:pt x="439" y="247"/>
                  </a:cubicBezTo>
                  <a:cubicBezTo>
                    <a:pt x="442" y="253"/>
                    <a:pt x="457" y="264"/>
                    <a:pt x="463" y="270"/>
                  </a:cubicBezTo>
                  <a:cubicBezTo>
                    <a:pt x="469" y="276"/>
                    <a:pt x="474" y="279"/>
                    <a:pt x="475" y="285"/>
                  </a:cubicBezTo>
                  <a:cubicBezTo>
                    <a:pt x="476" y="291"/>
                    <a:pt x="472" y="305"/>
                    <a:pt x="469" y="307"/>
                  </a:cubicBezTo>
                  <a:cubicBezTo>
                    <a:pt x="466" y="309"/>
                    <a:pt x="467" y="310"/>
                    <a:pt x="455" y="300"/>
                  </a:cubicBezTo>
                  <a:cubicBezTo>
                    <a:pt x="443" y="290"/>
                    <a:pt x="401" y="247"/>
                    <a:pt x="395" y="244"/>
                  </a:cubicBezTo>
                  <a:cubicBezTo>
                    <a:pt x="389" y="241"/>
                    <a:pt x="409" y="270"/>
                    <a:pt x="416" y="282"/>
                  </a:cubicBezTo>
                  <a:cubicBezTo>
                    <a:pt x="423" y="294"/>
                    <a:pt x="441" y="310"/>
                    <a:pt x="437" y="313"/>
                  </a:cubicBezTo>
                  <a:cubicBezTo>
                    <a:pt x="433" y="316"/>
                    <a:pt x="400" y="308"/>
                    <a:pt x="389" y="300"/>
                  </a:cubicBezTo>
                  <a:cubicBezTo>
                    <a:pt x="378" y="292"/>
                    <a:pt x="382" y="278"/>
                    <a:pt x="374" y="268"/>
                  </a:cubicBezTo>
                  <a:cubicBezTo>
                    <a:pt x="366" y="258"/>
                    <a:pt x="346" y="247"/>
                    <a:pt x="340" y="238"/>
                  </a:cubicBezTo>
                  <a:cubicBezTo>
                    <a:pt x="334" y="229"/>
                    <a:pt x="342" y="219"/>
                    <a:pt x="340" y="214"/>
                  </a:cubicBezTo>
                  <a:cubicBezTo>
                    <a:pt x="338" y="209"/>
                    <a:pt x="329" y="209"/>
                    <a:pt x="325" y="210"/>
                  </a:cubicBezTo>
                  <a:cubicBezTo>
                    <a:pt x="321" y="211"/>
                    <a:pt x="315" y="213"/>
                    <a:pt x="314" y="222"/>
                  </a:cubicBezTo>
                  <a:cubicBezTo>
                    <a:pt x="313" y="231"/>
                    <a:pt x="320" y="252"/>
                    <a:pt x="319" y="262"/>
                  </a:cubicBezTo>
                  <a:cubicBezTo>
                    <a:pt x="318" y="272"/>
                    <a:pt x="308" y="272"/>
                    <a:pt x="310" y="283"/>
                  </a:cubicBezTo>
                  <a:cubicBezTo>
                    <a:pt x="312" y="294"/>
                    <a:pt x="326" y="317"/>
                    <a:pt x="334" y="327"/>
                  </a:cubicBezTo>
                  <a:cubicBezTo>
                    <a:pt x="342" y="337"/>
                    <a:pt x="353" y="334"/>
                    <a:pt x="361" y="342"/>
                  </a:cubicBezTo>
                  <a:cubicBezTo>
                    <a:pt x="369" y="350"/>
                    <a:pt x="377" y="366"/>
                    <a:pt x="382" y="375"/>
                  </a:cubicBezTo>
                  <a:cubicBezTo>
                    <a:pt x="387" y="384"/>
                    <a:pt x="384" y="391"/>
                    <a:pt x="389" y="397"/>
                  </a:cubicBezTo>
                  <a:cubicBezTo>
                    <a:pt x="394" y="403"/>
                    <a:pt x="414" y="405"/>
                    <a:pt x="415" y="412"/>
                  </a:cubicBezTo>
                  <a:cubicBezTo>
                    <a:pt x="416" y="419"/>
                    <a:pt x="403" y="436"/>
                    <a:pt x="397" y="439"/>
                  </a:cubicBezTo>
                  <a:cubicBezTo>
                    <a:pt x="391" y="442"/>
                    <a:pt x="384" y="437"/>
                    <a:pt x="380" y="432"/>
                  </a:cubicBezTo>
                  <a:cubicBezTo>
                    <a:pt x="376" y="427"/>
                    <a:pt x="381" y="418"/>
                    <a:pt x="376" y="411"/>
                  </a:cubicBezTo>
                  <a:cubicBezTo>
                    <a:pt x="371" y="404"/>
                    <a:pt x="357" y="392"/>
                    <a:pt x="352" y="393"/>
                  </a:cubicBezTo>
                  <a:cubicBezTo>
                    <a:pt x="347" y="394"/>
                    <a:pt x="344" y="407"/>
                    <a:pt x="343" y="417"/>
                  </a:cubicBezTo>
                  <a:cubicBezTo>
                    <a:pt x="342" y="427"/>
                    <a:pt x="353" y="446"/>
                    <a:pt x="347" y="453"/>
                  </a:cubicBezTo>
                  <a:cubicBezTo>
                    <a:pt x="341" y="460"/>
                    <a:pt x="315" y="453"/>
                    <a:pt x="307" y="456"/>
                  </a:cubicBezTo>
                  <a:cubicBezTo>
                    <a:pt x="299" y="459"/>
                    <a:pt x="295" y="470"/>
                    <a:pt x="298" y="474"/>
                  </a:cubicBezTo>
                  <a:cubicBezTo>
                    <a:pt x="301" y="478"/>
                    <a:pt x="318" y="480"/>
                    <a:pt x="325" y="481"/>
                  </a:cubicBezTo>
                  <a:cubicBezTo>
                    <a:pt x="332" y="482"/>
                    <a:pt x="334" y="474"/>
                    <a:pt x="341" y="478"/>
                  </a:cubicBezTo>
                  <a:cubicBezTo>
                    <a:pt x="348" y="482"/>
                    <a:pt x="357" y="500"/>
                    <a:pt x="364" y="505"/>
                  </a:cubicBezTo>
                  <a:cubicBezTo>
                    <a:pt x="371" y="510"/>
                    <a:pt x="376" y="503"/>
                    <a:pt x="383" y="507"/>
                  </a:cubicBezTo>
                  <a:cubicBezTo>
                    <a:pt x="390" y="511"/>
                    <a:pt x="400" y="524"/>
                    <a:pt x="407" y="528"/>
                  </a:cubicBezTo>
                  <a:cubicBezTo>
                    <a:pt x="414" y="532"/>
                    <a:pt x="422" y="526"/>
                    <a:pt x="428" y="531"/>
                  </a:cubicBezTo>
                  <a:cubicBezTo>
                    <a:pt x="434" y="536"/>
                    <a:pt x="436" y="549"/>
                    <a:pt x="445" y="555"/>
                  </a:cubicBezTo>
                  <a:cubicBezTo>
                    <a:pt x="454" y="561"/>
                    <a:pt x="476" y="559"/>
                    <a:pt x="484" y="570"/>
                  </a:cubicBezTo>
                  <a:cubicBezTo>
                    <a:pt x="492" y="581"/>
                    <a:pt x="492" y="612"/>
                    <a:pt x="494" y="624"/>
                  </a:cubicBezTo>
                  <a:cubicBezTo>
                    <a:pt x="496" y="636"/>
                    <a:pt x="500" y="640"/>
                    <a:pt x="499" y="645"/>
                  </a:cubicBezTo>
                  <a:cubicBezTo>
                    <a:pt x="498" y="650"/>
                    <a:pt x="494" y="658"/>
                    <a:pt x="488" y="655"/>
                  </a:cubicBezTo>
                  <a:cubicBezTo>
                    <a:pt x="482" y="652"/>
                    <a:pt x="472" y="632"/>
                    <a:pt x="463" y="625"/>
                  </a:cubicBezTo>
                  <a:cubicBezTo>
                    <a:pt x="454" y="618"/>
                    <a:pt x="441" y="615"/>
                    <a:pt x="431" y="615"/>
                  </a:cubicBezTo>
                  <a:cubicBezTo>
                    <a:pt x="421" y="615"/>
                    <a:pt x="412" y="622"/>
                    <a:pt x="403" y="624"/>
                  </a:cubicBezTo>
                  <a:cubicBezTo>
                    <a:pt x="394" y="626"/>
                    <a:pt x="378" y="623"/>
                    <a:pt x="377" y="628"/>
                  </a:cubicBezTo>
                  <a:cubicBezTo>
                    <a:pt x="376" y="633"/>
                    <a:pt x="393" y="647"/>
                    <a:pt x="397" y="654"/>
                  </a:cubicBezTo>
                  <a:cubicBezTo>
                    <a:pt x="401" y="661"/>
                    <a:pt x="396" y="667"/>
                    <a:pt x="401" y="673"/>
                  </a:cubicBezTo>
                  <a:cubicBezTo>
                    <a:pt x="406" y="679"/>
                    <a:pt x="431" y="683"/>
                    <a:pt x="430" y="690"/>
                  </a:cubicBezTo>
                  <a:cubicBezTo>
                    <a:pt x="429" y="697"/>
                    <a:pt x="402" y="714"/>
                    <a:pt x="395" y="715"/>
                  </a:cubicBezTo>
                  <a:cubicBezTo>
                    <a:pt x="388" y="716"/>
                    <a:pt x="392" y="698"/>
                    <a:pt x="386" y="693"/>
                  </a:cubicBezTo>
                  <a:cubicBezTo>
                    <a:pt x="380" y="688"/>
                    <a:pt x="367" y="687"/>
                    <a:pt x="359" y="684"/>
                  </a:cubicBezTo>
                  <a:cubicBezTo>
                    <a:pt x="351" y="681"/>
                    <a:pt x="344" y="673"/>
                    <a:pt x="340" y="673"/>
                  </a:cubicBezTo>
                  <a:cubicBezTo>
                    <a:pt x="336" y="673"/>
                    <a:pt x="331" y="674"/>
                    <a:pt x="332" y="682"/>
                  </a:cubicBezTo>
                  <a:cubicBezTo>
                    <a:pt x="333" y="690"/>
                    <a:pt x="339" y="713"/>
                    <a:pt x="344" y="723"/>
                  </a:cubicBezTo>
                  <a:cubicBezTo>
                    <a:pt x="349" y="733"/>
                    <a:pt x="361" y="736"/>
                    <a:pt x="364" y="742"/>
                  </a:cubicBezTo>
                  <a:cubicBezTo>
                    <a:pt x="367" y="748"/>
                    <a:pt x="358" y="748"/>
                    <a:pt x="362" y="762"/>
                  </a:cubicBezTo>
                  <a:cubicBezTo>
                    <a:pt x="366" y="776"/>
                    <a:pt x="383" y="814"/>
                    <a:pt x="389" y="828"/>
                  </a:cubicBezTo>
                  <a:cubicBezTo>
                    <a:pt x="395" y="842"/>
                    <a:pt x="403" y="840"/>
                    <a:pt x="401" y="844"/>
                  </a:cubicBezTo>
                  <a:cubicBezTo>
                    <a:pt x="399" y="848"/>
                    <a:pt x="384" y="856"/>
                    <a:pt x="379" y="855"/>
                  </a:cubicBezTo>
                  <a:cubicBezTo>
                    <a:pt x="374" y="854"/>
                    <a:pt x="378" y="840"/>
                    <a:pt x="373" y="835"/>
                  </a:cubicBezTo>
                  <a:cubicBezTo>
                    <a:pt x="368" y="830"/>
                    <a:pt x="354" y="829"/>
                    <a:pt x="349" y="823"/>
                  </a:cubicBezTo>
                  <a:cubicBezTo>
                    <a:pt x="344" y="817"/>
                    <a:pt x="347" y="797"/>
                    <a:pt x="343" y="796"/>
                  </a:cubicBezTo>
                  <a:cubicBezTo>
                    <a:pt x="339" y="795"/>
                    <a:pt x="328" y="811"/>
                    <a:pt x="326" y="819"/>
                  </a:cubicBezTo>
                  <a:cubicBezTo>
                    <a:pt x="324" y="827"/>
                    <a:pt x="331" y="836"/>
                    <a:pt x="328" y="843"/>
                  </a:cubicBezTo>
                  <a:cubicBezTo>
                    <a:pt x="325" y="850"/>
                    <a:pt x="316" y="863"/>
                    <a:pt x="310" y="862"/>
                  </a:cubicBezTo>
                  <a:cubicBezTo>
                    <a:pt x="304" y="861"/>
                    <a:pt x="291" y="845"/>
                    <a:pt x="289" y="838"/>
                  </a:cubicBezTo>
                  <a:cubicBezTo>
                    <a:pt x="287" y="831"/>
                    <a:pt x="296" y="822"/>
                    <a:pt x="296" y="817"/>
                  </a:cubicBezTo>
                  <a:cubicBezTo>
                    <a:pt x="296" y="812"/>
                    <a:pt x="289" y="814"/>
                    <a:pt x="287" y="810"/>
                  </a:cubicBezTo>
                  <a:cubicBezTo>
                    <a:pt x="285" y="806"/>
                    <a:pt x="289" y="797"/>
                    <a:pt x="286" y="793"/>
                  </a:cubicBezTo>
                  <a:cubicBezTo>
                    <a:pt x="283" y="789"/>
                    <a:pt x="274" y="788"/>
                    <a:pt x="268" y="784"/>
                  </a:cubicBezTo>
                  <a:cubicBezTo>
                    <a:pt x="262" y="780"/>
                    <a:pt x="254" y="766"/>
                    <a:pt x="250" y="768"/>
                  </a:cubicBezTo>
                  <a:cubicBezTo>
                    <a:pt x="246" y="770"/>
                    <a:pt x="241" y="788"/>
                    <a:pt x="242" y="796"/>
                  </a:cubicBezTo>
                  <a:cubicBezTo>
                    <a:pt x="243" y="804"/>
                    <a:pt x="256" y="817"/>
                    <a:pt x="254" y="819"/>
                  </a:cubicBezTo>
                  <a:cubicBezTo>
                    <a:pt x="252" y="821"/>
                    <a:pt x="239" y="819"/>
                    <a:pt x="232" y="812"/>
                  </a:cubicBezTo>
                  <a:cubicBezTo>
                    <a:pt x="225" y="805"/>
                    <a:pt x="218" y="785"/>
                    <a:pt x="212" y="776"/>
                  </a:cubicBezTo>
                  <a:cubicBezTo>
                    <a:pt x="206" y="767"/>
                    <a:pt x="194" y="769"/>
                    <a:pt x="193" y="760"/>
                  </a:cubicBezTo>
                  <a:cubicBezTo>
                    <a:pt x="192" y="751"/>
                    <a:pt x="203" y="731"/>
                    <a:pt x="204" y="722"/>
                  </a:cubicBezTo>
                  <a:lnTo>
                    <a:pt x="200" y="708"/>
                  </a:lnTo>
                  <a:cubicBezTo>
                    <a:pt x="194" y="700"/>
                    <a:pt x="179" y="682"/>
                    <a:pt x="170" y="674"/>
                  </a:cubicBezTo>
                  <a:lnTo>
                    <a:pt x="144" y="658"/>
                  </a:lnTo>
                  <a:cubicBezTo>
                    <a:pt x="139" y="651"/>
                    <a:pt x="133" y="644"/>
                    <a:pt x="137" y="634"/>
                  </a:cubicBezTo>
                  <a:cubicBezTo>
                    <a:pt x="141" y="624"/>
                    <a:pt x="164" y="608"/>
                    <a:pt x="169" y="598"/>
                  </a:cubicBezTo>
                  <a:lnTo>
                    <a:pt x="168" y="576"/>
                  </a:lnTo>
                  <a:cubicBezTo>
                    <a:pt x="184" y="572"/>
                    <a:pt x="242" y="569"/>
                    <a:pt x="266" y="573"/>
                  </a:cubicBezTo>
                  <a:cubicBezTo>
                    <a:pt x="290" y="577"/>
                    <a:pt x="300" y="596"/>
                    <a:pt x="311" y="600"/>
                  </a:cubicBezTo>
                  <a:lnTo>
                    <a:pt x="331" y="595"/>
                  </a:lnTo>
                  <a:cubicBezTo>
                    <a:pt x="341" y="598"/>
                    <a:pt x="360" y="620"/>
                    <a:pt x="370" y="619"/>
                  </a:cubicBezTo>
                  <a:cubicBezTo>
                    <a:pt x="380" y="618"/>
                    <a:pt x="391" y="598"/>
                    <a:pt x="391" y="592"/>
                  </a:cubicBezTo>
                  <a:lnTo>
                    <a:pt x="367" y="580"/>
                  </a:lnTo>
                  <a:lnTo>
                    <a:pt x="350" y="579"/>
                  </a:lnTo>
                  <a:lnTo>
                    <a:pt x="344" y="564"/>
                  </a:lnTo>
                  <a:cubicBezTo>
                    <a:pt x="338" y="560"/>
                    <a:pt x="322" y="554"/>
                    <a:pt x="314" y="552"/>
                  </a:cubicBezTo>
                  <a:lnTo>
                    <a:pt x="295" y="553"/>
                  </a:lnTo>
                  <a:cubicBezTo>
                    <a:pt x="286" y="552"/>
                    <a:pt x="272" y="544"/>
                    <a:pt x="262" y="543"/>
                  </a:cubicBezTo>
                  <a:cubicBezTo>
                    <a:pt x="252" y="542"/>
                    <a:pt x="242" y="551"/>
                    <a:pt x="235" y="550"/>
                  </a:cubicBezTo>
                  <a:cubicBezTo>
                    <a:pt x="228" y="549"/>
                    <a:pt x="223" y="538"/>
                    <a:pt x="217" y="537"/>
                  </a:cubicBezTo>
                  <a:cubicBezTo>
                    <a:pt x="211" y="536"/>
                    <a:pt x="204" y="546"/>
                    <a:pt x="199" y="546"/>
                  </a:cubicBezTo>
                  <a:lnTo>
                    <a:pt x="188" y="538"/>
                  </a:lnTo>
                  <a:cubicBezTo>
                    <a:pt x="184" y="540"/>
                    <a:pt x="185" y="553"/>
                    <a:pt x="176" y="555"/>
                  </a:cubicBezTo>
                  <a:cubicBezTo>
                    <a:pt x="167" y="557"/>
                    <a:pt x="144" y="557"/>
                    <a:pt x="136" y="552"/>
                  </a:cubicBezTo>
                  <a:cubicBezTo>
                    <a:pt x="128" y="547"/>
                    <a:pt x="131" y="528"/>
                    <a:pt x="128" y="522"/>
                  </a:cubicBezTo>
                  <a:lnTo>
                    <a:pt x="116" y="514"/>
                  </a:lnTo>
                  <a:lnTo>
                    <a:pt x="110" y="500"/>
                  </a:lnTo>
                  <a:cubicBezTo>
                    <a:pt x="105" y="496"/>
                    <a:pt x="88" y="494"/>
                    <a:pt x="88" y="488"/>
                  </a:cubicBezTo>
                  <a:cubicBezTo>
                    <a:pt x="88" y="482"/>
                    <a:pt x="101" y="466"/>
                    <a:pt x="110" y="463"/>
                  </a:cubicBezTo>
                  <a:cubicBezTo>
                    <a:pt x="119" y="460"/>
                    <a:pt x="141" y="473"/>
                    <a:pt x="142" y="471"/>
                  </a:cubicBezTo>
                  <a:cubicBezTo>
                    <a:pt x="143" y="469"/>
                    <a:pt x="128" y="451"/>
                    <a:pt x="119" y="448"/>
                  </a:cubicBezTo>
                  <a:cubicBezTo>
                    <a:pt x="110" y="445"/>
                    <a:pt x="94" y="455"/>
                    <a:pt x="85" y="453"/>
                  </a:cubicBezTo>
                  <a:lnTo>
                    <a:pt x="66" y="438"/>
                  </a:lnTo>
                  <a:cubicBezTo>
                    <a:pt x="58" y="430"/>
                    <a:pt x="44" y="411"/>
                    <a:pt x="38" y="402"/>
                  </a:cubicBezTo>
                  <a:lnTo>
                    <a:pt x="30" y="380"/>
                  </a:lnTo>
                  <a:lnTo>
                    <a:pt x="8" y="364"/>
                  </a:lnTo>
                  <a:lnTo>
                    <a:pt x="0" y="336"/>
                  </a:ln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4"/>
            <p:cNvSpPr/>
            <p:nvPr/>
          </p:nvSpPr>
          <p:spPr>
            <a:xfrm>
              <a:off x="6605640" y="5835600"/>
              <a:ext cx="285840" cy="227160"/>
            </a:xfrm>
            <a:custGeom>
              <a:avLst/>
              <a:gdLst>
                <a:gd name="textAreaLeft" fmla="*/ 0 w 285840"/>
                <a:gd name="textAreaRight" fmla="*/ 286200 w 285840"/>
                <a:gd name="textAreaTop" fmla="*/ 0 h 227160"/>
                <a:gd name="textAreaBottom" fmla="*/ 227160 h 227160"/>
              </a:gdLst>
              <a:ahLst/>
              <a:rect l="textAreaLeft" t="textAreaTop" r="textAreaRight" b="textAreaBottom"/>
              <a:pathLst>
                <a:path w="180" h="143">
                  <a:moveTo>
                    <a:pt x="6" y="31"/>
                  </a:moveTo>
                  <a:cubicBezTo>
                    <a:pt x="0" y="29"/>
                    <a:pt x="1" y="23"/>
                    <a:pt x="6" y="19"/>
                  </a:cubicBezTo>
                  <a:cubicBezTo>
                    <a:pt x="11" y="15"/>
                    <a:pt x="31" y="11"/>
                    <a:pt x="38" y="8"/>
                  </a:cubicBezTo>
                  <a:cubicBezTo>
                    <a:pt x="45" y="5"/>
                    <a:pt x="43" y="0"/>
                    <a:pt x="50" y="1"/>
                  </a:cubicBezTo>
                  <a:cubicBezTo>
                    <a:pt x="57" y="2"/>
                    <a:pt x="73" y="11"/>
                    <a:pt x="81" y="14"/>
                  </a:cubicBezTo>
                  <a:cubicBezTo>
                    <a:pt x="89" y="17"/>
                    <a:pt x="92" y="12"/>
                    <a:pt x="98" y="17"/>
                  </a:cubicBezTo>
                  <a:cubicBezTo>
                    <a:pt x="104" y="22"/>
                    <a:pt x="113" y="37"/>
                    <a:pt x="119" y="41"/>
                  </a:cubicBezTo>
                  <a:cubicBezTo>
                    <a:pt x="125" y="45"/>
                    <a:pt x="131" y="36"/>
                    <a:pt x="137" y="43"/>
                  </a:cubicBezTo>
                  <a:cubicBezTo>
                    <a:pt x="143" y="50"/>
                    <a:pt x="148" y="77"/>
                    <a:pt x="153" y="86"/>
                  </a:cubicBezTo>
                  <a:cubicBezTo>
                    <a:pt x="158" y="95"/>
                    <a:pt x="166" y="91"/>
                    <a:pt x="170" y="98"/>
                  </a:cubicBezTo>
                  <a:cubicBezTo>
                    <a:pt x="174" y="105"/>
                    <a:pt x="180" y="123"/>
                    <a:pt x="179" y="130"/>
                  </a:cubicBezTo>
                  <a:cubicBezTo>
                    <a:pt x="178" y="137"/>
                    <a:pt x="168" y="143"/>
                    <a:pt x="164" y="142"/>
                  </a:cubicBezTo>
                  <a:cubicBezTo>
                    <a:pt x="160" y="141"/>
                    <a:pt x="158" y="126"/>
                    <a:pt x="155" y="122"/>
                  </a:cubicBezTo>
                  <a:cubicBezTo>
                    <a:pt x="152" y="118"/>
                    <a:pt x="146" y="121"/>
                    <a:pt x="143" y="118"/>
                  </a:cubicBezTo>
                  <a:cubicBezTo>
                    <a:pt x="140" y="115"/>
                    <a:pt x="138" y="104"/>
                    <a:pt x="134" y="101"/>
                  </a:cubicBezTo>
                  <a:cubicBezTo>
                    <a:pt x="130" y="98"/>
                    <a:pt x="127" y="104"/>
                    <a:pt x="119" y="101"/>
                  </a:cubicBezTo>
                  <a:cubicBezTo>
                    <a:pt x="111" y="98"/>
                    <a:pt x="94" y="91"/>
                    <a:pt x="87" y="83"/>
                  </a:cubicBezTo>
                  <a:cubicBezTo>
                    <a:pt x="80" y="75"/>
                    <a:pt x="79" y="56"/>
                    <a:pt x="74" y="50"/>
                  </a:cubicBezTo>
                  <a:cubicBezTo>
                    <a:pt x="69" y="44"/>
                    <a:pt x="61" y="52"/>
                    <a:pt x="56" y="49"/>
                  </a:cubicBezTo>
                  <a:cubicBezTo>
                    <a:pt x="51" y="46"/>
                    <a:pt x="50" y="37"/>
                    <a:pt x="42" y="34"/>
                  </a:cubicBezTo>
                  <a:cubicBezTo>
                    <a:pt x="34" y="31"/>
                    <a:pt x="11" y="33"/>
                    <a:pt x="6" y="31"/>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5"/>
            <p:cNvSpPr/>
            <p:nvPr/>
          </p:nvSpPr>
          <p:spPr>
            <a:xfrm>
              <a:off x="6943680" y="6051600"/>
              <a:ext cx="100080" cy="106200"/>
            </a:xfrm>
            <a:custGeom>
              <a:avLst/>
              <a:gdLst>
                <a:gd name="textAreaLeft" fmla="*/ 0 w 100080"/>
                <a:gd name="textAreaRight" fmla="*/ 100440 w 100080"/>
                <a:gd name="textAreaTop" fmla="*/ 0 h 106200"/>
                <a:gd name="textAreaBottom" fmla="*/ 106560 h 106200"/>
              </a:gdLst>
              <a:ahLst/>
              <a:rect l="textAreaLeft" t="textAreaTop" r="textAreaRight" b="textAreaBottom"/>
              <a:pathLst>
                <a:path w="63" h="67">
                  <a:moveTo>
                    <a:pt x="39" y="13"/>
                  </a:moveTo>
                  <a:cubicBezTo>
                    <a:pt x="46" y="21"/>
                    <a:pt x="57" y="40"/>
                    <a:pt x="60" y="49"/>
                  </a:cubicBezTo>
                  <a:cubicBezTo>
                    <a:pt x="63" y="58"/>
                    <a:pt x="60" y="67"/>
                    <a:pt x="56" y="66"/>
                  </a:cubicBezTo>
                  <a:cubicBezTo>
                    <a:pt x="52" y="65"/>
                    <a:pt x="44" y="49"/>
                    <a:pt x="35" y="45"/>
                  </a:cubicBezTo>
                  <a:cubicBezTo>
                    <a:pt x="26" y="41"/>
                    <a:pt x="6" y="43"/>
                    <a:pt x="3" y="39"/>
                  </a:cubicBezTo>
                  <a:cubicBezTo>
                    <a:pt x="0" y="35"/>
                    <a:pt x="13" y="25"/>
                    <a:pt x="15" y="19"/>
                  </a:cubicBezTo>
                  <a:cubicBezTo>
                    <a:pt x="17" y="13"/>
                    <a:pt x="11" y="2"/>
                    <a:pt x="15" y="1"/>
                  </a:cubicBezTo>
                  <a:cubicBezTo>
                    <a:pt x="19" y="0"/>
                    <a:pt x="32" y="5"/>
                    <a:pt x="39" y="13"/>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
            <p:cNvSpPr/>
            <p:nvPr/>
          </p:nvSpPr>
          <p:spPr>
            <a:xfrm>
              <a:off x="7047000" y="6148440"/>
              <a:ext cx="47520" cy="34920"/>
            </a:xfrm>
            <a:custGeom>
              <a:avLst/>
              <a:gdLst>
                <a:gd name="textAreaLeft" fmla="*/ 0 w 47520"/>
                <a:gd name="textAreaRight" fmla="*/ 47880 w 47520"/>
                <a:gd name="textAreaTop" fmla="*/ 0 h 34920"/>
                <a:gd name="textAreaBottom" fmla="*/ 34920 h 34920"/>
              </a:gdLst>
              <a:ahLst/>
              <a:rect l="textAreaLeft" t="textAreaTop" r="textAreaRight" b="textAreaBottom"/>
              <a:pathLst>
                <a:path w="30" h="22">
                  <a:moveTo>
                    <a:pt x="14" y="0"/>
                  </a:moveTo>
                  <a:cubicBezTo>
                    <a:pt x="19" y="0"/>
                    <a:pt x="28" y="8"/>
                    <a:pt x="29" y="12"/>
                  </a:cubicBezTo>
                  <a:cubicBezTo>
                    <a:pt x="30" y="16"/>
                    <a:pt x="24" y="22"/>
                    <a:pt x="19" y="22"/>
                  </a:cubicBezTo>
                  <a:cubicBezTo>
                    <a:pt x="14" y="22"/>
                    <a:pt x="2" y="16"/>
                    <a:pt x="1" y="12"/>
                  </a:cubicBezTo>
                  <a:cubicBezTo>
                    <a:pt x="0" y="8"/>
                    <a:pt x="11" y="2"/>
                    <a:pt x="14" y="0"/>
                  </a:cubicBezTo>
                  <a:close/>
                </a:path>
              </a:pathLst>
            </a:custGeom>
            <a:solidFill>
              <a:srgbClr val="ff0000">
                <a:alpha val="3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9" name="Freeform 7"/>
            <p:cNvSpPr/>
            <p:nvPr/>
          </p:nvSpPr>
          <p:spPr>
            <a:xfrm>
              <a:off x="6892920" y="6205680"/>
              <a:ext cx="30240" cy="37800"/>
            </a:xfrm>
            <a:custGeom>
              <a:avLst/>
              <a:gdLst>
                <a:gd name="textAreaLeft" fmla="*/ 0 w 30240"/>
                <a:gd name="textAreaRight" fmla="*/ 30600 w 30240"/>
                <a:gd name="textAreaTop" fmla="*/ 0 h 37800"/>
                <a:gd name="textAreaBottom" fmla="*/ 38160 h 37800"/>
              </a:gdLst>
              <a:ahLst/>
              <a:rect l="textAreaLeft" t="textAreaTop" r="textAreaRight" b="textAreaBottom"/>
              <a:pathLst>
                <a:path w="19" h="24">
                  <a:moveTo>
                    <a:pt x="3" y="0"/>
                  </a:moveTo>
                  <a:cubicBezTo>
                    <a:pt x="8" y="0"/>
                    <a:pt x="17" y="8"/>
                    <a:pt x="18" y="12"/>
                  </a:cubicBezTo>
                  <a:cubicBezTo>
                    <a:pt x="19" y="16"/>
                    <a:pt x="13" y="24"/>
                    <a:pt x="10" y="24"/>
                  </a:cubicBezTo>
                  <a:cubicBezTo>
                    <a:pt x="7" y="24"/>
                    <a:pt x="2" y="15"/>
                    <a:pt x="1" y="11"/>
                  </a:cubicBezTo>
                  <a:cubicBezTo>
                    <a:pt x="0" y="7"/>
                    <a:pt x="3" y="2"/>
                    <a:pt x="3" y="0"/>
                  </a:cubicBezTo>
                  <a:close/>
                </a:path>
              </a:pathLst>
            </a:custGeom>
            <a:solidFill>
              <a:srgbClr val="ff0000">
                <a:alpha val="3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0" name="Freeform 8"/>
            <p:cNvSpPr/>
            <p:nvPr/>
          </p:nvSpPr>
          <p:spPr>
            <a:xfrm>
              <a:off x="6929280" y="6227640"/>
              <a:ext cx="28800" cy="46080"/>
            </a:xfrm>
            <a:custGeom>
              <a:avLst/>
              <a:gdLst>
                <a:gd name="textAreaLeft" fmla="*/ 0 w 28800"/>
                <a:gd name="textAreaRight" fmla="*/ 29160 w 28800"/>
                <a:gd name="textAreaTop" fmla="*/ 0 h 46080"/>
                <a:gd name="textAreaBottom" fmla="*/ 46440 h 46080"/>
              </a:gdLst>
              <a:ahLst/>
              <a:rect l="textAreaLeft" t="textAreaTop" r="textAreaRight" b="textAreaBottom"/>
              <a:pathLst>
                <a:path w="18" h="29">
                  <a:moveTo>
                    <a:pt x="6" y="1"/>
                  </a:moveTo>
                  <a:cubicBezTo>
                    <a:pt x="9" y="0"/>
                    <a:pt x="18" y="6"/>
                    <a:pt x="18" y="10"/>
                  </a:cubicBezTo>
                  <a:cubicBezTo>
                    <a:pt x="18" y="14"/>
                    <a:pt x="12" y="27"/>
                    <a:pt x="9" y="28"/>
                  </a:cubicBezTo>
                  <a:cubicBezTo>
                    <a:pt x="6" y="29"/>
                    <a:pt x="0" y="22"/>
                    <a:pt x="0" y="18"/>
                  </a:cubicBezTo>
                  <a:cubicBezTo>
                    <a:pt x="0" y="14"/>
                    <a:pt x="3" y="1"/>
                    <a:pt x="6" y="1"/>
                  </a:cubicBezTo>
                  <a:close/>
                </a:path>
              </a:pathLst>
            </a:custGeom>
            <a:solidFill>
              <a:srgbClr val="ff0000">
                <a:alpha val="30000"/>
              </a:srgbClr>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1" name="Freeform 9"/>
            <p:cNvSpPr/>
            <p:nvPr/>
          </p:nvSpPr>
          <p:spPr>
            <a:xfrm>
              <a:off x="6889680" y="6378480"/>
              <a:ext cx="57240" cy="55800"/>
            </a:xfrm>
            <a:custGeom>
              <a:avLst/>
              <a:gdLst>
                <a:gd name="textAreaLeft" fmla="*/ 0 w 57240"/>
                <a:gd name="textAreaRight" fmla="*/ 57600 w 57240"/>
                <a:gd name="textAreaTop" fmla="*/ 0 h 55800"/>
                <a:gd name="textAreaBottom" fmla="*/ 56160 h 55800"/>
              </a:gdLst>
              <a:ahLst/>
              <a:rect l="textAreaLeft" t="textAreaTop" r="textAreaRight" b="textAreaBottom"/>
              <a:pathLst>
                <a:path w="36" h="35">
                  <a:moveTo>
                    <a:pt x="12" y="2"/>
                  </a:moveTo>
                  <a:cubicBezTo>
                    <a:pt x="17" y="0"/>
                    <a:pt x="30" y="2"/>
                    <a:pt x="33" y="5"/>
                  </a:cubicBezTo>
                  <a:cubicBezTo>
                    <a:pt x="36" y="8"/>
                    <a:pt x="32" y="17"/>
                    <a:pt x="28" y="22"/>
                  </a:cubicBezTo>
                  <a:cubicBezTo>
                    <a:pt x="24" y="27"/>
                    <a:pt x="13" y="35"/>
                    <a:pt x="9" y="34"/>
                  </a:cubicBezTo>
                  <a:cubicBezTo>
                    <a:pt x="5" y="33"/>
                    <a:pt x="0" y="22"/>
                    <a:pt x="1" y="17"/>
                  </a:cubicBezTo>
                  <a:cubicBezTo>
                    <a:pt x="2" y="12"/>
                    <a:pt x="7" y="2"/>
                    <a:pt x="12" y="2"/>
                  </a:cubicBezTo>
                  <a:close/>
                </a:path>
              </a:pathLst>
            </a:custGeom>
            <a:solidFill>
              <a:srgbClr val="ff0000">
                <a:alpha val="3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2" name="Freeform 10"/>
            <p:cNvSpPr/>
            <p:nvPr/>
          </p:nvSpPr>
          <p:spPr>
            <a:xfrm>
              <a:off x="6924600" y="6327720"/>
              <a:ext cx="34920" cy="41400"/>
            </a:xfrm>
            <a:custGeom>
              <a:avLst/>
              <a:gdLst>
                <a:gd name="textAreaLeft" fmla="*/ 0 w 34920"/>
                <a:gd name="textAreaRight" fmla="*/ 34920 w 34920"/>
                <a:gd name="textAreaTop" fmla="*/ 0 h 41400"/>
                <a:gd name="textAreaBottom" fmla="*/ 41760 h 41400"/>
              </a:gdLst>
              <a:ahLst/>
              <a:rect l="textAreaLeft" t="textAreaTop" r="textAreaRight" b="textAreaBottom"/>
              <a:pathLst>
                <a:path w="22" h="26">
                  <a:moveTo>
                    <a:pt x="9" y="0"/>
                  </a:moveTo>
                  <a:cubicBezTo>
                    <a:pt x="12" y="0"/>
                    <a:pt x="16" y="9"/>
                    <a:pt x="18" y="12"/>
                  </a:cubicBezTo>
                  <a:cubicBezTo>
                    <a:pt x="20" y="15"/>
                    <a:pt x="22" y="18"/>
                    <a:pt x="19" y="20"/>
                  </a:cubicBezTo>
                  <a:cubicBezTo>
                    <a:pt x="16" y="22"/>
                    <a:pt x="6" y="26"/>
                    <a:pt x="3" y="24"/>
                  </a:cubicBezTo>
                  <a:cubicBezTo>
                    <a:pt x="0" y="22"/>
                    <a:pt x="0" y="14"/>
                    <a:pt x="1" y="10"/>
                  </a:cubicBezTo>
                  <a:cubicBezTo>
                    <a:pt x="2" y="6"/>
                    <a:pt x="6" y="0"/>
                    <a:pt x="9" y="0"/>
                  </a:cubicBezTo>
                  <a:close/>
                </a:path>
              </a:pathLst>
            </a:custGeom>
            <a:solidFill>
              <a:srgbClr val="ff0000">
                <a:alpha val="3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83" name="Freeform 11"/>
            <p:cNvSpPr/>
            <p:nvPr/>
          </p:nvSpPr>
          <p:spPr>
            <a:xfrm>
              <a:off x="7008840" y="6405480"/>
              <a:ext cx="41400" cy="27000"/>
            </a:xfrm>
            <a:custGeom>
              <a:avLst/>
              <a:gdLst>
                <a:gd name="textAreaLeft" fmla="*/ 0 w 41400"/>
                <a:gd name="textAreaRight" fmla="*/ 41760 w 41400"/>
                <a:gd name="textAreaTop" fmla="*/ 0 h 27000"/>
                <a:gd name="textAreaBottom" fmla="*/ 27360 h 27000"/>
              </a:gdLst>
              <a:ahLst/>
              <a:rect l="textAreaLeft" t="textAreaTop" r="textAreaRight" b="textAreaBottom"/>
              <a:pathLst>
                <a:path w="26" h="17">
                  <a:moveTo>
                    <a:pt x="10" y="0"/>
                  </a:moveTo>
                  <a:cubicBezTo>
                    <a:pt x="15" y="0"/>
                    <a:pt x="24" y="4"/>
                    <a:pt x="25" y="7"/>
                  </a:cubicBezTo>
                  <a:cubicBezTo>
                    <a:pt x="26" y="11"/>
                    <a:pt x="19" y="17"/>
                    <a:pt x="15" y="17"/>
                  </a:cubicBezTo>
                  <a:cubicBezTo>
                    <a:pt x="11" y="17"/>
                    <a:pt x="2" y="9"/>
                    <a:pt x="1" y="6"/>
                  </a:cubicBezTo>
                  <a:cubicBezTo>
                    <a:pt x="0" y="3"/>
                    <a:pt x="8" y="1"/>
                    <a:pt x="10" y="0"/>
                  </a:cubicBezTo>
                  <a:close/>
                </a:path>
              </a:pathLst>
            </a:custGeom>
            <a:solidFill>
              <a:srgbClr val="ff0000">
                <a:alpha val="30000"/>
              </a:srgbClr>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4" name="Freeform 12"/>
            <p:cNvSpPr/>
            <p:nvPr/>
          </p:nvSpPr>
          <p:spPr>
            <a:xfrm>
              <a:off x="6605640" y="6497640"/>
              <a:ext cx="60120" cy="65160"/>
            </a:xfrm>
            <a:custGeom>
              <a:avLst/>
              <a:gdLst>
                <a:gd name="textAreaLeft" fmla="*/ 0 w 60120"/>
                <a:gd name="textAreaRight" fmla="*/ 60480 w 60120"/>
                <a:gd name="textAreaTop" fmla="*/ 0 h 65160"/>
                <a:gd name="textAreaBottom" fmla="*/ 65520 h 65160"/>
              </a:gdLst>
              <a:ahLst/>
              <a:rect l="textAreaLeft" t="textAreaTop" r="textAreaRight" b="textAreaBottom"/>
              <a:pathLst>
                <a:path w="38" h="41">
                  <a:moveTo>
                    <a:pt x="20" y="4"/>
                  </a:moveTo>
                  <a:cubicBezTo>
                    <a:pt x="26" y="4"/>
                    <a:pt x="34" y="0"/>
                    <a:pt x="36" y="2"/>
                  </a:cubicBezTo>
                  <a:cubicBezTo>
                    <a:pt x="38" y="4"/>
                    <a:pt x="33" y="13"/>
                    <a:pt x="33" y="19"/>
                  </a:cubicBezTo>
                  <a:cubicBezTo>
                    <a:pt x="33" y="25"/>
                    <a:pt x="36" y="34"/>
                    <a:pt x="33" y="37"/>
                  </a:cubicBezTo>
                  <a:cubicBezTo>
                    <a:pt x="30" y="40"/>
                    <a:pt x="18" y="41"/>
                    <a:pt x="14" y="38"/>
                  </a:cubicBezTo>
                  <a:cubicBezTo>
                    <a:pt x="10" y="35"/>
                    <a:pt x="11" y="26"/>
                    <a:pt x="9" y="20"/>
                  </a:cubicBezTo>
                  <a:cubicBezTo>
                    <a:pt x="7" y="14"/>
                    <a:pt x="0" y="7"/>
                    <a:pt x="2" y="4"/>
                  </a:cubicBezTo>
                  <a:cubicBezTo>
                    <a:pt x="4" y="1"/>
                    <a:pt x="14" y="4"/>
                    <a:pt x="20" y="4"/>
                  </a:cubicBezTo>
                  <a:close/>
                </a:path>
              </a:pathLst>
            </a:custGeom>
            <a:solidFill>
              <a:srgbClr val="ff0000">
                <a:alpha val="3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5" name="Freeform 13"/>
            <p:cNvSpPr/>
            <p:nvPr/>
          </p:nvSpPr>
          <p:spPr>
            <a:xfrm>
              <a:off x="7113600" y="6262560"/>
              <a:ext cx="54000" cy="55800"/>
            </a:xfrm>
            <a:custGeom>
              <a:avLst/>
              <a:gdLst>
                <a:gd name="textAreaLeft" fmla="*/ 0 w 54000"/>
                <a:gd name="textAreaRight" fmla="*/ 54360 w 54000"/>
                <a:gd name="textAreaTop" fmla="*/ 0 h 55800"/>
                <a:gd name="textAreaBottom" fmla="*/ 56160 h 55800"/>
              </a:gdLst>
              <a:ahLst/>
              <a:rect l="textAreaLeft" t="textAreaTop" r="textAreaRight" b="textAreaBottom"/>
              <a:pathLst>
                <a:path w="34" h="35">
                  <a:moveTo>
                    <a:pt x="15" y="2"/>
                  </a:moveTo>
                  <a:cubicBezTo>
                    <a:pt x="20" y="0"/>
                    <a:pt x="32" y="13"/>
                    <a:pt x="33" y="17"/>
                  </a:cubicBezTo>
                  <a:cubicBezTo>
                    <a:pt x="34" y="21"/>
                    <a:pt x="23" y="24"/>
                    <a:pt x="19" y="27"/>
                  </a:cubicBezTo>
                  <a:cubicBezTo>
                    <a:pt x="15" y="30"/>
                    <a:pt x="12" y="35"/>
                    <a:pt x="9" y="35"/>
                  </a:cubicBezTo>
                  <a:cubicBezTo>
                    <a:pt x="6" y="35"/>
                    <a:pt x="0" y="32"/>
                    <a:pt x="1" y="27"/>
                  </a:cubicBezTo>
                  <a:cubicBezTo>
                    <a:pt x="2" y="22"/>
                    <a:pt x="10" y="4"/>
                    <a:pt x="15" y="2"/>
                  </a:cubicBezTo>
                  <a:close/>
                </a:path>
              </a:pathLst>
            </a:custGeom>
            <a:solidFill>
              <a:srgbClr val="ff0000">
                <a:alpha val="3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6" name="Freeform 14"/>
            <p:cNvSpPr/>
            <p:nvPr/>
          </p:nvSpPr>
          <p:spPr>
            <a:xfrm>
              <a:off x="7264440" y="6410160"/>
              <a:ext cx="36360" cy="38160"/>
            </a:xfrm>
            <a:custGeom>
              <a:avLst/>
              <a:gdLst>
                <a:gd name="textAreaLeft" fmla="*/ 0 w 36360"/>
                <a:gd name="textAreaRight" fmla="*/ 36720 w 36360"/>
                <a:gd name="textAreaTop" fmla="*/ 0 h 38160"/>
                <a:gd name="textAreaBottom" fmla="*/ 38520 h 38160"/>
              </a:gdLst>
              <a:ahLst/>
              <a:rect l="textAreaLeft" t="textAreaTop" r="textAreaRight" b="textAreaBottom"/>
              <a:pathLst>
                <a:path w="23" h="24">
                  <a:moveTo>
                    <a:pt x="11" y="0"/>
                  </a:moveTo>
                  <a:cubicBezTo>
                    <a:pt x="14" y="0"/>
                    <a:pt x="21" y="13"/>
                    <a:pt x="22" y="17"/>
                  </a:cubicBezTo>
                  <a:cubicBezTo>
                    <a:pt x="23" y="21"/>
                    <a:pt x="20" y="24"/>
                    <a:pt x="17" y="24"/>
                  </a:cubicBezTo>
                  <a:cubicBezTo>
                    <a:pt x="14" y="24"/>
                    <a:pt x="2" y="19"/>
                    <a:pt x="1" y="15"/>
                  </a:cubicBezTo>
                  <a:cubicBezTo>
                    <a:pt x="0" y="11"/>
                    <a:pt x="9" y="3"/>
                    <a:pt x="11" y="0"/>
                  </a:cubicBezTo>
                  <a:close/>
                </a:path>
              </a:pathLst>
            </a:custGeom>
            <a:solidFill>
              <a:srgbClr val="ff0000">
                <a:alpha val="3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7" name="Freeform 15"/>
            <p:cNvSpPr/>
            <p:nvPr/>
          </p:nvSpPr>
          <p:spPr>
            <a:xfrm>
              <a:off x="7203960" y="6323040"/>
              <a:ext cx="41400" cy="52200"/>
            </a:xfrm>
            <a:custGeom>
              <a:avLst/>
              <a:gdLst>
                <a:gd name="textAreaLeft" fmla="*/ 0 w 41400"/>
                <a:gd name="textAreaRight" fmla="*/ 41760 w 41400"/>
                <a:gd name="textAreaTop" fmla="*/ 0 h 52200"/>
                <a:gd name="textAreaBottom" fmla="*/ 52560 h 52200"/>
              </a:gdLst>
              <a:ahLst/>
              <a:rect l="textAreaLeft" t="textAreaTop" r="textAreaRight" b="textAreaBottom"/>
              <a:pathLst>
                <a:path w="26" h="33">
                  <a:moveTo>
                    <a:pt x="16" y="1"/>
                  </a:moveTo>
                  <a:cubicBezTo>
                    <a:pt x="18" y="1"/>
                    <a:pt x="26" y="5"/>
                    <a:pt x="24" y="10"/>
                  </a:cubicBezTo>
                  <a:cubicBezTo>
                    <a:pt x="24" y="15"/>
                    <a:pt x="10" y="29"/>
                    <a:pt x="6" y="31"/>
                  </a:cubicBezTo>
                  <a:cubicBezTo>
                    <a:pt x="2" y="33"/>
                    <a:pt x="0" y="24"/>
                    <a:pt x="1" y="19"/>
                  </a:cubicBezTo>
                  <a:cubicBezTo>
                    <a:pt x="2" y="14"/>
                    <a:pt x="6" y="6"/>
                    <a:pt x="9" y="3"/>
                  </a:cubicBezTo>
                  <a:cubicBezTo>
                    <a:pt x="12" y="0"/>
                    <a:pt x="15" y="1"/>
                    <a:pt x="16" y="1"/>
                  </a:cubicBezTo>
                  <a:close/>
                </a:path>
              </a:pathLst>
            </a:custGeom>
            <a:solidFill>
              <a:srgbClr val="ff0000">
                <a:alpha val="3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88" name="Freeform 16"/>
            <p:cNvSpPr/>
            <p:nvPr/>
          </p:nvSpPr>
          <p:spPr>
            <a:xfrm>
              <a:off x="7124760" y="639288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20" h="20">
                  <a:moveTo>
                    <a:pt x="6" y="1"/>
                  </a:moveTo>
                  <a:cubicBezTo>
                    <a:pt x="10" y="0"/>
                    <a:pt x="20" y="4"/>
                    <a:pt x="20" y="7"/>
                  </a:cubicBezTo>
                  <a:cubicBezTo>
                    <a:pt x="20" y="10"/>
                    <a:pt x="12" y="18"/>
                    <a:pt x="9" y="19"/>
                  </a:cubicBezTo>
                  <a:cubicBezTo>
                    <a:pt x="6" y="20"/>
                    <a:pt x="0" y="16"/>
                    <a:pt x="0" y="13"/>
                  </a:cubicBezTo>
                  <a:cubicBezTo>
                    <a:pt x="0" y="10"/>
                    <a:pt x="5" y="3"/>
                    <a:pt x="6" y="1"/>
                  </a:cubicBezTo>
                  <a:close/>
                </a:path>
              </a:pathLst>
            </a:custGeom>
            <a:solidFill>
              <a:srgbClr val="ff0000">
                <a:alpha val="30000"/>
              </a:srgbClr>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9" name="Freeform 17"/>
            <p:cNvSpPr/>
            <p:nvPr/>
          </p:nvSpPr>
          <p:spPr>
            <a:xfrm>
              <a:off x="6908760" y="5813280"/>
              <a:ext cx="69840" cy="71640"/>
            </a:xfrm>
            <a:custGeom>
              <a:avLst/>
              <a:gdLst>
                <a:gd name="textAreaLeft" fmla="*/ 0 w 69840"/>
                <a:gd name="textAreaRight" fmla="*/ 70200 w 69840"/>
                <a:gd name="textAreaTop" fmla="*/ 0 h 71640"/>
                <a:gd name="textAreaBottom" fmla="*/ 72000 h 71640"/>
              </a:gdLst>
              <a:ahLst/>
              <a:rect l="textAreaLeft" t="textAreaTop" r="textAreaRight" b="textAreaBottom"/>
              <a:pathLst>
                <a:path w="44" h="45">
                  <a:moveTo>
                    <a:pt x="7" y="3"/>
                  </a:moveTo>
                  <a:cubicBezTo>
                    <a:pt x="14" y="6"/>
                    <a:pt x="38" y="24"/>
                    <a:pt x="42" y="31"/>
                  </a:cubicBezTo>
                  <a:cubicBezTo>
                    <a:pt x="44" y="38"/>
                    <a:pt x="35" y="45"/>
                    <a:pt x="31" y="43"/>
                  </a:cubicBezTo>
                  <a:cubicBezTo>
                    <a:pt x="27" y="41"/>
                    <a:pt x="20" y="26"/>
                    <a:pt x="15" y="21"/>
                  </a:cubicBezTo>
                  <a:cubicBezTo>
                    <a:pt x="10" y="16"/>
                    <a:pt x="2" y="18"/>
                    <a:pt x="1" y="15"/>
                  </a:cubicBezTo>
                  <a:cubicBezTo>
                    <a:pt x="0" y="12"/>
                    <a:pt x="0" y="0"/>
                    <a:pt x="7" y="3"/>
                  </a:cubicBezTo>
                  <a:close/>
                </a:path>
              </a:pathLst>
            </a:custGeom>
            <a:solidFill>
              <a:srgbClr val="ff0000">
                <a:alpha val="3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0" name="Freeform 18"/>
            <p:cNvSpPr/>
            <p:nvPr/>
          </p:nvSpPr>
          <p:spPr>
            <a:xfrm>
              <a:off x="7182000" y="5899320"/>
              <a:ext cx="55440" cy="136440"/>
            </a:xfrm>
            <a:custGeom>
              <a:avLst/>
              <a:gdLst>
                <a:gd name="textAreaLeft" fmla="*/ 0 w 55440"/>
                <a:gd name="textAreaRight" fmla="*/ 55800 w 55440"/>
                <a:gd name="textAreaTop" fmla="*/ 0 h 136440"/>
                <a:gd name="textAreaBottom" fmla="*/ 136800 h 136440"/>
              </a:gdLst>
              <a:ahLst/>
              <a:rect l="textAreaLeft" t="textAreaTop" r="textAreaRight" b="textAreaBottom"/>
              <a:pathLst>
                <a:path w="35" h="86">
                  <a:moveTo>
                    <a:pt x="6" y="6"/>
                  </a:moveTo>
                  <a:cubicBezTo>
                    <a:pt x="8" y="3"/>
                    <a:pt x="22" y="0"/>
                    <a:pt x="26" y="3"/>
                  </a:cubicBezTo>
                  <a:cubicBezTo>
                    <a:pt x="30" y="6"/>
                    <a:pt x="33" y="17"/>
                    <a:pt x="33" y="24"/>
                  </a:cubicBezTo>
                  <a:cubicBezTo>
                    <a:pt x="33" y="31"/>
                    <a:pt x="27" y="39"/>
                    <a:pt x="27" y="46"/>
                  </a:cubicBezTo>
                  <a:cubicBezTo>
                    <a:pt x="27" y="53"/>
                    <a:pt x="35" y="60"/>
                    <a:pt x="32" y="66"/>
                  </a:cubicBezTo>
                  <a:cubicBezTo>
                    <a:pt x="29" y="72"/>
                    <a:pt x="14" y="86"/>
                    <a:pt x="9" y="84"/>
                  </a:cubicBezTo>
                  <a:cubicBezTo>
                    <a:pt x="4" y="82"/>
                    <a:pt x="0" y="61"/>
                    <a:pt x="0" y="55"/>
                  </a:cubicBezTo>
                  <a:cubicBezTo>
                    <a:pt x="0" y="49"/>
                    <a:pt x="10" y="48"/>
                    <a:pt x="11" y="45"/>
                  </a:cubicBezTo>
                  <a:cubicBezTo>
                    <a:pt x="12" y="42"/>
                    <a:pt x="8" y="38"/>
                    <a:pt x="8" y="34"/>
                  </a:cubicBezTo>
                  <a:cubicBezTo>
                    <a:pt x="8" y="30"/>
                    <a:pt x="14" y="27"/>
                    <a:pt x="14" y="22"/>
                  </a:cubicBezTo>
                  <a:cubicBezTo>
                    <a:pt x="14" y="17"/>
                    <a:pt x="4" y="5"/>
                    <a:pt x="6" y="6"/>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
            <p:cNvSpPr/>
            <p:nvPr/>
          </p:nvSpPr>
          <p:spPr>
            <a:xfrm>
              <a:off x="7149960" y="5724360"/>
              <a:ext cx="162000" cy="95400"/>
            </a:xfrm>
            <a:custGeom>
              <a:avLst/>
              <a:gdLst>
                <a:gd name="textAreaLeft" fmla="*/ 0 w 162000"/>
                <a:gd name="textAreaRight" fmla="*/ 162360 w 162000"/>
                <a:gd name="textAreaTop" fmla="*/ 0 h 95400"/>
                <a:gd name="textAreaBottom" fmla="*/ 95760 h 95400"/>
              </a:gdLst>
              <a:ahLst/>
              <a:rect l="textAreaLeft" t="textAreaTop" r="textAreaRight" b="textAreaBottom"/>
              <a:pathLst>
                <a:path w="102" h="60">
                  <a:moveTo>
                    <a:pt x="67" y="0"/>
                  </a:moveTo>
                  <a:cubicBezTo>
                    <a:pt x="79" y="0"/>
                    <a:pt x="73" y="12"/>
                    <a:pt x="79" y="17"/>
                  </a:cubicBezTo>
                  <a:cubicBezTo>
                    <a:pt x="85" y="22"/>
                    <a:pt x="100" y="26"/>
                    <a:pt x="101" y="33"/>
                  </a:cubicBezTo>
                  <a:cubicBezTo>
                    <a:pt x="102" y="40"/>
                    <a:pt x="93" y="60"/>
                    <a:pt x="85" y="60"/>
                  </a:cubicBezTo>
                  <a:cubicBezTo>
                    <a:pt x="77" y="60"/>
                    <a:pt x="57" y="42"/>
                    <a:pt x="53" y="36"/>
                  </a:cubicBezTo>
                  <a:cubicBezTo>
                    <a:pt x="49" y="30"/>
                    <a:pt x="59" y="30"/>
                    <a:pt x="59" y="27"/>
                  </a:cubicBezTo>
                  <a:cubicBezTo>
                    <a:pt x="59" y="24"/>
                    <a:pt x="57" y="16"/>
                    <a:pt x="50" y="17"/>
                  </a:cubicBezTo>
                  <a:cubicBezTo>
                    <a:pt x="43" y="18"/>
                    <a:pt x="26" y="30"/>
                    <a:pt x="19" y="30"/>
                  </a:cubicBezTo>
                  <a:cubicBezTo>
                    <a:pt x="12" y="30"/>
                    <a:pt x="0" y="19"/>
                    <a:pt x="8" y="14"/>
                  </a:cubicBezTo>
                  <a:cubicBezTo>
                    <a:pt x="16" y="9"/>
                    <a:pt x="55" y="0"/>
                    <a:pt x="67" y="0"/>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20"/>
            <p:cNvSpPr/>
            <p:nvPr/>
          </p:nvSpPr>
          <p:spPr>
            <a:xfrm>
              <a:off x="6989760" y="5580000"/>
              <a:ext cx="92160" cy="66600"/>
            </a:xfrm>
            <a:custGeom>
              <a:avLst/>
              <a:gdLst>
                <a:gd name="textAreaLeft" fmla="*/ 0 w 92160"/>
                <a:gd name="textAreaRight" fmla="*/ 92520 w 92160"/>
                <a:gd name="textAreaTop" fmla="*/ 0 h 66600"/>
                <a:gd name="textAreaBottom" fmla="*/ 66960 h 66600"/>
              </a:gdLst>
              <a:ahLst/>
              <a:rect l="textAreaLeft" t="textAreaTop" r="textAreaRight" b="textAreaBottom"/>
              <a:pathLst>
                <a:path w="58" h="42">
                  <a:moveTo>
                    <a:pt x="21" y="1"/>
                  </a:moveTo>
                  <a:cubicBezTo>
                    <a:pt x="27" y="1"/>
                    <a:pt x="31" y="9"/>
                    <a:pt x="36" y="9"/>
                  </a:cubicBezTo>
                  <a:cubicBezTo>
                    <a:pt x="41" y="9"/>
                    <a:pt x="47" y="0"/>
                    <a:pt x="51" y="3"/>
                  </a:cubicBezTo>
                  <a:cubicBezTo>
                    <a:pt x="55" y="6"/>
                    <a:pt x="58" y="21"/>
                    <a:pt x="57" y="25"/>
                  </a:cubicBezTo>
                  <a:cubicBezTo>
                    <a:pt x="56" y="29"/>
                    <a:pt x="48" y="25"/>
                    <a:pt x="42" y="28"/>
                  </a:cubicBezTo>
                  <a:cubicBezTo>
                    <a:pt x="36" y="31"/>
                    <a:pt x="23" y="42"/>
                    <a:pt x="19" y="42"/>
                  </a:cubicBezTo>
                  <a:cubicBezTo>
                    <a:pt x="15" y="42"/>
                    <a:pt x="22" y="32"/>
                    <a:pt x="19" y="27"/>
                  </a:cubicBezTo>
                  <a:cubicBezTo>
                    <a:pt x="16" y="22"/>
                    <a:pt x="0" y="16"/>
                    <a:pt x="0" y="12"/>
                  </a:cubicBezTo>
                  <a:cubicBezTo>
                    <a:pt x="0" y="8"/>
                    <a:pt x="15" y="1"/>
                    <a:pt x="21" y="1"/>
                  </a:cubicBezTo>
                  <a:close/>
                </a:path>
              </a:pathLst>
            </a:custGeom>
            <a:solidFill>
              <a:srgbClr val="ff0000">
                <a:alpha val="30000"/>
              </a:srgbClr>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3" name="Freeform 21"/>
            <p:cNvSpPr/>
            <p:nvPr/>
          </p:nvSpPr>
          <p:spPr>
            <a:xfrm>
              <a:off x="6745320" y="5788080"/>
              <a:ext cx="31680" cy="34920"/>
            </a:xfrm>
            <a:custGeom>
              <a:avLst/>
              <a:gdLst>
                <a:gd name="textAreaLeft" fmla="*/ 0 w 31680"/>
                <a:gd name="textAreaRight" fmla="*/ 32040 w 31680"/>
                <a:gd name="textAreaTop" fmla="*/ 0 h 34920"/>
                <a:gd name="textAreaBottom" fmla="*/ 34920 h 34920"/>
              </a:gdLst>
              <a:ahLst/>
              <a:rect l="textAreaLeft" t="textAreaTop" r="textAreaRight" b="textAreaBottom"/>
              <a:pathLst>
                <a:path w="20" h="22">
                  <a:moveTo>
                    <a:pt x="4" y="0"/>
                  </a:moveTo>
                  <a:cubicBezTo>
                    <a:pt x="9" y="0"/>
                    <a:pt x="18" y="8"/>
                    <a:pt x="19" y="12"/>
                  </a:cubicBezTo>
                  <a:cubicBezTo>
                    <a:pt x="20" y="16"/>
                    <a:pt x="12" y="22"/>
                    <a:pt x="9" y="22"/>
                  </a:cubicBezTo>
                  <a:cubicBezTo>
                    <a:pt x="6" y="22"/>
                    <a:pt x="2" y="15"/>
                    <a:pt x="1" y="11"/>
                  </a:cubicBezTo>
                  <a:cubicBezTo>
                    <a:pt x="0" y="7"/>
                    <a:pt x="3" y="2"/>
                    <a:pt x="4" y="0"/>
                  </a:cubicBezTo>
                  <a:close/>
                </a:path>
              </a:pathLst>
            </a:custGeom>
            <a:solidFill>
              <a:srgbClr val="ff0000">
                <a:alpha val="30000"/>
              </a:srgbClr>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 name="Freeform 22"/>
            <p:cNvSpPr/>
            <p:nvPr/>
          </p:nvSpPr>
          <p:spPr>
            <a:xfrm>
              <a:off x="6796080" y="5773680"/>
              <a:ext cx="22320" cy="36720"/>
            </a:xfrm>
            <a:custGeom>
              <a:avLst/>
              <a:gdLst>
                <a:gd name="textAreaLeft" fmla="*/ 0 w 22320"/>
                <a:gd name="textAreaRight" fmla="*/ 22680 w 22320"/>
                <a:gd name="textAreaTop" fmla="*/ 0 h 36720"/>
                <a:gd name="textAreaBottom" fmla="*/ 37080 h 36720"/>
              </a:gdLst>
              <a:ahLst/>
              <a:rect l="textAreaLeft" t="textAreaTop" r="textAreaRight" b="textAreaBottom"/>
              <a:pathLst>
                <a:path w="14" h="23">
                  <a:moveTo>
                    <a:pt x="8" y="0"/>
                  </a:moveTo>
                  <a:cubicBezTo>
                    <a:pt x="11" y="0"/>
                    <a:pt x="14" y="9"/>
                    <a:pt x="14" y="13"/>
                  </a:cubicBezTo>
                  <a:cubicBezTo>
                    <a:pt x="14" y="17"/>
                    <a:pt x="8" y="23"/>
                    <a:pt x="6" y="23"/>
                  </a:cubicBezTo>
                  <a:cubicBezTo>
                    <a:pt x="4" y="23"/>
                    <a:pt x="0" y="14"/>
                    <a:pt x="0" y="10"/>
                  </a:cubicBezTo>
                  <a:cubicBezTo>
                    <a:pt x="0" y="6"/>
                    <a:pt x="6" y="2"/>
                    <a:pt x="8" y="0"/>
                  </a:cubicBezTo>
                  <a:close/>
                </a:path>
              </a:pathLst>
            </a:custGeom>
            <a:solidFill>
              <a:srgbClr val="ff0000">
                <a:alpha val="3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5" name="Freeform 23"/>
            <p:cNvSpPr/>
            <p:nvPr/>
          </p:nvSpPr>
          <p:spPr>
            <a:xfrm>
              <a:off x="7108920" y="5518080"/>
              <a:ext cx="66600" cy="44640"/>
            </a:xfrm>
            <a:custGeom>
              <a:avLst/>
              <a:gdLst>
                <a:gd name="textAreaLeft" fmla="*/ 0 w 66600"/>
                <a:gd name="textAreaRight" fmla="*/ 66960 w 66600"/>
                <a:gd name="textAreaTop" fmla="*/ 0 h 44640"/>
                <a:gd name="textAreaBottom" fmla="*/ 45000 h 44640"/>
              </a:gdLst>
              <a:ahLst/>
              <a:rect l="textAreaLeft" t="textAreaTop" r="textAreaRight" b="textAreaBottom"/>
              <a:pathLst>
                <a:path w="42" h="28">
                  <a:moveTo>
                    <a:pt x="34" y="0"/>
                  </a:moveTo>
                  <a:cubicBezTo>
                    <a:pt x="40" y="0"/>
                    <a:pt x="42" y="9"/>
                    <a:pt x="38" y="13"/>
                  </a:cubicBezTo>
                  <a:cubicBezTo>
                    <a:pt x="34" y="17"/>
                    <a:pt x="16" y="20"/>
                    <a:pt x="12" y="22"/>
                  </a:cubicBezTo>
                  <a:cubicBezTo>
                    <a:pt x="8" y="24"/>
                    <a:pt x="13" y="28"/>
                    <a:pt x="12" y="27"/>
                  </a:cubicBezTo>
                  <a:cubicBezTo>
                    <a:pt x="11" y="26"/>
                    <a:pt x="0" y="17"/>
                    <a:pt x="4" y="13"/>
                  </a:cubicBezTo>
                  <a:cubicBezTo>
                    <a:pt x="8" y="9"/>
                    <a:pt x="28" y="0"/>
                    <a:pt x="34" y="0"/>
                  </a:cubicBezTo>
                  <a:close/>
                </a:path>
              </a:pathLst>
            </a:custGeom>
            <a:solidFill>
              <a:srgbClr val="ff0000">
                <a:alpha val="3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6" name="Freeform 24"/>
            <p:cNvSpPr/>
            <p:nvPr/>
          </p:nvSpPr>
          <p:spPr>
            <a:xfrm>
              <a:off x="7067520" y="5438880"/>
              <a:ext cx="63360" cy="38160"/>
            </a:xfrm>
            <a:custGeom>
              <a:avLst/>
              <a:gdLst>
                <a:gd name="textAreaLeft" fmla="*/ 0 w 63360"/>
                <a:gd name="textAreaRight" fmla="*/ 63720 w 63360"/>
                <a:gd name="textAreaTop" fmla="*/ 0 h 38160"/>
                <a:gd name="textAreaBottom" fmla="*/ 38520 h 38160"/>
              </a:gdLst>
              <a:ahLst/>
              <a:rect l="textAreaLeft" t="textAreaTop" r="textAreaRight" b="textAreaBottom"/>
              <a:pathLst>
                <a:path w="40" h="24">
                  <a:moveTo>
                    <a:pt x="9" y="0"/>
                  </a:moveTo>
                  <a:cubicBezTo>
                    <a:pt x="15" y="0"/>
                    <a:pt x="37" y="7"/>
                    <a:pt x="39" y="11"/>
                  </a:cubicBezTo>
                  <a:cubicBezTo>
                    <a:pt x="40" y="15"/>
                    <a:pt x="26" y="24"/>
                    <a:pt x="20" y="24"/>
                  </a:cubicBezTo>
                  <a:cubicBezTo>
                    <a:pt x="14" y="24"/>
                    <a:pt x="4" y="18"/>
                    <a:pt x="2" y="14"/>
                  </a:cubicBezTo>
                  <a:cubicBezTo>
                    <a:pt x="0" y="10"/>
                    <a:pt x="3" y="0"/>
                    <a:pt x="9" y="0"/>
                  </a:cubicBezTo>
                  <a:close/>
                </a:path>
              </a:pathLst>
            </a:custGeom>
            <a:solidFill>
              <a:srgbClr val="ff0000">
                <a:alpha val="3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7" name="Freeform 25"/>
            <p:cNvSpPr/>
            <p:nvPr/>
          </p:nvSpPr>
          <p:spPr>
            <a:xfrm>
              <a:off x="6886440" y="5384880"/>
              <a:ext cx="69840" cy="69840"/>
            </a:xfrm>
            <a:custGeom>
              <a:avLst/>
              <a:gdLst>
                <a:gd name="textAreaLeft" fmla="*/ 0 w 69840"/>
                <a:gd name="textAreaRight" fmla="*/ 70200 w 69840"/>
                <a:gd name="textAreaTop" fmla="*/ 0 h 69840"/>
                <a:gd name="textAreaBottom" fmla="*/ 70200 h 69840"/>
              </a:gdLst>
              <a:ahLst/>
              <a:rect l="textAreaLeft" t="textAreaTop" r="textAreaRight" b="textAreaBottom"/>
              <a:pathLst>
                <a:path w="44" h="44">
                  <a:moveTo>
                    <a:pt x="27" y="3"/>
                  </a:moveTo>
                  <a:cubicBezTo>
                    <a:pt x="33" y="6"/>
                    <a:pt x="44" y="20"/>
                    <a:pt x="44" y="25"/>
                  </a:cubicBezTo>
                  <a:cubicBezTo>
                    <a:pt x="44" y="30"/>
                    <a:pt x="34" y="32"/>
                    <a:pt x="27" y="35"/>
                  </a:cubicBezTo>
                  <a:cubicBezTo>
                    <a:pt x="20" y="38"/>
                    <a:pt x="6" y="44"/>
                    <a:pt x="3" y="42"/>
                  </a:cubicBezTo>
                  <a:cubicBezTo>
                    <a:pt x="0" y="40"/>
                    <a:pt x="8" y="30"/>
                    <a:pt x="8" y="24"/>
                  </a:cubicBezTo>
                  <a:cubicBezTo>
                    <a:pt x="8" y="18"/>
                    <a:pt x="2" y="10"/>
                    <a:pt x="5" y="7"/>
                  </a:cubicBezTo>
                  <a:cubicBezTo>
                    <a:pt x="8" y="4"/>
                    <a:pt x="22" y="0"/>
                    <a:pt x="27" y="3"/>
                  </a:cubicBezTo>
                  <a:close/>
                </a:path>
              </a:pathLst>
            </a:custGeom>
            <a:solidFill>
              <a:srgbClr val="ff0000">
                <a:alpha val="30000"/>
              </a:srgbClr>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8" name="Freeform 26"/>
            <p:cNvSpPr/>
            <p:nvPr/>
          </p:nvSpPr>
          <p:spPr>
            <a:xfrm>
              <a:off x="7059600" y="6273720"/>
              <a:ext cx="47520" cy="28800"/>
            </a:xfrm>
            <a:custGeom>
              <a:avLst/>
              <a:gdLst>
                <a:gd name="textAreaLeft" fmla="*/ 0 w 47520"/>
                <a:gd name="textAreaRight" fmla="*/ 47880 w 47520"/>
                <a:gd name="textAreaTop" fmla="*/ 0 h 28800"/>
                <a:gd name="textAreaBottom" fmla="*/ 29160 h 28800"/>
              </a:gdLst>
              <a:ahLst/>
              <a:rect l="textAreaLeft" t="textAreaTop" r="textAreaRight" b="textAreaBottom"/>
              <a:pathLst>
                <a:path w="30" h="18">
                  <a:moveTo>
                    <a:pt x="17" y="4"/>
                  </a:moveTo>
                  <a:cubicBezTo>
                    <a:pt x="22" y="5"/>
                    <a:pt x="30" y="8"/>
                    <a:pt x="29" y="10"/>
                  </a:cubicBezTo>
                  <a:cubicBezTo>
                    <a:pt x="30" y="14"/>
                    <a:pt x="17" y="18"/>
                    <a:pt x="12" y="17"/>
                  </a:cubicBezTo>
                  <a:cubicBezTo>
                    <a:pt x="7" y="16"/>
                    <a:pt x="0" y="4"/>
                    <a:pt x="1" y="2"/>
                  </a:cubicBezTo>
                  <a:cubicBezTo>
                    <a:pt x="2" y="0"/>
                    <a:pt x="12" y="3"/>
                    <a:pt x="17" y="4"/>
                  </a:cubicBezTo>
                  <a:close/>
                </a:path>
              </a:pathLst>
            </a:custGeom>
            <a:solidFill>
              <a:srgbClr val="ff0000">
                <a:alpha val="3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9" name="Freeform 27"/>
            <p:cNvSpPr/>
            <p:nvPr/>
          </p:nvSpPr>
          <p:spPr>
            <a:xfrm>
              <a:off x="6975360" y="6229440"/>
              <a:ext cx="25560" cy="25200"/>
            </a:xfrm>
            <a:custGeom>
              <a:avLst/>
              <a:gdLst>
                <a:gd name="textAreaLeft" fmla="*/ 0 w 25560"/>
                <a:gd name="textAreaRight" fmla="*/ 25920 w 25560"/>
                <a:gd name="textAreaTop" fmla="*/ 0 h 25200"/>
                <a:gd name="textAreaBottom" fmla="*/ 25560 h 25200"/>
              </a:gdLst>
              <a:ahLst/>
              <a:rect l="textAreaLeft" t="textAreaTop" r="textAreaRight" b="textAreaBottom"/>
              <a:pathLst>
                <a:path w="16" h="16">
                  <a:moveTo>
                    <a:pt x="6" y="0"/>
                  </a:moveTo>
                  <a:cubicBezTo>
                    <a:pt x="8" y="0"/>
                    <a:pt x="14" y="6"/>
                    <a:pt x="15" y="8"/>
                  </a:cubicBezTo>
                  <a:cubicBezTo>
                    <a:pt x="16" y="10"/>
                    <a:pt x="12" y="14"/>
                    <a:pt x="10" y="15"/>
                  </a:cubicBezTo>
                  <a:cubicBezTo>
                    <a:pt x="8" y="16"/>
                    <a:pt x="2" y="13"/>
                    <a:pt x="1" y="11"/>
                  </a:cubicBezTo>
                  <a:cubicBezTo>
                    <a:pt x="0" y="9"/>
                    <a:pt x="3" y="1"/>
                    <a:pt x="6" y="0"/>
                  </a:cubicBezTo>
                  <a:close/>
                </a:path>
              </a:pathLst>
            </a:custGeom>
            <a:solidFill>
              <a:srgbClr val="ff0000">
                <a:alpha val="3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0" name="Freeform 28"/>
            <p:cNvSpPr/>
            <p:nvPr/>
          </p:nvSpPr>
          <p:spPr>
            <a:xfrm>
              <a:off x="7128000" y="6343560"/>
              <a:ext cx="25200" cy="25560"/>
            </a:xfrm>
            <a:custGeom>
              <a:avLst/>
              <a:gdLst>
                <a:gd name="textAreaLeft" fmla="*/ 0 w 25200"/>
                <a:gd name="textAreaRight" fmla="*/ 25560 w 25200"/>
                <a:gd name="textAreaTop" fmla="*/ 0 h 25560"/>
                <a:gd name="textAreaBottom" fmla="*/ 25920 h 25560"/>
              </a:gdLst>
              <a:ahLst/>
              <a:rect l="textAreaLeft" t="textAreaTop" r="textAreaRight" b="textAreaBottom"/>
              <a:pathLst>
                <a:path w="16" h="16">
                  <a:moveTo>
                    <a:pt x="6" y="0"/>
                  </a:moveTo>
                  <a:cubicBezTo>
                    <a:pt x="8" y="0"/>
                    <a:pt x="14" y="6"/>
                    <a:pt x="15" y="8"/>
                  </a:cubicBezTo>
                  <a:cubicBezTo>
                    <a:pt x="16" y="10"/>
                    <a:pt x="12" y="14"/>
                    <a:pt x="10" y="15"/>
                  </a:cubicBezTo>
                  <a:cubicBezTo>
                    <a:pt x="8" y="16"/>
                    <a:pt x="2" y="13"/>
                    <a:pt x="1" y="11"/>
                  </a:cubicBezTo>
                  <a:cubicBezTo>
                    <a:pt x="0" y="9"/>
                    <a:pt x="3" y="1"/>
                    <a:pt x="6" y="0"/>
                  </a:cubicBezTo>
                  <a:close/>
                </a:path>
              </a:pathLst>
            </a:custGeom>
            <a:solidFill>
              <a:srgbClr val="ff0000">
                <a:alpha val="3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1" name="Freeform 29"/>
            <p:cNvSpPr/>
            <p:nvPr/>
          </p:nvSpPr>
          <p:spPr>
            <a:xfrm>
              <a:off x="7124760" y="645336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6" y="0"/>
                  </a:moveTo>
                  <a:cubicBezTo>
                    <a:pt x="8" y="0"/>
                    <a:pt x="14" y="6"/>
                    <a:pt x="15" y="8"/>
                  </a:cubicBezTo>
                  <a:cubicBezTo>
                    <a:pt x="16" y="10"/>
                    <a:pt x="12" y="14"/>
                    <a:pt x="10" y="15"/>
                  </a:cubicBezTo>
                  <a:cubicBezTo>
                    <a:pt x="8" y="16"/>
                    <a:pt x="2" y="13"/>
                    <a:pt x="1" y="11"/>
                  </a:cubicBezTo>
                  <a:cubicBezTo>
                    <a:pt x="0" y="9"/>
                    <a:pt x="3" y="1"/>
                    <a:pt x="6" y="0"/>
                  </a:cubicBezTo>
                  <a:close/>
                </a:path>
              </a:pathLst>
            </a:custGeom>
            <a:solidFill>
              <a:srgbClr val="ff0000">
                <a:alpha val="3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2" name="Freeform 30"/>
            <p:cNvSpPr/>
            <p:nvPr/>
          </p:nvSpPr>
          <p:spPr>
            <a:xfrm>
              <a:off x="7086600" y="637524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16" h="16">
                  <a:moveTo>
                    <a:pt x="6" y="0"/>
                  </a:moveTo>
                  <a:cubicBezTo>
                    <a:pt x="8" y="0"/>
                    <a:pt x="14" y="6"/>
                    <a:pt x="15" y="8"/>
                  </a:cubicBezTo>
                  <a:cubicBezTo>
                    <a:pt x="16" y="10"/>
                    <a:pt x="12" y="14"/>
                    <a:pt x="10" y="15"/>
                  </a:cubicBezTo>
                  <a:cubicBezTo>
                    <a:pt x="8" y="16"/>
                    <a:pt x="2" y="13"/>
                    <a:pt x="1" y="11"/>
                  </a:cubicBezTo>
                  <a:cubicBezTo>
                    <a:pt x="0" y="9"/>
                    <a:pt x="3" y="1"/>
                    <a:pt x="6" y="0"/>
                  </a:cubicBezTo>
                  <a:close/>
                </a:path>
              </a:pathLst>
            </a:custGeom>
            <a:solidFill>
              <a:srgbClr val="ff0000">
                <a:alpha val="3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3" name="Freeform 31"/>
            <p:cNvSpPr/>
            <p:nvPr/>
          </p:nvSpPr>
          <p:spPr>
            <a:xfrm>
              <a:off x="6829560" y="655020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16" h="16">
                  <a:moveTo>
                    <a:pt x="6" y="0"/>
                  </a:moveTo>
                  <a:cubicBezTo>
                    <a:pt x="8" y="0"/>
                    <a:pt x="14" y="6"/>
                    <a:pt x="15" y="8"/>
                  </a:cubicBezTo>
                  <a:cubicBezTo>
                    <a:pt x="16" y="10"/>
                    <a:pt x="12" y="14"/>
                    <a:pt x="10" y="15"/>
                  </a:cubicBezTo>
                  <a:cubicBezTo>
                    <a:pt x="8" y="16"/>
                    <a:pt x="2" y="13"/>
                    <a:pt x="1" y="11"/>
                  </a:cubicBezTo>
                  <a:cubicBezTo>
                    <a:pt x="0" y="9"/>
                    <a:pt x="3" y="1"/>
                    <a:pt x="6" y="0"/>
                  </a:cubicBezTo>
                  <a:close/>
                </a:path>
              </a:pathLst>
            </a:custGeom>
            <a:solidFill>
              <a:srgbClr val="ff0000">
                <a:alpha val="3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4" name="Freeform 32"/>
            <p:cNvSpPr/>
            <p:nvPr/>
          </p:nvSpPr>
          <p:spPr>
            <a:xfrm>
              <a:off x="6913440" y="6275520"/>
              <a:ext cx="25560" cy="25200"/>
            </a:xfrm>
            <a:custGeom>
              <a:avLst/>
              <a:gdLst>
                <a:gd name="textAreaLeft" fmla="*/ 0 w 25560"/>
                <a:gd name="textAreaRight" fmla="*/ 25920 w 25560"/>
                <a:gd name="textAreaTop" fmla="*/ 0 h 25200"/>
                <a:gd name="textAreaBottom" fmla="*/ 25560 h 25200"/>
              </a:gdLst>
              <a:ahLst/>
              <a:rect l="textAreaLeft" t="textAreaTop" r="textAreaRight" b="textAreaBottom"/>
              <a:pathLst>
                <a:path w="16" h="16">
                  <a:moveTo>
                    <a:pt x="6" y="0"/>
                  </a:moveTo>
                  <a:cubicBezTo>
                    <a:pt x="8" y="0"/>
                    <a:pt x="14" y="6"/>
                    <a:pt x="15" y="8"/>
                  </a:cubicBezTo>
                  <a:cubicBezTo>
                    <a:pt x="16" y="10"/>
                    <a:pt x="12" y="14"/>
                    <a:pt x="10" y="15"/>
                  </a:cubicBezTo>
                  <a:cubicBezTo>
                    <a:pt x="8" y="16"/>
                    <a:pt x="2" y="13"/>
                    <a:pt x="1" y="11"/>
                  </a:cubicBezTo>
                  <a:cubicBezTo>
                    <a:pt x="0" y="9"/>
                    <a:pt x="3" y="1"/>
                    <a:pt x="6" y="0"/>
                  </a:cubicBezTo>
                  <a:close/>
                </a:path>
              </a:pathLst>
            </a:custGeom>
            <a:solidFill>
              <a:srgbClr val="ff0000">
                <a:alpha val="3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sp>
        <p:nvSpPr>
          <p:cNvPr id="205" name="Freeform 33"/>
          <p:cNvSpPr/>
          <p:nvPr/>
        </p:nvSpPr>
        <p:spPr>
          <a:xfrm>
            <a:off x="133200" y="5981760"/>
            <a:ext cx="4219560" cy="850680"/>
          </a:xfrm>
          <a:custGeom>
            <a:avLst/>
            <a:gdLst>
              <a:gd name="textAreaLeft" fmla="*/ 0 w 4219560"/>
              <a:gd name="textAreaRight" fmla="*/ 4219920 w 4219560"/>
              <a:gd name="textAreaTop" fmla="*/ 0 h 850680"/>
              <a:gd name="textAreaBottom" fmla="*/ 851040 h 850680"/>
            </a:gdLst>
            <a:ahLst/>
            <a:rect l="textAreaLeft" t="textAreaTop" r="textAreaRight" b="textAreaBottom"/>
            <a:pathLst>
              <a:path w="2658" h="536">
                <a:moveTo>
                  <a:pt x="0" y="352"/>
                </a:moveTo>
                <a:lnTo>
                  <a:pt x="20" y="324"/>
                </a:lnTo>
                <a:cubicBezTo>
                  <a:pt x="28" y="316"/>
                  <a:pt x="43" y="317"/>
                  <a:pt x="51" y="306"/>
                </a:cubicBezTo>
                <a:cubicBezTo>
                  <a:pt x="59" y="295"/>
                  <a:pt x="64" y="268"/>
                  <a:pt x="71" y="260"/>
                </a:cubicBezTo>
                <a:cubicBezTo>
                  <a:pt x="78" y="252"/>
                  <a:pt x="83" y="262"/>
                  <a:pt x="93" y="257"/>
                </a:cubicBezTo>
                <a:cubicBezTo>
                  <a:pt x="103" y="252"/>
                  <a:pt x="120" y="237"/>
                  <a:pt x="131" y="231"/>
                </a:cubicBezTo>
                <a:cubicBezTo>
                  <a:pt x="142" y="225"/>
                  <a:pt x="151" y="225"/>
                  <a:pt x="158" y="219"/>
                </a:cubicBezTo>
                <a:cubicBezTo>
                  <a:pt x="165" y="213"/>
                  <a:pt x="167" y="200"/>
                  <a:pt x="174" y="195"/>
                </a:cubicBezTo>
                <a:cubicBezTo>
                  <a:pt x="181" y="190"/>
                  <a:pt x="189" y="192"/>
                  <a:pt x="198" y="189"/>
                </a:cubicBezTo>
                <a:cubicBezTo>
                  <a:pt x="207" y="186"/>
                  <a:pt x="218" y="176"/>
                  <a:pt x="227" y="174"/>
                </a:cubicBezTo>
                <a:cubicBezTo>
                  <a:pt x="236" y="172"/>
                  <a:pt x="245" y="178"/>
                  <a:pt x="252" y="176"/>
                </a:cubicBezTo>
                <a:cubicBezTo>
                  <a:pt x="259" y="174"/>
                  <a:pt x="264" y="163"/>
                  <a:pt x="270" y="161"/>
                </a:cubicBezTo>
                <a:cubicBezTo>
                  <a:pt x="276" y="159"/>
                  <a:pt x="273" y="164"/>
                  <a:pt x="288" y="161"/>
                </a:cubicBezTo>
                <a:cubicBezTo>
                  <a:pt x="303" y="158"/>
                  <a:pt x="346" y="148"/>
                  <a:pt x="360" y="141"/>
                </a:cubicBezTo>
                <a:cubicBezTo>
                  <a:pt x="374" y="134"/>
                  <a:pt x="368" y="128"/>
                  <a:pt x="375" y="122"/>
                </a:cubicBezTo>
                <a:cubicBezTo>
                  <a:pt x="382" y="116"/>
                  <a:pt x="395" y="113"/>
                  <a:pt x="404" y="104"/>
                </a:cubicBezTo>
                <a:cubicBezTo>
                  <a:pt x="413" y="95"/>
                  <a:pt x="420" y="77"/>
                  <a:pt x="428" y="68"/>
                </a:cubicBezTo>
                <a:cubicBezTo>
                  <a:pt x="436" y="59"/>
                  <a:pt x="445" y="59"/>
                  <a:pt x="453" y="51"/>
                </a:cubicBezTo>
                <a:cubicBezTo>
                  <a:pt x="461" y="43"/>
                  <a:pt x="469" y="28"/>
                  <a:pt x="476" y="20"/>
                </a:cubicBezTo>
                <a:lnTo>
                  <a:pt x="495" y="0"/>
                </a:lnTo>
                <a:lnTo>
                  <a:pt x="513" y="9"/>
                </a:lnTo>
                <a:cubicBezTo>
                  <a:pt x="529" y="19"/>
                  <a:pt x="564" y="44"/>
                  <a:pt x="591" y="62"/>
                </a:cubicBezTo>
                <a:cubicBezTo>
                  <a:pt x="618" y="80"/>
                  <a:pt x="646" y="108"/>
                  <a:pt x="672" y="117"/>
                </a:cubicBezTo>
                <a:cubicBezTo>
                  <a:pt x="698" y="126"/>
                  <a:pt x="715" y="113"/>
                  <a:pt x="744" y="119"/>
                </a:cubicBezTo>
                <a:cubicBezTo>
                  <a:pt x="773" y="125"/>
                  <a:pt x="811" y="148"/>
                  <a:pt x="845" y="156"/>
                </a:cubicBezTo>
                <a:cubicBezTo>
                  <a:pt x="879" y="164"/>
                  <a:pt x="927" y="170"/>
                  <a:pt x="947" y="168"/>
                </a:cubicBezTo>
                <a:cubicBezTo>
                  <a:pt x="967" y="166"/>
                  <a:pt x="956" y="150"/>
                  <a:pt x="964" y="144"/>
                </a:cubicBezTo>
                <a:cubicBezTo>
                  <a:pt x="972" y="138"/>
                  <a:pt x="984" y="132"/>
                  <a:pt x="998" y="134"/>
                </a:cubicBezTo>
                <a:cubicBezTo>
                  <a:pt x="1012" y="136"/>
                  <a:pt x="1037" y="155"/>
                  <a:pt x="1050" y="155"/>
                </a:cubicBezTo>
                <a:cubicBezTo>
                  <a:pt x="1063" y="155"/>
                  <a:pt x="1066" y="139"/>
                  <a:pt x="1076" y="134"/>
                </a:cubicBezTo>
                <a:cubicBezTo>
                  <a:pt x="1086" y="129"/>
                  <a:pt x="1099" y="132"/>
                  <a:pt x="1109" y="125"/>
                </a:cubicBezTo>
                <a:cubicBezTo>
                  <a:pt x="1119" y="118"/>
                  <a:pt x="1125" y="99"/>
                  <a:pt x="1136" y="92"/>
                </a:cubicBezTo>
                <a:cubicBezTo>
                  <a:pt x="1147" y="85"/>
                  <a:pt x="1164" y="83"/>
                  <a:pt x="1173" y="83"/>
                </a:cubicBezTo>
                <a:cubicBezTo>
                  <a:pt x="1182" y="83"/>
                  <a:pt x="1185" y="94"/>
                  <a:pt x="1193" y="92"/>
                </a:cubicBezTo>
                <a:cubicBezTo>
                  <a:pt x="1201" y="90"/>
                  <a:pt x="1212" y="70"/>
                  <a:pt x="1224" y="72"/>
                </a:cubicBezTo>
                <a:cubicBezTo>
                  <a:pt x="1236" y="74"/>
                  <a:pt x="1254" y="105"/>
                  <a:pt x="1266" y="105"/>
                </a:cubicBezTo>
                <a:cubicBezTo>
                  <a:pt x="1278" y="105"/>
                  <a:pt x="1284" y="82"/>
                  <a:pt x="1296" y="74"/>
                </a:cubicBezTo>
                <a:cubicBezTo>
                  <a:pt x="1308" y="66"/>
                  <a:pt x="1327" y="61"/>
                  <a:pt x="1337" y="59"/>
                </a:cubicBezTo>
                <a:cubicBezTo>
                  <a:pt x="1347" y="57"/>
                  <a:pt x="1341" y="67"/>
                  <a:pt x="1359" y="63"/>
                </a:cubicBezTo>
                <a:cubicBezTo>
                  <a:pt x="1377" y="59"/>
                  <a:pt x="1424" y="35"/>
                  <a:pt x="1445" y="33"/>
                </a:cubicBezTo>
                <a:cubicBezTo>
                  <a:pt x="1466" y="31"/>
                  <a:pt x="1473" y="47"/>
                  <a:pt x="1487" y="51"/>
                </a:cubicBezTo>
                <a:cubicBezTo>
                  <a:pt x="1501" y="55"/>
                  <a:pt x="1517" y="58"/>
                  <a:pt x="1530" y="59"/>
                </a:cubicBezTo>
                <a:cubicBezTo>
                  <a:pt x="1543" y="60"/>
                  <a:pt x="1553" y="53"/>
                  <a:pt x="1566" y="56"/>
                </a:cubicBezTo>
                <a:cubicBezTo>
                  <a:pt x="1579" y="59"/>
                  <a:pt x="1593" y="76"/>
                  <a:pt x="1607" y="77"/>
                </a:cubicBezTo>
                <a:cubicBezTo>
                  <a:pt x="1621" y="78"/>
                  <a:pt x="1638" y="62"/>
                  <a:pt x="1649" y="60"/>
                </a:cubicBezTo>
                <a:cubicBezTo>
                  <a:pt x="1660" y="58"/>
                  <a:pt x="1663" y="68"/>
                  <a:pt x="1671" y="68"/>
                </a:cubicBezTo>
                <a:cubicBezTo>
                  <a:pt x="1679" y="68"/>
                  <a:pt x="1692" y="62"/>
                  <a:pt x="1700" y="62"/>
                </a:cubicBezTo>
                <a:cubicBezTo>
                  <a:pt x="1708" y="62"/>
                  <a:pt x="1710" y="72"/>
                  <a:pt x="1722" y="71"/>
                </a:cubicBezTo>
                <a:cubicBezTo>
                  <a:pt x="1734" y="70"/>
                  <a:pt x="1755" y="51"/>
                  <a:pt x="1775" y="53"/>
                </a:cubicBezTo>
                <a:cubicBezTo>
                  <a:pt x="1795" y="55"/>
                  <a:pt x="1828" y="79"/>
                  <a:pt x="1845" y="83"/>
                </a:cubicBezTo>
                <a:cubicBezTo>
                  <a:pt x="1862" y="87"/>
                  <a:pt x="1873" y="73"/>
                  <a:pt x="1880" y="75"/>
                </a:cubicBezTo>
                <a:cubicBezTo>
                  <a:pt x="1887" y="77"/>
                  <a:pt x="1882" y="88"/>
                  <a:pt x="1889" y="96"/>
                </a:cubicBezTo>
                <a:cubicBezTo>
                  <a:pt x="1896" y="104"/>
                  <a:pt x="1914" y="118"/>
                  <a:pt x="1922" y="122"/>
                </a:cubicBezTo>
                <a:cubicBezTo>
                  <a:pt x="1930" y="126"/>
                  <a:pt x="1933" y="117"/>
                  <a:pt x="1940" y="119"/>
                </a:cubicBezTo>
                <a:cubicBezTo>
                  <a:pt x="1947" y="121"/>
                  <a:pt x="1957" y="133"/>
                  <a:pt x="1964" y="134"/>
                </a:cubicBezTo>
                <a:cubicBezTo>
                  <a:pt x="1971" y="135"/>
                  <a:pt x="1979" y="125"/>
                  <a:pt x="1985" y="123"/>
                </a:cubicBezTo>
                <a:cubicBezTo>
                  <a:pt x="1991" y="121"/>
                  <a:pt x="1993" y="126"/>
                  <a:pt x="2000" y="123"/>
                </a:cubicBezTo>
                <a:cubicBezTo>
                  <a:pt x="2007" y="120"/>
                  <a:pt x="2020" y="109"/>
                  <a:pt x="2028" y="107"/>
                </a:cubicBezTo>
                <a:cubicBezTo>
                  <a:pt x="2036" y="105"/>
                  <a:pt x="2038" y="113"/>
                  <a:pt x="2046" y="110"/>
                </a:cubicBezTo>
                <a:cubicBezTo>
                  <a:pt x="2054" y="107"/>
                  <a:pt x="2066" y="89"/>
                  <a:pt x="2078" y="90"/>
                </a:cubicBezTo>
                <a:cubicBezTo>
                  <a:pt x="2090" y="91"/>
                  <a:pt x="2112" y="110"/>
                  <a:pt x="2120" y="117"/>
                </a:cubicBezTo>
                <a:cubicBezTo>
                  <a:pt x="2128" y="124"/>
                  <a:pt x="2117" y="134"/>
                  <a:pt x="2127" y="135"/>
                </a:cubicBezTo>
                <a:cubicBezTo>
                  <a:pt x="2137" y="136"/>
                  <a:pt x="2173" y="132"/>
                  <a:pt x="2178" y="126"/>
                </a:cubicBezTo>
                <a:cubicBezTo>
                  <a:pt x="2183" y="120"/>
                  <a:pt x="2158" y="100"/>
                  <a:pt x="2159" y="96"/>
                </a:cubicBezTo>
                <a:cubicBezTo>
                  <a:pt x="2160" y="92"/>
                  <a:pt x="2177" y="103"/>
                  <a:pt x="2186" y="104"/>
                </a:cubicBezTo>
                <a:cubicBezTo>
                  <a:pt x="2195" y="105"/>
                  <a:pt x="2208" y="100"/>
                  <a:pt x="2213" y="104"/>
                </a:cubicBezTo>
                <a:cubicBezTo>
                  <a:pt x="2218" y="108"/>
                  <a:pt x="2210" y="120"/>
                  <a:pt x="2214" y="125"/>
                </a:cubicBezTo>
                <a:cubicBezTo>
                  <a:pt x="2218" y="130"/>
                  <a:pt x="2229" y="132"/>
                  <a:pt x="2235" y="137"/>
                </a:cubicBezTo>
                <a:cubicBezTo>
                  <a:pt x="2241" y="142"/>
                  <a:pt x="2242" y="154"/>
                  <a:pt x="2253" y="155"/>
                </a:cubicBezTo>
                <a:cubicBezTo>
                  <a:pt x="2264" y="156"/>
                  <a:pt x="2287" y="144"/>
                  <a:pt x="2300" y="144"/>
                </a:cubicBezTo>
                <a:cubicBezTo>
                  <a:pt x="2313" y="144"/>
                  <a:pt x="2321" y="154"/>
                  <a:pt x="2331" y="152"/>
                </a:cubicBezTo>
                <a:cubicBezTo>
                  <a:pt x="2341" y="150"/>
                  <a:pt x="2348" y="136"/>
                  <a:pt x="2358" y="135"/>
                </a:cubicBezTo>
                <a:cubicBezTo>
                  <a:pt x="2368" y="134"/>
                  <a:pt x="2380" y="146"/>
                  <a:pt x="2390" y="143"/>
                </a:cubicBezTo>
                <a:cubicBezTo>
                  <a:pt x="2400" y="140"/>
                  <a:pt x="2408" y="121"/>
                  <a:pt x="2418" y="117"/>
                </a:cubicBezTo>
                <a:cubicBezTo>
                  <a:pt x="2428" y="113"/>
                  <a:pt x="2437" y="120"/>
                  <a:pt x="2447" y="117"/>
                </a:cubicBezTo>
                <a:cubicBezTo>
                  <a:pt x="2457" y="114"/>
                  <a:pt x="2469" y="101"/>
                  <a:pt x="2478" y="102"/>
                </a:cubicBezTo>
                <a:cubicBezTo>
                  <a:pt x="2487" y="103"/>
                  <a:pt x="2496" y="124"/>
                  <a:pt x="2502" y="126"/>
                </a:cubicBezTo>
                <a:cubicBezTo>
                  <a:pt x="2508" y="128"/>
                  <a:pt x="2510" y="116"/>
                  <a:pt x="2517" y="117"/>
                </a:cubicBezTo>
                <a:cubicBezTo>
                  <a:pt x="2524" y="118"/>
                  <a:pt x="2541" y="125"/>
                  <a:pt x="2544" y="132"/>
                </a:cubicBezTo>
                <a:cubicBezTo>
                  <a:pt x="2547" y="139"/>
                  <a:pt x="2534" y="155"/>
                  <a:pt x="2535" y="162"/>
                </a:cubicBezTo>
                <a:cubicBezTo>
                  <a:pt x="2536" y="169"/>
                  <a:pt x="2549" y="170"/>
                  <a:pt x="2550" y="177"/>
                </a:cubicBezTo>
                <a:cubicBezTo>
                  <a:pt x="2551" y="184"/>
                  <a:pt x="2540" y="197"/>
                  <a:pt x="2541" y="203"/>
                </a:cubicBezTo>
                <a:cubicBezTo>
                  <a:pt x="2542" y="209"/>
                  <a:pt x="2554" y="210"/>
                  <a:pt x="2559" y="212"/>
                </a:cubicBezTo>
                <a:cubicBezTo>
                  <a:pt x="2564" y="214"/>
                  <a:pt x="2569" y="218"/>
                  <a:pt x="2574" y="215"/>
                </a:cubicBezTo>
                <a:cubicBezTo>
                  <a:pt x="2579" y="212"/>
                  <a:pt x="2580" y="200"/>
                  <a:pt x="2588" y="195"/>
                </a:cubicBezTo>
                <a:cubicBezTo>
                  <a:pt x="2596" y="190"/>
                  <a:pt x="2614" y="188"/>
                  <a:pt x="2621" y="183"/>
                </a:cubicBezTo>
                <a:cubicBezTo>
                  <a:pt x="2628" y="178"/>
                  <a:pt x="2626" y="165"/>
                  <a:pt x="2630" y="162"/>
                </a:cubicBezTo>
                <a:cubicBezTo>
                  <a:pt x="2634" y="159"/>
                  <a:pt x="2643" y="163"/>
                  <a:pt x="2645" y="167"/>
                </a:cubicBezTo>
                <a:cubicBezTo>
                  <a:pt x="2647" y="171"/>
                  <a:pt x="2638" y="182"/>
                  <a:pt x="2640" y="188"/>
                </a:cubicBezTo>
                <a:cubicBezTo>
                  <a:pt x="2642" y="194"/>
                  <a:pt x="2658" y="201"/>
                  <a:pt x="2657" y="206"/>
                </a:cubicBezTo>
                <a:cubicBezTo>
                  <a:pt x="2656" y="211"/>
                  <a:pt x="2640" y="216"/>
                  <a:pt x="2636" y="221"/>
                </a:cubicBezTo>
                <a:cubicBezTo>
                  <a:pt x="2632" y="226"/>
                  <a:pt x="2638" y="230"/>
                  <a:pt x="2634" y="237"/>
                </a:cubicBezTo>
                <a:cubicBezTo>
                  <a:pt x="2630" y="244"/>
                  <a:pt x="2624" y="255"/>
                  <a:pt x="2613" y="261"/>
                </a:cubicBezTo>
                <a:cubicBezTo>
                  <a:pt x="2602" y="267"/>
                  <a:pt x="2580" y="269"/>
                  <a:pt x="2570" y="275"/>
                </a:cubicBezTo>
                <a:cubicBezTo>
                  <a:pt x="2560" y="281"/>
                  <a:pt x="2555" y="289"/>
                  <a:pt x="2555" y="296"/>
                </a:cubicBezTo>
                <a:cubicBezTo>
                  <a:pt x="2555" y="303"/>
                  <a:pt x="2567" y="310"/>
                  <a:pt x="2571" y="317"/>
                </a:cubicBezTo>
                <a:cubicBezTo>
                  <a:pt x="2575" y="324"/>
                  <a:pt x="2578" y="328"/>
                  <a:pt x="2580" y="335"/>
                </a:cubicBezTo>
                <a:cubicBezTo>
                  <a:pt x="2582" y="342"/>
                  <a:pt x="2579" y="355"/>
                  <a:pt x="2582" y="360"/>
                </a:cubicBezTo>
                <a:cubicBezTo>
                  <a:pt x="2585" y="365"/>
                  <a:pt x="2595" y="362"/>
                  <a:pt x="2598" y="365"/>
                </a:cubicBezTo>
                <a:cubicBezTo>
                  <a:pt x="2601" y="368"/>
                  <a:pt x="2597" y="375"/>
                  <a:pt x="2603" y="381"/>
                </a:cubicBezTo>
                <a:cubicBezTo>
                  <a:pt x="2609" y="387"/>
                  <a:pt x="2630" y="394"/>
                  <a:pt x="2633" y="401"/>
                </a:cubicBezTo>
                <a:cubicBezTo>
                  <a:pt x="2636" y="408"/>
                  <a:pt x="2622" y="415"/>
                  <a:pt x="2621" y="426"/>
                </a:cubicBezTo>
                <a:cubicBezTo>
                  <a:pt x="2620" y="437"/>
                  <a:pt x="2630" y="455"/>
                  <a:pt x="2627" y="465"/>
                </a:cubicBezTo>
                <a:cubicBezTo>
                  <a:pt x="2624" y="475"/>
                  <a:pt x="2608" y="480"/>
                  <a:pt x="2603" y="489"/>
                </a:cubicBezTo>
                <a:cubicBezTo>
                  <a:pt x="2598" y="498"/>
                  <a:pt x="2603" y="513"/>
                  <a:pt x="2598" y="519"/>
                </a:cubicBezTo>
                <a:cubicBezTo>
                  <a:pt x="2593" y="525"/>
                  <a:pt x="2576" y="522"/>
                  <a:pt x="2570" y="525"/>
                </a:cubicBezTo>
                <a:lnTo>
                  <a:pt x="2561" y="536"/>
                </a:lnTo>
                <a:lnTo>
                  <a:pt x="0" y="533"/>
                </a:lnTo>
                <a:lnTo>
                  <a:pt x="0" y="352"/>
                </a:lnTo>
                <a:close/>
              </a:path>
            </a:pathLst>
          </a:custGeom>
          <a:blipFill rotWithShape="0">
            <a:blip r:embed="rId1">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34"/>
          <p:cNvSpPr/>
          <p:nvPr/>
        </p:nvSpPr>
        <p:spPr>
          <a:xfrm>
            <a:off x="2336760" y="3530520"/>
            <a:ext cx="1563840" cy="1155960"/>
          </a:xfrm>
          <a:custGeom>
            <a:avLst/>
            <a:gdLst>
              <a:gd name="textAreaLeft" fmla="*/ 0 w 1563840"/>
              <a:gd name="textAreaRight" fmla="*/ 1564200 w 1563840"/>
              <a:gd name="textAreaTop" fmla="*/ 0 h 1155960"/>
              <a:gd name="textAreaBottom" fmla="*/ 1156320 h 1155960"/>
            </a:gdLst>
            <a:ahLst/>
            <a:rect l="textAreaLeft" t="textAreaTop" r="textAreaRight" b="textAreaBottom"/>
            <a:pathLst>
              <a:path w="985" h="728">
                <a:moveTo>
                  <a:pt x="0" y="521"/>
                </a:moveTo>
                <a:lnTo>
                  <a:pt x="25" y="502"/>
                </a:lnTo>
                <a:cubicBezTo>
                  <a:pt x="64" y="466"/>
                  <a:pt x="184" y="360"/>
                  <a:pt x="232" y="307"/>
                </a:cubicBezTo>
                <a:cubicBezTo>
                  <a:pt x="280" y="254"/>
                  <a:pt x="290" y="229"/>
                  <a:pt x="315" y="185"/>
                </a:cubicBezTo>
                <a:cubicBezTo>
                  <a:pt x="340" y="141"/>
                  <a:pt x="361" y="74"/>
                  <a:pt x="381" y="44"/>
                </a:cubicBezTo>
                <a:cubicBezTo>
                  <a:pt x="401" y="14"/>
                  <a:pt x="417" y="8"/>
                  <a:pt x="435" y="4"/>
                </a:cubicBezTo>
                <a:cubicBezTo>
                  <a:pt x="453" y="0"/>
                  <a:pt x="470" y="18"/>
                  <a:pt x="487" y="22"/>
                </a:cubicBezTo>
                <a:cubicBezTo>
                  <a:pt x="504" y="26"/>
                  <a:pt x="516" y="10"/>
                  <a:pt x="540" y="29"/>
                </a:cubicBezTo>
                <a:cubicBezTo>
                  <a:pt x="564" y="48"/>
                  <a:pt x="599" y="117"/>
                  <a:pt x="628" y="134"/>
                </a:cubicBezTo>
                <a:cubicBezTo>
                  <a:pt x="657" y="151"/>
                  <a:pt x="689" y="137"/>
                  <a:pt x="714" y="130"/>
                </a:cubicBezTo>
                <a:cubicBezTo>
                  <a:pt x="739" y="123"/>
                  <a:pt x="762" y="100"/>
                  <a:pt x="777" y="92"/>
                </a:cubicBezTo>
                <a:cubicBezTo>
                  <a:pt x="792" y="84"/>
                  <a:pt x="794" y="82"/>
                  <a:pt x="802" y="82"/>
                </a:cubicBezTo>
                <a:cubicBezTo>
                  <a:pt x="810" y="82"/>
                  <a:pt x="819" y="94"/>
                  <a:pt x="826" y="94"/>
                </a:cubicBezTo>
                <a:cubicBezTo>
                  <a:pt x="833" y="94"/>
                  <a:pt x="835" y="76"/>
                  <a:pt x="846" y="85"/>
                </a:cubicBezTo>
                <a:cubicBezTo>
                  <a:pt x="857" y="94"/>
                  <a:pt x="889" y="134"/>
                  <a:pt x="895" y="146"/>
                </a:cubicBezTo>
                <a:lnTo>
                  <a:pt x="882" y="154"/>
                </a:lnTo>
                <a:cubicBezTo>
                  <a:pt x="877" y="159"/>
                  <a:pt x="870" y="171"/>
                  <a:pt x="864" y="178"/>
                </a:cubicBezTo>
                <a:cubicBezTo>
                  <a:pt x="858" y="185"/>
                  <a:pt x="848" y="188"/>
                  <a:pt x="844" y="196"/>
                </a:cubicBezTo>
                <a:cubicBezTo>
                  <a:pt x="840" y="204"/>
                  <a:pt x="832" y="219"/>
                  <a:pt x="840" y="226"/>
                </a:cubicBezTo>
                <a:cubicBezTo>
                  <a:pt x="848" y="233"/>
                  <a:pt x="880" y="238"/>
                  <a:pt x="891" y="236"/>
                </a:cubicBezTo>
                <a:cubicBezTo>
                  <a:pt x="902" y="234"/>
                  <a:pt x="903" y="221"/>
                  <a:pt x="904" y="215"/>
                </a:cubicBezTo>
                <a:cubicBezTo>
                  <a:pt x="905" y="209"/>
                  <a:pt x="896" y="205"/>
                  <a:pt x="898" y="199"/>
                </a:cubicBezTo>
                <a:cubicBezTo>
                  <a:pt x="900" y="193"/>
                  <a:pt x="910" y="182"/>
                  <a:pt x="915" y="179"/>
                </a:cubicBezTo>
                <a:cubicBezTo>
                  <a:pt x="920" y="176"/>
                  <a:pt x="927" y="178"/>
                  <a:pt x="931" y="179"/>
                </a:cubicBezTo>
                <a:cubicBezTo>
                  <a:pt x="935" y="180"/>
                  <a:pt x="939" y="175"/>
                  <a:pt x="942" y="187"/>
                </a:cubicBezTo>
                <a:cubicBezTo>
                  <a:pt x="945" y="199"/>
                  <a:pt x="944" y="233"/>
                  <a:pt x="949" y="250"/>
                </a:cubicBezTo>
                <a:cubicBezTo>
                  <a:pt x="954" y="267"/>
                  <a:pt x="972" y="280"/>
                  <a:pt x="975" y="290"/>
                </a:cubicBezTo>
                <a:cubicBezTo>
                  <a:pt x="978" y="300"/>
                  <a:pt x="967" y="305"/>
                  <a:pt x="967" y="313"/>
                </a:cubicBezTo>
                <a:cubicBezTo>
                  <a:pt x="967" y="321"/>
                  <a:pt x="983" y="329"/>
                  <a:pt x="972" y="341"/>
                </a:cubicBezTo>
                <a:cubicBezTo>
                  <a:pt x="961" y="353"/>
                  <a:pt x="908" y="373"/>
                  <a:pt x="901" y="388"/>
                </a:cubicBezTo>
                <a:cubicBezTo>
                  <a:pt x="894" y="403"/>
                  <a:pt x="928" y="419"/>
                  <a:pt x="931" y="431"/>
                </a:cubicBezTo>
                <a:cubicBezTo>
                  <a:pt x="934" y="443"/>
                  <a:pt x="925" y="450"/>
                  <a:pt x="922" y="461"/>
                </a:cubicBezTo>
                <a:cubicBezTo>
                  <a:pt x="919" y="472"/>
                  <a:pt x="916" y="486"/>
                  <a:pt x="913" y="496"/>
                </a:cubicBezTo>
                <a:cubicBezTo>
                  <a:pt x="910" y="506"/>
                  <a:pt x="893" y="510"/>
                  <a:pt x="903" y="521"/>
                </a:cubicBezTo>
                <a:cubicBezTo>
                  <a:pt x="913" y="532"/>
                  <a:pt x="967" y="554"/>
                  <a:pt x="976" y="565"/>
                </a:cubicBezTo>
                <a:cubicBezTo>
                  <a:pt x="985" y="576"/>
                  <a:pt x="962" y="580"/>
                  <a:pt x="958" y="590"/>
                </a:cubicBezTo>
                <a:cubicBezTo>
                  <a:pt x="954" y="600"/>
                  <a:pt x="956" y="620"/>
                  <a:pt x="951" y="625"/>
                </a:cubicBezTo>
                <a:cubicBezTo>
                  <a:pt x="946" y="630"/>
                  <a:pt x="936" y="620"/>
                  <a:pt x="930" y="622"/>
                </a:cubicBezTo>
                <a:cubicBezTo>
                  <a:pt x="924" y="624"/>
                  <a:pt x="918" y="634"/>
                  <a:pt x="912" y="637"/>
                </a:cubicBezTo>
                <a:cubicBezTo>
                  <a:pt x="906" y="640"/>
                  <a:pt x="895" y="639"/>
                  <a:pt x="891" y="643"/>
                </a:cubicBezTo>
                <a:cubicBezTo>
                  <a:pt x="887" y="647"/>
                  <a:pt x="890" y="659"/>
                  <a:pt x="885" y="664"/>
                </a:cubicBezTo>
                <a:cubicBezTo>
                  <a:pt x="880" y="669"/>
                  <a:pt x="867" y="670"/>
                  <a:pt x="858" y="674"/>
                </a:cubicBezTo>
                <a:cubicBezTo>
                  <a:pt x="849" y="678"/>
                  <a:pt x="839" y="687"/>
                  <a:pt x="831" y="691"/>
                </a:cubicBezTo>
                <a:cubicBezTo>
                  <a:pt x="823" y="695"/>
                  <a:pt x="818" y="698"/>
                  <a:pt x="808" y="698"/>
                </a:cubicBezTo>
                <a:cubicBezTo>
                  <a:pt x="798" y="698"/>
                  <a:pt x="780" y="695"/>
                  <a:pt x="768" y="689"/>
                </a:cubicBezTo>
                <a:cubicBezTo>
                  <a:pt x="756" y="683"/>
                  <a:pt x="748" y="667"/>
                  <a:pt x="738" y="662"/>
                </a:cubicBezTo>
                <a:cubicBezTo>
                  <a:pt x="728" y="657"/>
                  <a:pt x="715" y="666"/>
                  <a:pt x="708" y="661"/>
                </a:cubicBezTo>
                <a:cubicBezTo>
                  <a:pt x="701" y="656"/>
                  <a:pt x="698" y="640"/>
                  <a:pt x="693" y="634"/>
                </a:cubicBezTo>
                <a:cubicBezTo>
                  <a:pt x="688" y="628"/>
                  <a:pt x="677" y="629"/>
                  <a:pt x="679" y="626"/>
                </a:cubicBezTo>
                <a:cubicBezTo>
                  <a:pt x="681" y="623"/>
                  <a:pt x="704" y="619"/>
                  <a:pt x="705" y="614"/>
                </a:cubicBezTo>
                <a:cubicBezTo>
                  <a:pt x="706" y="609"/>
                  <a:pt x="691" y="596"/>
                  <a:pt x="684" y="596"/>
                </a:cubicBezTo>
                <a:cubicBezTo>
                  <a:pt x="677" y="596"/>
                  <a:pt x="670" y="612"/>
                  <a:pt x="663" y="614"/>
                </a:cubicBezTo>
                <a:cubicBezTo>
                  <a:pt x="656" y="616"/>
                  <a:pt x="648" y="607"/>
                  <a:pt x="642" y="607"/>
                </a:cubicBezTo>
                <a:cubicBezTo>
                  <a:pt x="636" y="607"/>
                  <a:pt x="634" y="617"/>
                  <a:pt x="627" y="614"/>
                </a:cubicBezTo>
                <a:cubicBezTo>
                  <a:pt x="620" y="611"/>
                  <a:pt x="608" y="591"/>
                  <a:pt x="600" y="587"/>
                </a:cubicBezTo>
                <a:cubicBezTo>
                  <a:pt x="592" y="583"/>
                  <a:pt x="585" y="591"/>
                  <a:pt x="577" y="590"/>
                </a:cubicBezTo>
                <a:cubicBezTo>
                  <a:pt x="569" y="589"/>
                  <a:pt x="556" y="581"/>
                  <a:pt x="549" y="581"/>
                </a:cubicBezTo>
                <a:cubicBezTo>
                  <a:pt x="542" y="581"/>
                  <a:pt x="537" y="586"/>
                  <a:pt x="532" y="587"/>
                </a:cubicBezTo>
                <a:cubicBezTo>
                  <a:pt x="527" y="588"/>
                  <a:pt x="524" y="581"/>
                  <a:pt x="517" y="584"/>
                </a:cubicBezTo>
                <a:cubicBezTo>
                  <a:pt x="510" y="587"/>
                  <a:pt x="498" y="604"/>
                  <a:pt x="492" y="607"/>
                </a:cubicBezTo>
                <a:cubicBezTo>
                  <a:pt x="486" y="610"/>
                  <a:pt x="490" y="597"/>
                  <a:pt x="481" y="602"/>
                </a:cubicBezTo>
                <a:cubicBezTo>
                  <a:pt x="472" y="607"/>
                  <a:pt x="442" y="627"/>
                  <a:pt x="435" y="637"/>
                </a:cubicBezTo>
                <a:cubicBezTo>
                  <a:pt x="428" y="647"/>
                  <a:pt x="441" y="654"/>
                  <a:pt x="441" y="661"/>
                </a:cubicBezTo>
                <a:cubicBezTo>
                  <a:pt x="441" y="668"/>
                  <a:pt x="429" y="673"/>
                  <a:pt x="432" y="680"/>
                </a:cubicBezTo>
                <a:cubicBezTo>
                  <a:pt x="435" y="687"/>
                  <a:pt x="460" y="697"/>
                  <a:pt x="462" y="703"/>
                </a:cubicBezTo>
                <a:cubicBezTo>
                  <a:pt x="464" y="709"/>
                  <a:pt x="451" y="718"/>
                  <a:pt x="445" y="719"/>
                </a:cubicBezTo>
                <a:cubicBezTo>
                  <a:pt x="439" y="720"/>
                  <a:pt x="436" y="709"/>
                  <a:pt x="426" y="710"/>
                </a:cubicBezTo>
                <a:cubicBezTo>
                  <a:pt x="416" y="711"/>
                  <a:pt x="400" y="728"/>
                  <a:pt x="387" y="725"/>
                </a:cubicBezTo>
                <a:cubicBezTo>
                  <a:pt x="374" y="722"/>
                  <a:pt x="366" y="701"/>
                  <a:pt x="349" y="694"/>
                </a:cubicBezTo>
                <a:cubicBezTo>
                  <a:pt x="332" y="687"/>
                  <a:pt x="301" y="692"/>
                  <a:pt x="286" y="682"/>
                </a:cubicBezTo>
                <a:cubicBezTo>
                  <a:pt x="271" y="672"/>
                  <a:pt x="267" y="646"/>
                  <a:pt x="258" y="637"/>
                </a:cubicBezTo>
                <a:cubicBezTo>
                  <a:pt x="249" y="628"/>
                  <a:pt x="237" y="631"/>
                  <a:pt x="229" y="626"/>
                </a:cubicBezTo>
                <a:cubicBezTo>
                  <a:pt x="221" y="621"/>
                  <a:pt x="218" y="606"/>
                  <a:pt x="211" y="604"/>
                </a:cubicBezTo>
                <a:cubicBezTo>
                  <a:pt x="204" y="602"/>
                  <a:pt x="192" y="606"/>
                  <a:pt x="186" y="611"/>
                </a:cubicBezTo>
                <a:cubicBezTo>
                  <a:pt x="180" y="616"/>
                  <a:pt x="180" y="632"/>
                  <a:pt x="172" y="631"/>
                </a:cubicBezTo>
                <a:cubicBezTo>
                  <a:pt x="164" y="630"/>
                  <a:pt x="152" y="612"/>
                  <a:pt x="138" y="602"/>
                </a:cubicBezTo>
                <a:cubicBezTo>
                  <a:pt x="124" y="592"/>
                  <a:pt x="103" y="580"/>
                  <a:pt x="87" y="574"/>
                </a:cubicBezTo>
                <a:cubicBezTo>
                  <a:pt x="71" y="568"/>
                  <a:pt x="54" y="572"/>
                  <a:pt x="39" y="563"/>
                </a:cubicBezTo>
                <a:cubicBezTo>
                  <a:pt x="24" y="554"/>
                  <a:pt x="0" y="521"/>
                  <a:pt x="0" y="521"/>
                </a:cubicBezTo>
                <a:close/>
              </a:path>
            </a:pathLst>
          </a:cu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35"/>
          <p:cNvSpPr/>
          <p:nvPr/>
        </p:nvSpPr>
        <p:spPr>
          <a:xfrm>
            <a:off x="2066760" y="2055960"/>
            <a:ext cx="2144880" cy="2303280"/>
          </a:xfrm>
          <a:custGeom>
            <a:avLst/>
            <a:gdLst>
              <a:gd name="textAreaLeft" fmla="*/ 0 w 2144880"/>
              <a:gd name="textAreaRight" fmla="*/ 2145240 w 2144880"/>
              <a:gd name="textAreaTop" fmla="*/ 0 h 2303280"/>
              <a:gd name="textAreaBottom" fmla="*/ 2303640 h 2303280"/>
            </a:gdLst>
            <a:ahLst/>
            <a:rect l="textAreaLeft" t="textAreaTop" r="textAreaRight" b="textAreaBottom"/>
            <a:pathLst>
              <a:path w="1351" h="1451">
                <a:moveTo>
                  <a:pt x="1332" y="73"/>
                </a:moveTo>
                <a:cubicBezTo>
                  <a:pt x="1330" y="60"/>
                  <a:pt x="1328" y="42"/>
                  <a:pt x="1302" y="31"/>
                </a:cubicBezTo>
                <a:cubicBezTo>
                  <a:pt x="1276" y="20"/>
                  <a:pt x="1213" y="0"/>
                  <a:pt x="1178" y="9"/>
                </a:cubicBezTo>
                <a:cubicBezTo>
                  <a:pt x="1143" y="18"/>
                  <a:pt x="1107" y="62"/>
                  <a:pt x="1090" y="83"/>
                </a:cubicBezTo>
                <a:cubicBezTo>
                  <a:pt x="1073" y="104"/>
                  <a:pt x="1085" y="120"/>
                  <a:pt x="1078" y="135"/>
                </a:cubicBezTo>
                <a:cubicBezTo>
                  <a:pt x="1071" y="150"/>
                  <a:pt x="1057" y="163"/>
                  <a:pt x="1046" y="173"/>
                </a:cubicBezTo>
                <a:cubicBezTo>
                  <a:pt x="1035" y="183"/>
                  <a:pt x="1038" y="171"/>
                  <a:pt x="1012" y="193"/>
                </a:cubicBezTo>
                <a:cubicBezTo>
                  <a:pt x="986" y="215"/>
                  <a:pt x="914" y="285"/>
                  <a:pt x="888" y="307"/>
                </a:cubicBezTo>
                <a:cubicBezTo>
                  <a:pt x="862" y="329"/>
                  <a:pt x="868" y="323"/>
                  <a:pt x="858" y="323"/>
                </a:cubicBezTo>
                <a:cubicBezTo>
                  <a:pt x="848" y="323"/>
                  <a:pt x="840" y="308"/>
                  <a:pt x="830" y="307"/>
                </a:cubicBezTo>
                <a:cubicBezTo>
                  <a:pt x="820" y="306"/>
                  <a:pt x="813" y="317"/>
                  <a:pt x="798" y="319"/>
                </a:cubicBezTo>
                <a:cubicBezTo>
                  <a:pt x="783" y="321"/>
                  <a:pt x="753" y="315"/>
                  <a:pt x="742" y="321"/>
                </a:cubicBezTo>
                <a:cubicBezTo>
                  <a:pt x="731" y="327"/>
                  <a:pt x="736" y="345"/>
                  <a:pt x="732" y="357"/>
                </a:cubicBezTo>
                <a:cubicBezTo>
                  <a:pt x="728" y="369"/>
                  <a:pt x="720" y="381"/>
                  <a:pt x="716" y="393"/>
                </a:cubicBezTo>
                <a:cubicBezTo>
                  <a:pt x="712" y="405"/>
                  <a:pt x="715" y="421"/>
                  <a:pt x="710" y="429"/>
                </a:cubicBezTo>
                <a:cubicBezTo>
                  <a:pt x="705" y="437"/>
                  <a:pt x="692" y="434"/>
                  <a:pt x="684" y="439"/>
                </a:cubicBezTo>
                <a:cubicBezTo>
                  <a:pt x="676" y="444"/>
                  <a:pt x="667" y="454"/>
                  <a:pt x="660" y="457"/>
                </a:cubicBezTo>
                <a:cubicBezTo>
                  <a:pt x="653" y="460"/>
                  <a:pt x="646" y="454"/>
                  <a:pt x="640" y="455"/>
                </a:cubicBezTo>
                <a:cubicBezTo>
                  <a:pt x="634" y="456"/>
                  <a:pt x="628" y="463"/>
                  <a:pt x="622" y="463"/>
                </a:cubicBezTo>
                <a:cubicBezTo>
                  <a:pt x="616" y="463"/>
                  <a:pt x="617" y="456"/>
                  <a:pt x="606" y="457"/>
                </a:cubicBezTo>
                <a:cubicBezTo>
                  <a:pt x="595" y="458"/>
                  <a:pt x="569" y="465"/>
                  <a:pt x="558" y="471"/>
                </a:cubicBezTo>
                <a:cubicBezTo>
                  <a:pt x="547" y="477"/>
                  <a:pt x="536" y="487"/>
                  <a:pt x="540" y="493"/>
                </a:cubicBezTo>
                <a:cubicBezTo>
                  <a:pt x="544" y="499"/>
                  <a:pt x="575" y="499"/>
                  <a:pt x="584" y="505"/>
                </a:cubicBezTo>
                <a:cubicBezTo>
                  <a:pt x="593" y="511"/>
                  <a:pt x="600" y="525"/>
                  <a:pt x="596" y="527"/>
                </a:cubicBezTo>
                <a:cubicBezTo>
                  <a:pt x="592" y="529"/>
                  <a:pt x="568" y="519"/>
                  <a:pt x="558" y="519"/>
                </a:cubicBezTo>
                <a:cubicBezTo>
                  <a:pt x="548" y="519"/>
                  <a:pt x="543" y="529"/>
                  <a:pt x="536" y="529"/>
                </a:cubicBezTo>
                <a:cubicBezTo>
                  <a:pt x="529" y="529"/>
                  <a:pt x="525" y="522"/>
                  <a:pt x="518" y="521"/>
                </a:cubicBezTo>
                <a:cubicBezTo>
                  <a:pt x="511" y="520"/>
                  <a:pt x="501" y="522"/>
                  <a:pt x="494" y="521"/>
                </a:cubicBezTo>
                <a:cubicBezTo>
                  <a:pt x="487" y="520"/>
                  <a:pt x="481" y="519"/>
                  <a:pt x="474" y="515"/>
                </a:cubicBezTo>
                <a:cubicBezTo>
                  <a:pt x="467" y="511"/>
                  <a:pt x="461" y="500"/>
                  <a:pt x="450" y="495"/>
                </a:cubicBezTo>
                <a:cubicBezTo>
                  <a:pt x="439" y="490"/>
                  <a:pt x="414" y="491"/>
                  <a:pt x="406" y="487"/>
                </a:cubicBezTo>
                <a:cubicBezTo>
                  <a:pt x="398" y="483"/>
                  <a:pt x="405" y="475"/>
                  <a:pt x="402" y="469"/>
                </a:cubicBezTo>
                <a:cubicBezTo>
                  <a:pt x="399" y="463"/>
                  <a:pt x="389" y="458"/>
                  <a:pt x="388" y="451"/>
                </a:cubicBezTo>
                <a:cubicBezTo>
                  <a:pt x="387" y="444"/>
                  <a:pt x="394" y="429"/>
                  <a:pt x="394" y="425"/>
                </a:cubicBezTo>
                <a:cubicBezTo>
                  <a:pt x="394" y="421"/>
                  <a:pt x="391" y="431"/>
                  <a:pt x="386" y="429"/>
                </a:cubicBezTo>
                <a:cubicBezTo>
                  <a:pt x="381" y="427"/>
                  <a:pt x="366" y="412"/>
                  <a:pt x="362" y="411"/>
                </a:cubicBezTo>
                <a:cubicBezTo>
                  <a:pt x="358" y="410"/>
                  <a:pt x="364" y="419"/>
                  <a:pt x="362" y="423"/>
                </a:cubicBezTo>
                <a:cubicBezTo>
                  <a:pt x="360" y="427"/>
                  <a:pt x="350" y="431"/>
                  <a:pt x="350" y="437"/>
                </a:cubicBezTo>
                <a:cubicBezTo>
                  <a:pt x="350" y="443"/>
                  <a:pt x="361" y="450"/>
                  <a:pt x="362" y="457"/>
                </a:cubicBezTo>
                <a:cubicBezTo>
                  <a:pt x="363" y="464"/>
                  <a:pt x="356" y="471"/>
                  <a:pt x="358" y="477"/>
                </a:cubicBezTo>
                <a:cubicBezTo>
                  <a:pt x="360" y="483"/>
                  <a:pt x="373" y="490"/>
                  <a:pt x="374" y="495"/>
                </a:cubicBezTo>
                <a:cubicBezTo>
                  <a:pt x="375" y="500"/>
                  <a:pt x="365" y="504"/>
                  <a:pt x="364" y="509"/>
                </a:cubicBezTo>
                <a:cubicBezTo>
                  <a:pt x="363" y="514"/>
                  <a:pt x="368" y="520"/>
                  <a:pt x="366" y="527"/>
                </a:cubicBezTo>
                <a:cubicBezTo>
                  <a:pt x="364" y="534"/>
                  <a:pt x="354" y="544"/>
                  <a:pt x="354" y="553"/>
                </a:cubicBezTo>
                <a:cubicBezTo>
                  <a:pt x="354" y="562"/>
                  <a:pt x="365" y="572"/>
                  <a:pt x="364" y="579"/>
                </a:cubicBezTo>
                <a:cubicBezTo>
                  <a:pt x="363" y="586"/>
                  <a:pt x="354" y="595"/>
                  <a:pt x="350" y="595"/>
                </a:cubicBezTo>
                <a:cubicBezTo>
                  <a:pt x="346" y="595"/>
                  <a:pt x="346" y="585"/>
                  <a:pt x="338" y="581"/>
                </a:cubicBezTo>
                <a:cubicBezTo>
                  <a:pt x="330" y="577"/>
                  <a:pt x="312" y="576"/>
                  <a:pt x="300" y="571"/>
                </a:cubicBezTo>
                <a:cubicBezTo>
                  <a:pt x="288" y="566"/>
                  <a:pt x="277" y="553"/>
                  <a:pt x="266" y="551"/>
                </a:cubicBezTo>
                <a:cubicBezTo>
                  <a:pt x="255" y="549"/>
                  <a:pt x="242" y="558"/>
                  <a:pt x="234" y="557"/>
                </a:cubicBezTo>
                <a:cubicBezTo>
                  <a:pt x="226" y="556"/>
                  <a:pt x="224" y="554"/>
                  <a:pt x="220" y="545"/>
                </a:cubicBezTo>
                <a:cubicBezTo>
                  <a:pt x="216" y="536"/>
                  <a:pt x="216" y="512"/>
                  <a:pt x="212" y="505"/>
                </a:cubicBezTo>
                <a:cubicBezTo>
                  <a:pt x="208" y="498"/>
                  <a:pt x="202" y="507"/>
                  <a:pt x="196" y="505"/>
                </a:cubicBezTo>
                <a:cubicBezTo>
                  <a:pt x="190" y="503"/>
                  <a:pt x="184" y="494"/>
                  <a:pt x="178" y="495"/>
                </a:cubicBezTo>
                <a:cubicBezTo>
                  <a:pt x="172" y="496"/>
                  <a:pt x="168" y="512"/>
                  <a:pt x="162" y="513"/>
                </a:cubicBezTo>
                <a:cubicBezTo>
                  <a:pt x="156" y="514"/>
                  <a:pt x="150" y="502"/>
                  <a:pt x="144" y="503"/>
                </a:cubicBezTo>
                <a:cubicBezTo>
                  <a:pt x="138" y="504"/>
                  <a:pt x="132" y="518"/>
                  <a:pt x="124" y="517"/>
                </a:cubicBezTo>
                <a:cubicBezTo>
                  <a:pt x="116" y="516"/>
                  <a:pt x="115" y="498"/>
                  <a:pt x="96" y="499"/>
                </a:cubicBezTo>
                <a:cubicBezTo>
                  <a:pt x="77" y="500"/>
                  <a:pt x="24" y="515"/>
                  <a:pt x="12" y="521"/>
                </a:cubicBezTo>
                <a:cubicBezTo>
                  <a:pt x="0" y="527"/>
                  <a:pt x="19" y="534"/>
                  <a:pt x="24" y="535"/>
                </a:cubicBezTo>
                <a:cubicBezTo>
                  <a:pt x="29" y="536"/>
                  <a:pt x="35" y="525"/>
                  <a:pt x="41" y="525"/>
                </a:cubicBezTo>
                <a:cubicBezTo>
                  <a:pt x="47" y="525"/>
                  <a:pt x="53" y="529"/>
                  <a:pt x="60" y="535"/>
                </a:cubicBezTo>
                <a:cubicBezTo>
                  <a:pt x="67" y="541"/>
                  <a:pt x="89" y="561"/>
                  <a:pt x="84" y="563"/>
                </a:cubicBezTo>
                <a:cubicBezTo>
                  <a:pt x="79" y="565"/>
                  <a:pt x="38" y="547"/>
                  <a:pt x="30" y="547"/>
                </a:cubicBezTo>
                <a:cubicBezTo>
                  <a:pt x="22" y="547"/>
                  <a:pt x="30" y="557"/>
                  <a:pt x="36" y="561"/>
                </a:cubicBezTo>
                <a:cubicBezTo>
                  <a:pt x="42" y="565"/>
                  <a:pt x="65" y="567"/>
                  <a:pt x="68" y="571"/>
                </a:cubicBezTo>
                <a:cubicBezTo>
                  <a:pt x="71" y="575"/>
                  <a:pt x="59" y="583"/>
                  <a:pt x="53" y="583"/>
                </a:cubicBezTo>
                <a:cubicBezTo>
                  <a:pt x="47" y="583"/>
                  <a:pt x="34" y="568"/>
                  <a:pt x="29" y="568"/>
                </a:cubicBezTo>
                <a:cubicBezTo>
                  <a:pt x="24" y="568"/>
                  <a:pt x="18" y="576"/>
                  <a:pt x="22" y="585"/>
                </a:cubicBezTo>
                <a:cubicBezTo>
                  <a:pt x="26" y="594"/>
                  <a:pt x="27" y="592"/>
                  <a:pt x="56" y="622"/>
                </a:cubicBezTo>
                <a:cubicBezTo>
                  <a:pt x="85" y="652"/>
                  <a:pt x="165" y="719"/>
                  <a:pt x="196" y="767"/>
                </a:cubicBezTo>
                <a:cubicBezTo>
                  <a:pt x="227" y="815"/>
                  <a:pt x="233" y="856"/>
                  <a:pt x="240" y="913"/>
                </a:cubicBezTo>
                <a:cubicBezTo>
                  <a:pt x="247" y="970"/>
                  <a:pt x="255" y="1035"/>
                  <a:pt x="238" y="1107"/>
                </a:cubicBezTo>
                <a:cubicBezTo>
                  <a:pt x="221" y="1179"/>
                  <a:pt x="156" y="1298"/>
                  <a:pt x="136" y="1343"/>
                </a:cubicBezTo>
                <a:lnTo>
                  <a:pt x="116" y="1375"/>
                </a:lnTo>
                <a:lnTo>
                  <a:pt x="134" y="1387"/>
                </a:lnTo>
                <a:lnTo>
                  <a:pt x="134" y="1435"/>
                </a:lnTo>
                <a:lnTo>
                  <a:pt x="172" y="1451"/>
                </a:lnTo>
                <a:cubicBezTo>
                  <a:pt x="221" y="1413"/>
                  <a:pt x="364" y="1288"/>
                  <a:pt x="430" y="1205"/>
                </a:cubicBezTo>
                <a:cubicBezTo>
                  <a:pt x="496" y="1122"/>
                  <a:pt x="528" y="994"/>
                  <a:pt x="566" y="952"/>
                </a:cubicBezTo>
                <a:cubicBezTo>
                  <a:pt x="604" y="910"/>
                  <a:pt x="635" y="950"/>
                  <a:pt x="659" y="951"/>
                </a:cubicBezTo>
                <a:cubicBezTo>
                  <a:pt x="683" y="952"/>
                  <a:pt x="688" y="941"/>
                  <a:pt x="710" y="959"/>
                </a:cubicBezTo>
                <a:cubicBezTo>
                  <a:pt x="732" y="977"/>
                  <a:pt x="764" y="1041"/>
                  <a:pt x="792" y="1059"/>
                </a:cubicBezTo>
                <a:cubicBezTo>
                  <a:pt x="820" y="1077"/>
                  <a:pt x="850" y="1073"/>
                  <a:pt x="878" y="1065"/>
                </a:cubicBezTo>
                <a:cubicBezTo>
                  <a:pt x="906" y="1057"/>
                  <a:pt x="943" y="1018"/>
                  <a:pt x="962" y="1011"/>
                </a:cubicBezTo>
                <a:cubicBezTo>
                  <a:pt x="981" y="1004"/>
                  <a:pt x="984" y="1024"/>
                  <a:pt x="994" y="1025"/>
                </a:cubicBezTo>
                <a:cubicBezTo>
                  <a:pt x="1004" y="1026"/>
                  <a:pt x="1009" y="1010"/>
                  <a:pt x="1020" y="1017"/>
                </a:cubicBezTo>
                <a:cubicBezTo>
                  <a:pt x="1031" y="1024"/>
                  <a:pt x="1049" y="1064"/>
                  <a:pt x="1062" y="1067"/>
                </a:cubicBezTo>
                <a:cubicBezTo>
                  <a:pt x="1075" y="1070"/>
                  <a:pt x="1086" y="1040"/>
                  <a:pt x="1096" y="1033"/>
                </a:cubicBezTo>
                <a:cubicBezTo>
                  <a:pt x="1106" y="1026"/>
                  <a:pt x="1111" y="1031"/>
                  <a:pt x="1122" y="1025"/>
                </a:cubicBezTo>
                <a:cubicBezTo>
                  <a:pt x="1133" y="1019"/>
                  <a:pt x="1155" y="1006"/>
                  <a:pt x="1164" y="997"/>
                </a:cubicBezTo>
                <a:cubicBezTo>
                  <a:pt x="1173" y="988"/>
                  <a:pt x="1167" y="975"/>
                  <a:pt x="1174" y="971"/>
                </a:cubicBezTo>
                <a:cubicBezTo>
                  <a:pt x="1181" y="967"/>
                  <a:pt x="1199" y="978"/>
                  <a:pt x="1208" y="973"/>
                </a:cubicBezTo>
                <a:cubicBezTo>
                  <a:pt x="1217" y="968"/>
                  <a:pt x="1223" y="944"/>
                  <a:pt x="1228" y="941"/>
                </a:cubicBezTo>
                <a:cubicBezTo>
                  <a:pt x="1233" y="938"/>
                  <a:pt x="1239" y="962"/>
                  <a:pt x="1240" y="955"/>
                </a:cubicBezTo>
                <a:cubicBezTo>
                  <a:pt x="1241" y="948"/>
                  <a:pt x="1235" y="921"/>
                  <a:pt x="1236" y="899"/>
                </a:cubicBezTo>
                <a:cubicBezTo>
                  <a:pt x="1237" y="877"/>
                  <a:pt x="1236" y="843"/>
                  <a:pt x="1244" y="825"/>
                </a:cubicBezTo>
                <a:cubicBezTo>
                  <a:pt x="1252" y="807"/>
                  <a:pt x="1279" y="800"/>
                  <a:pt x="1286" y="789"/>
                </a:cubicBezTo>
                <a:cubicBezTo>
                  <a:pt x="1293" y="778"/>
                  <a:pt x="1276" y="770"/>
                  <a:pt x="1284" y="757"/>
                </a:cubicBezTo>
                <a:cubicBezTo>
                  <a:pt x="1292" y="744"/>
                  <a:pt x="1351" y="731"/>
                  <a:pt x="1332" y="713"/>
                </a:cubicBezTo>
                <a:cubicBezTo>
                  <a:pt x="1313" y="695"/>
                  <a:pt x="1194" y="670"/>
                  <a:pt x="1170" y="651"/>
                </a:cubicBezTo>
                <a:cubicBezTo>
                  <a:pt x="1146" y="632"/>
                  <a:pt x="1189" y="618"/>
                  <a:pt x="1186" y="597"/>
                </a:cubicBezTo>
                <a:cubicBezTo>
                  <a:pt x="1183" y="576"/>
                  <a:pt x="1154" y="549"/>
                  <a:pt x="1152" y="523"/>
                </a:cubicBezTo>
                <a:cubicBezTo>
                  <a:pt x="1150" y="497"/>
                  <a:pt x="1177" y="460"/>
                  <a:pt x="1176" y="443"/>
                </a:cubicBezTo>
                <a:cubicBezTo>
                  <a:pt x="1175" y="426"/>
                  <a:pt x="1145" y="431"/>
                  <a:pt x="1146" y="420"/>
                </a:cubicBezTo>
                <a:cubicBezTo>
                  <a:pt x="1147" y="409"/>
                  <a:pt x="1176" y="399"/>
                  <a:pt x="1182" y="375"/>
                </a:cubicBezTo>
                <a:cubicBezTo>
                  <a:pt x="1188" y="351"/>
                  <a:pt x="1174" y="293"/>
                  <a:pt x="1182" y="275"/>
                </a:cubicBezTo>
                <a:cubicBezTo>
                  <a:pt x="1190" y="257"/>
                  <a:pt x="1210" y="278"/>
                  <a:pt x="1230" y="269"/>
                </a:cubicBezTo>
                <a:cubicBezTo>
                  <a:pt x="1250" y="260"/>
                  <a:pt x="1294" y="235"/>
                  <a:pt x="1300" y="219"/>
                </a:cubicBezTo>
                <a:cubicBezTo>
                  <a:pt x="1306" y="203"/>
                  <a:pt x="1269" y="183"/>
                  <a:pt x="1266" y="171"/>
                </a:cubicBezTo>
                <a:cubicBezTo>
                  <a:pt x="1263" y="159"/>
                  <a:pt x="1274" y="151"/>
                  <a:pt x="1282" y="147"/>
                </a:cubicBezTo>
                <a:cubicBezTo>
                  <a:pt x="1290" y="143"/>
                  <a:pt x="1308" y="153"/>
                  <a:pt x="1314" y="147"/>
                </a:cubicBezTo>
                <a:cubicBezTo>
                  <a:pt x="1320" y="141"/>
                  <a:pt x="1313" y="123"/>
                  <a:pt x="1316" y="111"/>
                </a:cubicBezTo>
                <a:cubicBezTo>
                  <a:pt x="1319" y="99"/>
                  <a:pt x="1335" y="83"/>
                  <a:pt x="1332" y="73"/>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36"/>
          <p:cNvSpPr/>
          <p:nvPr/>
        </p:nvSpPr>
        <p:spPr>
          <a:xfrm>
            <a:off x="4446720" y="1154160"/>
            <a:ext cx="392040" cy="693720"/>
          </a:xfrm>
          <a:custGeom>
            <a:avLst/>
            <a:gdLst>
              <a:gd name="textAreaLeft" fmla="*/ 0 w 392040"/>
              <a:gd name="textAreaRight" fmla="*/ 392400 w 392040"/>
              <a:gd name="textAreaTop" fmla="*/ 0 h 693720"/>
              <a:gd name="textAreaBottom" fmla="*/ 694080 h 693720"/>
            </a:gdLst>
            <a:ahLst/>
            <a:rect l="textAreaLeft" t="textAreaTop" r="textAreaRight" b="textAreaBottom"/>
            <a:pathLst>
              <a:path w="247" h="437">
                <a:moveTo>
                  <a:pt x="115" y="437"/>
                </a:moveTo>
                <a:lnTo>
                  <a:pt x="24" y="391"/>
                </a:lnTo>
                <a:lnTo>
                  <a:pt x="25" y="365"/>
                </a:lnTo>
                <a:cubicBezTo>
                  <a:pt x="26" y="358"/>
                  <a:pt x="36" y="357"/>
                  <a:pt x="33" y="350"/>
                </a:cubicBezTo>
                <a:cubicBezTo>
                  <a:pt x="30" y="343"/>
                  <a:pt x="11" y="337"/>
                  <a:pt x="6" y="322"/>
                </a:cubicBezTo>
                <a:cubicBezTo>
                  <a:pt x="1" y="307"/>
                  <a:pt x="0" y="277"/>
                  <a:pt x="0" y="260"/>
                </a:cubicBezTo>
                <a:cubicBezTo>
                  <a:pt x="0" y="243"/>
                  <a:pt x="2" y="240"/>
                  <a:pt x="6" y="217"/>
                </a:cubicBezTo>
                <a:cubicBezTo>
                  <a:pt x="10" y="194"/>
                  <a:pt x="13" y="144"/>
                  <a:pt x="24" y="121"/>
                </a:cubicBezTo>
                <a:cubicBezTo>
                  <a:pt x="35" y="98"/>
                  <a:pt x="56" y="83"/>
                  <a:pt x="72" y="77"/>
                </a:cubicBezTo>
                <a:cubicBezTo>
                  <a:pt x="88" y="71"/>
                  <a:pt x="105" y="79"/>
                  <a:pt x="120" y="83"/>
                </a:cubicBezTo>
                <a:cubicBezTo>
                  <a:pt x="135" y="87"/>
                  <a:pt x="153" y="103"/>
                  <a:pt x="163" y="100"/>
                </a:cubicBezTo>
                <a:cubicBezTo>
                  <a:pt x="173" y="97"/>
                  <a:pt x="173" y="74"/>
                  <a:pt x="178" y="67"/>
                </a:cubicBezTo>
                <a:cubicBezTo>
                  <a:pt x="183" y="60"/>
                  <a:pt x="193" y="64"/>
                  <a:pt x="196" y="59"/>
                </a:cubicBezTo>
                <a:cubicBezTo>
                  <a:pt x="199" y="54"/>
                  <a:pt x="192" y="43"/>
                  <a:pt x="196" y="38"/>
                </a:cubicBezTo>
                <a:cubicBezTo>
                  <a:pt x="200" y="33"/>
                  <a:pt x="215" y="35"/>
                  <a:pt x="223" y="29"/>
                </a:cubicBezTo>
                <a:cubicBezTo>
                  <a:pt x="231" y="23"/>
                  <a:pt x="247" y="0"/>
                  <a:pt x="247" y="5"/>
                </a:cubicBezTo>
                <a:cubicBezTo>
                  <a:pt x="247" y="10"/>
                  <a:pt x="229" y="49"/>
                  <a:pt x="226" y="61"/>
                </a:cubicBezTo>
                <a:cubicBezTo>
                  <a:pt x="223" y="73"/>
                  <a:pt x="231" y="68"/>
                  <a:pt x="231" y="74"/>
                </a:cubicBezTo>
                <a:cubicBezTo>
                  <a:pt x="231" y="80"/>
                  <a:pt x="230" y="90"/>
                  <a:pt x="226" y="97"/>
                </a:cubicBezTo>
                <a:cubicBezTo>
                  <a:pt x="222" y="104"/>
                  <a:pt x="211" y="109"/>
                  <a:pt x="207" y="116"/>
                </a:cubicBezTo>
                <a:cubicBezTo>
                  <a:pt x="203" y="123"/>
                  <a:pt x="206" y="130"/>
                  <a:pt x="202" y="136"/>
                </a:cubicBezTo>
                <a:cubicBezTo>
                  <a:pt x="198" y="142"/>
                  <a:pt x="184" y="149"/>
                  <a:pt x="181" y="154"/>
                </a:cubicBezTo>
                <a:cubicBezTo>
                  <a:pt x="178" y="159"/>
                  <a:pt x="183" y="162"/>
                  <a:pt x="186" y="163"/>
                </a:cubicBezTo>
                <a:cubicBezTo>
                  <a:pt x="189" y="164"/>
                  <a:pt x="201" y="160"/>
                  <a:pt x="202" y="163"/>
                </a:cubicBezTo>
                <a:cubicBezTo>
                  <a:pt x="203" y="166"/>
                  <a:pt x="191" y="178"/>
                  <a:pt x="190" y="184"/>
                </a:cubicBezTo>
                <a:cubicBezTo>
                  <a:pt x="189" y="190"/>
                  <a:pt x="193" y="195"/>
                  <a:pt x="198" y="200"/>
                </a:cubicBezTo>
                <a:cubicBezTo>
                  <a:pt x="203" y="205"/>
                  <a:pt x="215" y="212"/>
                  <a:pt x="219" y="217"/>
                </a:cubicBezTo>
                <a:cubicBezTo>
                  <a:pt x="223" y="222"/>
                  <a:pt x="226" y="228"/>
                  <a:pt x="225" y="232"/>
                </a:cubicBezTo>
                <a:cubicBezTo>
                  <a:pt x="224" y="236"/>
                  <a:pt x="216" y="241"/>
                  <a:pt x="211" y="242"/>
                </a:cubicBezTo>
                <a:cubicBezTo>
                  <a:pt x="206" y="243"/>
                  <a:pt x="200" y="233"/>
                  <a:pt x="195" y="238"/>
                </a:cubicBezTo>
                <a:cubicBezTo>
                  <a:pt x="190" y="243"/>
                  <a:pt x="191" y="264"/>
                  <a:pt x="183" y="274"/>
                </a:cubicBezTo>
                <a:cubicBezTo>
                  <a:pt x="175" y="284"/>
                  <a:pt x="159" y="279"/>
                  <a:pt x="148" y="296"/>
                </a:cubicBezTo>
                <a:cubicBezTo>
                  <a:pt x="137" y="313"/>
                  <a:pt x="116" y="353"/>
                  <a:pt x="114" y="374"/>
                </a:cubicBezTo>
                <a:cubicBezTo>
                  <a:pt x="112" y="395"/>
                  <a:pt x="135" y="412"/>
                  <a:pt x="135" y="422"/>
                </a:cubicBezTo>
                <a:cubicBezTo>
                  <a:pt x="135" y="432"/>
                  <a:pt x="119" y="434"/>
                  <a:pt x="115" y="437"/>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9" name="Picture 37" descr="German flag"/>
          <p:cNvPicPr/>
          <p:nvPr/>
        </p:nvPicPr>
        <p:blipFill>
          <a:blip r:embed="rId3"/>
          <a:stretch/>
        </p:blipFill>
        <p:spPr>
          <a:xfrm>
            <a:off x="4567320" y="2324160"/>
            <a:ext cx="430200" cy="257040"/>
          </a:xfrm>
          <a:prstGeom prst="rect">
            <a:avLst/>
          </a:prstGeom>
          <a:ln w="0">
            <a:noFill/>
          </a:ln>
        </p:spPr>
      </p:pic>
      <p:sp>
        <p:nvSpPr>
          <p:cNvPr id="210" name="Freeform 38"/>
          <p:cNvSpPr/>
          <p:nvPr/>
        </p:nvSpPr>
        <p:spPr>
          <a:xfrm>
            <a:off x="5495760" y="1914480"/>
            <a:ext cx="1268640" cy="1523880"/>
          </a:xfrm>
          <a:custGeom>
            <a:avLst/>
            <a:gdLst>
              <a:gd name="textAreaLeft" fmla="*/ 0 w 1268640"/>
              <a:gd name="textAreaRight" fmla="*/ 1269000 w 1268640"/>
              <a:gd name="textAreaTop" fmla="*/ 0 h 1523880"/>
              <a:gd name="textAreaBottom" fmla="*/ 1524240 h 1523880"/>
            </a:gdLst>
            <a:ahLst/>
            <a:rect l="textAreaLeft" t="textAreaTop" r="textAreaRight" b="textAreaBottom"/>
            <a:pathLst>
              <a:path w="799" h="960">
                <a:moveTo>
                  <a:pt x="207" y="0"/>
                </a:moveTo>
                <a:cubicBezTo>
                  <a:pt x="218" y="0"/>
                  <a:pt x="253" y="39"/>
                  <a:pt x="254" y="50"/>
                </a:cubicBezTo>
                <a:cubicBezTo>
                  <a:pt x="255" y="61"/>
                  <a:pt x="227" y="58"/>
                  <a:pt x="216" y="69"/>
                </a:cubicBezTo>
                <a:cubicBezTo>
                  <a:pt x="205" y="80"/>
                  <a:pt x="189" y="96"/>
                  <a:pt x="188" y="114"/>
                </a:cubicBezTo>
                <a:cubicBezTo>
                  <a:pt x="187" y="132"/>
                  <a:pt x="209" y="161"/>
                  <a:pt x="212" y="176"/>
                </a:cubicBezTo>
                <a:cubicBezTo>
                  <a:pt x="215" y="191"/>
                  <a:pt x="211" y="190"/>
                  <a:pt x="204" y="206"/>
                </a:cubicBezTo>
                <a:cubicBezTo>
                  <a:pt x="197" y="222"/>
                  <a:pt x="165" y="257"/>
                  <a:pt x="168" y="270"/>
                </a:cubicBezTo>
                <a:cubicBezTo>
                  <a:pt x="171" y="283"/>
                  <a:pt x="203" y="284"/>
                  <a:pt x="222" y="284"/>
                </a:cubicBezTo>
                <a:cubicBezTo>
                  <a:pt x="241" y="284"/>
                  <a:pt x="268" y="270"/>
                  <a:pt x="284" y="270"/>
                </a:cubicBezTo>
                <a:cubicBezTo>
                  <a:pt x="300" y="270"/>
                  <a:pt x="310" y="278"/>
                  <a:pt x="318" y="282"/>
                </a:cubicBezTo>
                <a:cubicBezTo>
                  <a:pt x="326" y="286"/>
                  <a:pt x="325" y="293"/>
                  <a:pt x="334" y="292"/>
                </a:cubicBezTo>
                <a:cubicBezTo>
                  <a:pt x="343" y="291"/>
                  <a:pt x="362" y="278"/>
                  <a:pt x="372" y="274"/>
                </a:cubicBezTo>
                <a:cubicBezTo>
                  <a:pt x="382" y="270"/>
                  <a:pt x="382" y="271"/>
                  <a:pt x="394" y="268"/>
                </a:cubicBezTo>
                <a:cubicBezTo>
                  <a:pt x="406" y="265"/>
                  <a:pt x="438" y="237"/>
                  <a:pt x="446" y="254"/>
                </a:cubicBezTo>
                <a:cubicBezTo>
                  <a:pt x="454" y="271"/>
                  <a:pt x="435" y="354"/>
                  <a:pt x="440" y="372"/>
                </a:cubicBezTo>
                <a:cubicBezTo>
                  <a:pt x="445" y="390"/>
                  <a:pt x="465" y="368"/>
                  <a:pt x="478" y="364"/>
                </a:cubicBezTo>
                <a:cubicBezTo>
                  <a:pt x="491" y="360"/>
                  <a:pt x="502" y="352"/>
                  <a:pt x="518" y="350"/>
                </a:cubicBezTo>
                <a:cubicBezTo>
                  <a:pt x="534" y="348"/>
                  <a:pt x="563" y="346"/>
                  <a:pt x="572" y="350"/>
                </a:cubicBezTo>
                <a:cubicBezTo>
                  <a:pt x="581" y="354"/>
                  <a:pt x="564" y="364"/>
                  <a:pt x="572" y="372"/>
                </a:cubicBezTo>
                <a:cubicBezTo>
                  <a:pt x="580" y="380"/>
                  <a:pt x="607" y="392"/>
                  <a:pt x="622" y="398"/>
                </a:cubicBezTo>
                <a:cubicBezTo>
                  <a:pt x="637" y="404"/>
                  <a:pt x="653" y="401"/>
                  <a:pt x="660" y="406"/>
                </a:cubicBezTo>
                <a:cubicBezTo>
                  <a:pt x="667" y="411"/>
                  <a:pt x="659" y="416"/>
                  <a:pt x="666" y="426"/>
                </a:cubicBezTo>
                <a:cubicBezTo>
                  <a:pt x="673" y="436"/>
                  <a:pt x="699" y="447"/>
                  <a:pt x="704" y="464"/>
                </a:cubicBezTo>
                <a:cubicBezTo>
                  <a:pt x="709" y="481"/>
                  <a:pt x="690" y="513"/>
                  <a:pt x="694" y="530"/>
                </a:cubicBezTo>
                <a:cubicBezTo>
                  <a:pt x="698" y="547"/>
                  <a:pt x="720" y="550"/>
                  <a:pt x="730" y="568"/>
                </a:cubicBezTo>
                <a:cubicBezTo>
                  <a:pt x="740" y="586"/>
                  <a:pt x="748" y="616"/>
                  <a:pt x="756" y="638"/>
                </a:cubicBezTo>
                <a:cubicBezTo>
                  <a:pt x="764" y="660"/>
                  <a:pt x="799" y="673"/>
                  <a:pt x="778" y="698"/>
                </a:cubicBezTo>
                <a:lnTo>
                  <a:pt x="632" y="786"/>
                </a:lnTo>
                <a:cubicBezTo>
                  <a:pt x="616" y="812"/>
                  <a:pt x="669" y="834"/>
                  <a:pt x="684" y="854"/>
                </a:cubicBezTo>
                <a:cubicBezTo>
                  <a:pt x="699" y="874"/>
                  <a:pt x="714" y="891"/>
                  <a:pt x="722" y="908"/>
                </a:cubicBezTo>
                <a:lnTo>
                  <a:pt x="730" y="956"/>
                </a:lnTo>
                <a:lnTo>
                  <a:pt x="708" y="960"/>
                </a:lnTo>
                <a:cubicBezTo>
                  <a:pt x="698" y="956"/>
                  <a:pt x="681" y="939"/>
                  <a:pt x="670" y="932"/>
                </a:cubicBezTo>
                <a:cubicBezTo>
                  <a:pt x="659" y="925"/>
                  <a:pt x="651" y="925"/>
                  <a:pt x="642" y="918"/>
                </a:cubicBezTo>
                <a:cubicBezTo>
                  <a:pt x="633" y="911"/>
                  <a:pt x="627" y="895"/>
                  <a:pt x="616" y="892"/>
                </a:cubicBezTo>
                <a:cubicBezTo>
                  <a:pt x="605" y="889"/>
                  <a:pt x="590" y="904"/>
                  <a:pt x="578" y="902"/>
                </a:cubicBezTo>
                <a:cubicBezTo>
                  <a:pt x="566" y="900"/>
                  <a:pt x="556" y="883"/>
                  <a:pt x="546" y="880"/>
                </a:cubicBezTo>
                <a:cubicBezTo>
                  <a:pt x="536" y="877"/>
                  <a:pt x="530" y="885"/>
                  <a:pt x="518" y="886"/>
                </a:cubicBezTo>
                <a:cubicBezTo>
                  <a:pt x="506" y="887"/>
                  <a:pt x="487" y="879"/>
                  <a:pt x="472" y="886"/>
                </a:cubicBezTo>
                <a:cubicBezTo>
                  <a:pt x="457" y="893"/>
                  <a:pt x="442" y="919"/>
                  <a:pt x="430" y="926"/>
                </a:cubicBezTo>
                <a:cubicBezTo>
                  <a:pt x="418" y="933"/>
                  <a:pt x="409" y="930"/>
                  <a:pt x="402" y="926"/>
                </a:cubicBezTo>
                <a:cubicBezTo>
                  <a:pt x="395" y="922"/>
                  <a:pt x="388" y="914"/>
                  <a:pt x="384" y="904"/>
                </a:cubicBezTo>
                <a:cubicBezTo>
                  <a:pt x="380" y="894"/>
                  <a:pt x="387" y="873"/>
                  <a:pt x="380" y="864"/>
                </a:cubicBezTo>
                <a:cubicBezTo>
                  <a:pt x="373" y="855"/>
                  <a:pt x="354" y="857"/>
                  <a:pt x="342" y="850"/>
                </a:cubicBezTo>
                <a:cubicBezTo>
                  <a:pt x="330" y="843"/>
                  <a:pt x="324" y="831"/>
                  <a:pt x="306" y="822"/>
                </a:cubicBezTo>
                <a:cubicBezTo>
                  <a:pt x="288" y="813"/>
                  <a:pt x="247" y="806"/>
                  <a:pt x="232" y="798"/>
                </a:cubicBezTo>
                <a:cubicBezTo>
                  <a:pt x="217" y="790"/>
                  <a:pt x="206" y="786"/>
                  <a:pt x="214" y="774"/>
                </a:cubicBezTo>
                <a:cubicBezTo>
                  <a:pt x="222" y="762"/>
                  <a:pt x="271" y="744"/>
                  <a:pt x="280" y="726"/>
                </a:cubicBezTo>
                <a:cubicBezTo>
                  <a:pt x="289" y="708"/>
                  <a:pt x="273" y="683"/>
                  <a:pt x="270" y="664"/>
                </a:cubicBezTo>
                <a:cubicBezTo>
                  <a:pt x="267" y="645"/>
                  <a:pt x="275" y="621"/>
                  <a:pt x="264" y="610"/>
                </a:cubicBezTo>
                <a:cubicBezTo>
                  <a:pt x="253" y="599"/>
                  <a:pt x="215" y="607"/>
                  <a:pt x="202" y="596"/>
                </a:cubicBezTo>
                <a:cubicBezTo>
                  <a:pt x="189" y="585"/>
                  <a:pt x="198" y="556"/>
                  <a:pt x="188" y="546"/>
                </a:cubicBezTo>
                <a:cubicBezTo>
                  <a:pt x="178" y="536"/>
                  <a:pt x="153" y="551"/>
                  <a:pt x="142" y="538"/>
                </a:cubicBezTo>
                <a:cubicBezTo>
                  <a:pt x="131" y="525"/>
                  <a:pt x="139" y="483"/>
                  <a:pt x="122" y="468"/>
                </a:cubicBezTo>
                <a:cubicBezTo>
                  <a:pt x="105" y="453"/>
                  <a:pt x="60" y="460"/>
                  <a:pt x="40" y="450"/>
                </a:cubicBezTo>
                <a:cubicBezTo>
                  <a:pt x="20" y="440"/>
                  <a:pt x="8" y="426"/>
                  <a:pt x="4" y="408"/>
                </a:cubicBezTo>
                <a:cubicBezTo>
                  <a:pt x="0" y="390"/>
                  <a:pt x="11" y="364"/>
                  <a:pt x="18" y="344"/>
                </a:cubicBezTo>
                <a:cubicBezTo>
                  <a:pt x="25" y="324"/>
                  <a:pt x="32" y="302"/>
                  <a:pt x="48" y="288"/>
                </a:cubicBezTo>
                <a:cubicBezTo>
                  <a:pt x="64" y="274"/>
                  <a:pt x="102" y="270"/>
                  <a:pt x="116" y="260"/>
                </a:cubicBezTo>
                <a:cubicBezTo>
                  <a:pt x="130" y="250"/>
                  <a:pt x="129" y="242"/>
                  <a:pt x="132" y="228"/>
                </a:cubicBezTo>
                <a:cubicBezTo>
                  <a:pt x="135" y="214"/>
                  <a:pt x="140" y="192"/>
                  <a:pt x="136" y="176"/>
                </a:cubicBezTo>
                <a:cubicBezTo>
                  <a:pt x="132" y="160"/>
                  <a:pt x="110" y="148"/>
                  <a:pt x="110" y="134"/>
                </a:cubicBezTo>
                <a:cubicBezTo>
                  <a:pt x="110" y="120"/>
                  <a:pt x="123" y="96"/>
                  <a:pt x="134" y="92"/>
                </a:cubicBezTo>
                <a:cubicBezTo>
                  <a:pt x="145" y="88"/>
                  <a:pt x="169" y="115"/>
                  <a:pt x="178" y="108"/>
                </a:cubicBezTo>
                <a:cubicBezTo>
                  <a:pt x="187" y="101"/>
                  <a:pt x="181" y="68"/>
                  <a:pt x="186" y="50"/>
                </a:cubicBezTo>
                <a:cubicBezTo>
                  <a:pt x="191" y="32"/>
                  <a:pt x="202" y="1"/>
                  <a:pt x="207" y="0"/>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39"/>
          <p:cNvSpPr/>
          <p:nvPr/>
        </p:nvSpPr>
        <p:spPr>
          <a:xfrm>
            <a:off x="4067280" y="1781280"/>
            <a:ext cx="1881000" cy="1930320"/>
          </a:xfrm>
          <a:custGeom>
            <a:avLst/>
            <a:gdLst>
              <a:gd name="textAreaLeft" fmla="*/ 0 w 1881000"/>
              <a:gd name="textAreaRight" fmla="*/ 1881360 w 1881000"/>
              <a:gd name="textAreaTop" fmla="*/ 0 h 1930320"/>
              <a:gd name="textAreaBottom" fmla="*/ 1930680 h 1930320"/>
            </a:gdLst>
            <a:ahLst/>
            <a:rect l="textAreaLeft" t="textAreaTop" r="textAreaRight" b="textAreaBottom"/>
            <a:pathLst>
              <a:path w="1185" h="1216">
                <a:moveTo>
                  <a:pt x="76" y="210"/>
                </a:moveTo>
                <a:cubicBezTo>
                  <a:pt x="82" y="199"/>
                  <a:pt x="105" y="179"/>
                  <a:pt x="114" y="174"/>
                </a:cubicBezTo>
                <a:cubicBezTo>
                  <a:pt x="123" y="169"/>
                  <a:pt x="125" y="178"/>
                  <a:pt x="132" y="178"/>
                </a:cubicBezTo>
                <a:cubicBezTo>
                  <a:pt x="139" y="178"/>
                  <a:pt x="147" y="166"/>
                  <a:pt x="156" y="172"/>
                </a:cubicBezTo>
                <a:cubicBezTo>
                  <a:pt x="165" y="178"/>
                  <a:pt x="176" y="208"/>
                  <a:pt x="184" y="212"/>
                </a:cubicBezTo>
                <a:cubicBezTo>
                  <a:pt x="192" y="216"/>
                  <a:pt x="199" y="199"/>
                  <a:pt x="204" y="198"/>
                </a:cubicBezTo>
                <a:cubicBezTo>
                  <a:pt x="209" y="197"/>
                  <a:pt x="215" y="211"/>
                  <a:pt x="216" y="208"/>
                </a:cubicBezTo>
                <a:cubicBezTo>
                  <a:pt x="217" y="205"/>
                  <a:pt x="206" y="186"/>
                  <a:pt x="208" y="178"/>
                </a:cubicBezTo>
                <a:cubicBezTo>
                  <a:pt x="210" y="170"/>
                  <a:pt x="223" y="163"/>
                  <a:pt x="230" y="160"/>
                </a:cubicBezTo>
                <a:cubicBezTo>
                  <a:pt x="237" y="157"/>
                  <a:pt x="246" y="167"/>
                  <a:pt x="250" y="160"/>
                </a:cubicBezTo>
                <a:cubicBezTo>
                  <a:pt x="254" y="153"/>
                  <a:pt x="249" y="136"/>
                  <a:pt x="252" y="120"/>
                </a:cubicBezTo>
                <a:cubicBezTo>
                  <a:pt x="255" y="104"/>
                  <a:pt x="268" y="80"/>
                  <a:pt x="270" y="66"/>
                </a:cubicBezTo>
                <a:cubicBezTo>
                  <a:pt x="272" y="52"/>
                  <a:pt x="262" y="49"/>
                  <a:pt x="262" y="38"/>
                </a:cubicBezTo>
                <a:cubicBezTo>
                  <a:pt x="262" y="27"/>
                  <a:pt x="255" y="0"/>
                  <a:pt x="270" y="0"/>
                </a:cubicBezTo>
                <a:lnTo>
                  <a:pt x="352" y="40"/>
                </a:lnTo>
                <a:cubicBezTo>
                  <a:pt x="373" y="55"/>
                  <a:pt x="380" y="81"/>
                  <a:pt x="394" y="90"/>
                </a:cubicBezTo>
                <a:cubicBezTo>
                  <a:pt x="408" y="99"/>
                  <a:pt x="424" y="90"/>
                  <a:pt x="438" y="94"/>
                </a:cubicBezTo>
                <a:cubicBezTo>
                  <a:pt x="452" y="98"/>
                  <a:pt x="474" y="106"/>
                  <a:pt x="480" y="114"/>
                </a:cubicBezTo>
                <a:cubicBezTo>
                  <a:pt x="486" y="122"/>
                  <a:pt x="478" y="137"/>
                  <a:pt x="472" y="144"/>
                </a:cubicBezTo>
                <a:cubicBezTo>
                  <a:pt x="466" y="151"/>
                  <a:pt x="450" y="151"/>
                  <a:pt x="444" y="156"/>
                </a:cubicBezTo>
                <a:cubicBezTo>
                  <a:pt x="438" y="161"/>
                  <a:pt x="432" y="170"/>
                  <a:pt x="434" y="174"/>
                </a:cubicBezTo>
                <a:cubicBezTo>
                  <a:pt x="436" y="178"/>
                  <a:pt x="448" y="181"/>
                  <a:pt x="454" y="180"/>
                </a:cubicBezTo>
                <a:cubicBezTo>
                  <a:pt x="460" y="179"/>
                  <a:pt x="463" y="170"/>
                  <a:pt x="470" y="168"/>
                </a:cubicBezTo>
                <a:cubicBezTo>
                  <a:pt x="477" y="166"/>
                  <a:pt x="489" y="172"/>
                  <a:pt x="498" y="168"/>
                </a:cubicBezTo>
                <a:cubicBezTo>
                  <a:pt x="507" y="164"/>
                  <a:pt x="516" y="148"/>
                  <a:pt x="524" y="146"/>
                </a:cubicBezTo>
                <a:cubicBezTo>
                  <a:pt x="532" y="144"/>
                  <a:pt x="540" y="156"/>
                  <a:pt x="548" y="156"/>
                </a:cubicBezTo>
                <a:cubicBezTo>
                  <a:pt x="556" y="156"/>
                  <a:pt x="568" y="153"/>
                  <a:pt x="572" y="148"/>
                </a:cubicBezTo>
                <a:cubicBezTo>
                  <a:pt x="576" y="143"/>
                  <a:pt x="567" y="130"/>
                  <a:pt x="574" y="124"/>
                </a:cubicBezTo>
                <a:cubicBezTo>
                  <a:pt x="581" y="118"/>
                  <a:pt x="604" y="112"/>
                  <a:pt x="614" y="112"/>
                </a:cubicBezTo>
                <a:cubicBezTo>
                  <a:pt x="624" y="112"/>
                  <a:pt x="632" y="119"/>
                  <a:pt x="636" y="123"/>
                </a:cubicBezTo>
                <a:cubicBezTo>
                  <a:pt x="640" y="127"/>
                  <a:pt x="631" y="132"/>
                  <a:pt x="635" y="138"/>
                </a:cubicBezTo>
                <a:cubicBezTo>
                  <a:pt x="639" y="144"/>
                  <a:pt x="651" y="154"/>
                  <a:pt x="660" y="159"/>
                </a:cubicBezTo>
                <a:cubicBezTo>
                  <a:pt x="669" y="164"/>
                  <a:pt x="679" y="165"/>
                  <a:pt x="687" y="168"/>
                </a:cubicBezTo>
                <a:cubicBezTo>
                  <a:pt x="695" y="171"/>
                  <a:pt x="703" y="178"/>
                  <a:pt x="710" y="179"/>
                </a:cubicBezTo>
                <a:cubicBezTo>
                  <a:pt x="717" y="180"/>
                  <a:pt x="724" y="174"/>
                  <a:pt x="728" y="177"/>
                </a:cubicBezTo>
                <a:cubicBezTo>
                  <a:pt x="732" y="180"/>
                  <a:pt x="728" y="191"/>
                  <a:pt x="731" y="197"/>
                </a:cubicBezTo>
                <a:cubicBezTo>
                  <a:pt x="734" y="203"/>
                  <a:pt x="742" y="207"/>
                  <a:pt x="744" y="212"/>
                </a:cubicBezTo>
                <a:cubicBezTo>
                  <a:pt x="746" y="217"/>
                  <a:pt x="749" y="225"/>
                  <a:pt x="744" y="227"/>
                </a:cubicBezTo>
                <a:cubicBezTo>
                  <a:pt x="739" y="229"/>
                  <a:pt x="709" y="221"/>
                  <a:pt x="711" y="224"/>
                </a:cubicBezTo>
                <a:cubicBezTo>
                  <a:pt x="713" y="227"/>
                  <a:pt x="744" y="250"/>
                  <a:pt x="758" y="246"/>
                </a:cubicBezTo>
                <a:cubicBezTo>
                  <a:pt x="772" y="242"/>
                  <a:pt x="783" y="211"/>
                  <a:pt x="794" y="200"/>
                </a:cubicBezTo>
                <a:cubicBezTo>
                  <a:pt x="805" y="189"/>
                  <a:pt x="805" y="185"/>
                  <a:pt x="824" y="178"/>
                </a:cubicBezTo>
                <a:cubicBezTo>
                  <a:pt x="843" y="171"/>
                  <a:pt x="887" y="173"/>
                  <a:pt x="912" y="160"/>
                </a:cubicBezTo>
                <a:cubicBezTo>
                  <a:pt x="937" y="147"/>
                  <a:pt x="953" y="112"/>
                  <a:pt x="976" y="98"/>
                </a:cubicBezTo>
                <a:cubicBezTo>
                  <a:pt x="999" y="84"/>
                  <a:pt x="1029" y="77"/>
                  <a:pt x="1052" y="74"/>
                </a:cubicBezTo>
                <a:cubicBezTo>
                  <a:pt x="1075" y="71"/>
                  <a:pt x="1106" y="69"/>
                  <a:pt x="1112" y="78"/>
                </a:cubicBezTo>
                <a:lnTo>
                  <a:pt x="1086" y="126"/>
                </a:lnTo>
                <a:cubicBezTo>
                  <a:pt x="1082" y="142"/>
                  <a:pt x="1088" y="165"/>
                  <a:pt x="1086" y="176"/>
                </a:cubicBezTo>
                <a:cubicBezTo>
                  <a:pt x="1084" y="187"/>
                  <a:pt x="1080" y="190"/>
                  <a:pt x="1072" y="190"/>
                </a:cubicBezTo>
                <a:cubicBezTo>
                  <a:pt x="1064" y="190"/>
                  <a:pt x="1045" y="173"/>
                  <a:pt x="1036" y="176"/>
                </a:cubicBezTo>
                <a:cubicBezTo>
                  <a:pt x="1027" y="179"/>
                  <a:pt x="1016" y="190"/>
                  <a:pt x="1016" y="206"/>
                </a:cubicBezTo>
                <a:cubicBezTo>
                  <a:pt x="1016" y="222"/>
                  <a:pt x="1037" y="250"/>
                  <a:pt x="1038" y="272"/>
                </a:cubicBezTo>
                <a:cubicBezTo>
                  <a:pt x="1039" y="294"/>
                  <a:pt x="1039" y="319"/>
                  <a:pt x="1024" y="336"/>
                </a:cubicBezTo>
                <a:cubicBezTo>
                  <a:pt x="1009" y="353"/>
                  <a:pt x="966" y="355"/>
                  <a:pt x="946" y="376"/>
                </a:cubicBezTo>
                <a:cubicBezTo>
                  <a:pt x="926" y="397"/>
                  <a:pt x="909" y="437"/>
                  <a:pt x="906" y="462"/>
                </a:cubicBezTo>
                <a:cubicBezTo>
                  <a:pt x="903" y="487"/>
                  <a:pt x="906" y="510"/>
                  <a:pt x="926" y="526"/>
                </a:cubicBezTo>
                <a:cubicBezTo>
                  <a:pt x="946" y="542"/>
                  <a:pt x="1005" y="542"/>
                  <a:pt x="1024" y="558"/>
                </a:cubicBezTo>
                <a:cubicBezTo>
                  <a:pt x="1043" y="574"/>
                  <a:pt x="1030" y="608"/>
                  <a:pt x="1040" y="620"/>
                </a:cubicBezTo>
                <a:cubicBezTo>
                  <a:pt x="1050" y="632"/>
                  <a:pt x="1076" y="618"/>
                  <a:pt x="1086" y="628"/>
                </a:cubicBezTo>
                <a:cubicBezTo>
                  <a:pt x="1096" y="638"/>
                  <a:pt x="1087" y="671"/>
                  <a:pt x="1098" y="680"/>
                </a:cubicBezTo>
                <a:cubicBezTo>
                  <a:pt x="1109" y="689"/>
                  <a:pt x="1140" y="676"/>
                  <a:pt x="1152" y="680"/>
                </a:cubicBezTo>
                <a:cubicBezTo>
                  <a:pt x="1164" y="684"/>
                  <a:pt x="1165" y="690"/>
                  <a:pt x="1168" y="702"/>
                </a:cubicBezTo>
                <a:cubicBezTo>
                  <a:pt x="1171" y="714"/>
                  <a:pt x="1167" y="736"/>
                  <a:pt x="1170" y="750"/>
                </a:cubicBezTo>
                <a:cubicBezTo>
                  <a:pt x="1173" y="764"/>
                  <a:pt x="1185" y="772"/>
                  <a:pt x="1184" y="784"/>
                </a:cubicBezTo>
                <a:cubicBezTo>
                  <a:pt x="1183" y="796"/>
                  <a:pt x="1177" y="811"/>
                  <a:pt x="1166" y="822"/>
                </a:cubicBezTo>
                <a:cubicBezTo>
                  <a:pt x="1155" y="833"/>
                  <a:pt x="1133" y="848"/>
                  <a:pt x="1116" y="850"/>
                </a:cubicBezTo>
                <a:lnTo>
                  <a:pt x="1066" y="834"/>
                </a:lnTo>
                <a:cubicBezTo>
                  <a:pt x="1054" y="829"/>
                  <a:pt x="1049" y="826"/>
                  <a:pt x="1046" y="820"/>
                </a:cubicBezTo>
                <a:cubicBezTo>
                  <a:pt x="1043" y="814"/>
                  <a:pt x="1053" y="807"/>
                  <a:pt x="1050" y="800"/>
                </a:cubicBezTo>
                <a:cubicBezTo>
                  <a:pt x="1047" y="793"/>
                  <a:pt x="1035" y="780"/>
                  <a:pt x="1026" y="776"/>
                </a:cubicBezTo>
                <a:cubicBezTo>
                  <a:pt x="1017" y="772"/>
                  <a:pt x="1007" y="778"/>
                  <a:pt x="996" y="778"/>
                </a:cubicBezTo>
                <a:cubicBezTo>
                  <a:pt x="985" y="778"/>
                  <a:pt x="972" y="774"/>
                  <a:pt x="962" y="776"/>
                </a:cubicBezTo>
                <a:cubicBezTo>
                  <a:pt x="952" y="778"/>
                  <a:pt x="942" y="794"/>
                  <a:pt x="936" y="790"/>
                </a:cubicBezTo>
                <a:cubicBezTo>
                  <a:pt x="930" y="786"/>
                  <a:pt x="933" y="764"/>
                  <a:pt x="928" y="752"/>
                </a:cubicBezTo>
                <a:cubicBezTo>
                  <a:pt x="923" y="740"/>
                  <a:pt x="914" y="724"/>
                  <a:pt x="906" y="716"/>
                </a:cubicBezTo>
                <a:cubicBezTo>
                  <a:pt x="898" y="708"/>
                  <a:pt x="891" y="704"/>
                  <a:pt x="882" y="702"/>
                </a:cubicBezTo>
                <a:cubicBezTo>
                  <a:pt x="873" y="700"/>
                  <a:pt x="864" y="707"/>
                  <a:pt x="854" y="704"/>
                </a:cubicBezTo>
                <a:cubicBezTo>
                  <a:pt x="844" y="701"/>
                  <a:pt x="831" y="683"/>
                  <a:pt x="822" y="682"/>
                </a:cubicBezTo>
                <a:cubicBezTo>
                  <a:pt x="813" y="681"/>
                  <a:pt x="812" y="698"/>
                  <a:pt x="798" y="696"/>
                </a:cubicBezTo>
                <a:cubicBezTo>
                  <a:pt x="784" y="694"/>
                  <a:pt x="751" y="670"/>
                  <a:pt x="736" y="670"/>
                </a:cubicBezTo>
                <a:cubicBezTo>
                  <a:pt x="721" y="670"/>
                  <a:pt x="718" y="689"/>
                  <a:pt x="710" y="694"/>
                </a:cubicBezTo>
                <a:cubicBezTo>
                  <a:pt x="702" y="699"/>
                  <a:pt x="698" y="695"/>
                  <a:pt x="690" y="698"/>
                </a:cubicBezTo>
                <a:cubicBezTo>
                  <a:pt x="682" y="701"/>
                  <a:pt x="669" y="705"/>
                  <a:pt x="662" y="710"/>
                </a:cubicBezTo>
                <a:cubicBezTo>
                  <a:pt x="655" y="715"/>
                  <a:pt x="654" y="724"/>
                  <a:pt x="646" y="726"/>
                </a:cubicBezTo>
                <a:cubicBezTo>
                  <a:pt x="638" y="728"/>
                  <a:pt x="625" y="721"/>
                  <a:pt x="614" y="724"/>
                </a:cubicBezTo>
                <a:cubicBezTo>
                  <a:pt x="603" y="727"/>
                  <a:pt x="589" y="743"/>
                  <a:pt x="578" y="746"/>
                </a:cubicBezTo>
                <a:cubicBezTo>
                  <a:pt x="567" y="749"/>
                  <a:pt x="556" y="739"/>
                  <a:pt x="546" y="740"/>
                </a:cubicBezTo>
                <a:cubicBezTo>
                  <a:pt x="536" y="741"/>
                  <a:pt x="531" y="751"/>
                  <a:pt x="520" y="752"/>
                </a:cubicBezTo>
                <a:cubicBezTo>
                  <a:pt x="509" y="753"/>
                  <a:pt x="487" y="745"/>
                  <a:pt x="478" y="748"/>
                </a:cubicBezTo>
                <a:cubicBezTo>
                  <a:pt x="469" y="751"/>
                  <a:pt x="465" y="763"/>
                  <a:pt x="464" y="770"/>
                </a:cubicBezTo>
                <a:cubicBezTo>
                  <a:pt x="463" y="777"/>
                  <a:pt x="467" y="782"/>
                  <a:pt x="474" y="790"/>
                </a:cubicBezTo>
                <a:cubicBezTo>
                  <a:pt x="481" y="798"/>
                  <a:pt x="498" y="809"/>
                  <a:pt x="504" y="820"/>
                </a:cubicBezTo>
                <a:cubicBezTo>
                  <a:pt x="510" y="831"/>
                  <a:pt x="503" y="844"/>
                  <a:pt x="510" y="858"/>
                </a:cubicBezTo>
                <a:cubicBezTo>
                  <a:pt x="517" y="872"/>
                  <a:pt x="537" y="889"/>
                  <a:pt x="544" y="902"/>
                </a:cubicBezTo>
                <a:cubicBezTo>
                  <a:pt x="551" y="915"/>
                  <a:pt x="540" y="924"/>
                  <a:pt x="552" y="936"/>
                </a:cubicBezTo>
                <a:cubicBezTo>
                  <a:pt x="564" y="948"/>
                  <a:pt x="606" y="961"/>
                  <a:pt x="618" y="976"/>
                </a:cubicBezTo>
                <a:lnTo>
                  <a:pt x="624" y="1026"/>
                </a:lnTo>
                <a:cubicBezTo>
                  <a:pt x="621" y="1035"/>
                  <a:pt x="610" y="1021"/>
                  <a:pt x="600" y="1028"/>
                </a:cubicBezTo>
                <a:cubicBezTo>
                  <a:pt x="590" y="1035"/>
                  <a:pt x="576" y="1059"/>
                  <a:pt x="564" y="1066"/>
                </a:cubicBezTo>
                <a:cubicBezTo>
                  <a:pt x="552" y="1073"/>
                  <a:pt x="534" y="1062"/>
                  <a:pt x="528" y="1072"/>
                </a:cubicBezTo>
                <a:cubicBezTo>
                  <a:pt x="522" y="1082"/>
                  <a:pt x="522" y="1114"/>
                  <a:pt x="526" y="1128"/>
                </a:cubicBezTo>
                <a:cubicBezTo>
                  <a:pt x="530" y="1142"/>
                  <a:pt x="546" y="1146"/>
                  <a:pt x="550" y="1158"/>
                </a:cubicBezTo>
                <a:cubicBezTo>
                  <a:pt x="554" y="1170"/>
                  <a:pt x="552" y="1193"/>
                  <a:pt x="548" y="1202"/>
                </a:cubicBezTo>
                <a:cubicBezTo>
                  <a:pt x="544" y="1211"/>
                  <a:pt x="535" y="1216"/>
                  <a:pt x="524" y="1210"/>
                </a:cubicBezTo>
                <a:cubicBezTo>
                  <a:pt x="513" y="1204"/>
                  <a:pt x="494" y="1173"/>
                  <a:pt x="484" y="1166"/>
                </a:cubicBezTo>
                <a:cubicBezTo>
                  <a:pt x="474" y="1159"/>
                  <a:pt x="477" y="1167"/>
                  <a:pt x="467" y="1169"/>
                </a:cubicBezTo>
                <a:cubicBezTo>
                  <a:pt x="457" y="1171"/>
                  <a:pt x="436" y="1178"/>
                  <a:pt x="426" y="1178"/>
                </a:cubicBezTo>
                <a:cubicBezTo>
                  <a:pt x="416" y="1178"/>
                  <a:pt x="418" y="1165"/>
                  <a:pt x="404" y="1170"/>
                </a:cubicBezTo>
                <a:cubicBezTo>
                  <a:pt x="390" y="1175"/>
                  <a:pt x="361" y="1207"/>
                  <a:pt x="342" y="1208"/>
                </a:cubicBezTo>
                <a:cubicBezTo>
                  <a:pt x="323" y="1209"/>
                  <a:pt x="307" y="1178"/>
                  <a:pt x="292" y="1178"/>
                </a:cubicBezTo>
                <a:cubicBezTo>
                  <a:pt x="277" y="1178"/>
                  <a:pt x="260" y="1203"/>
                  <a:pt x="251" y="1208"/>
                </a:cubicBezTo>
                <a:cubicBezTo>
                  <a:pt x="242" y="1213"/>
                  <a:pt x="247" y="1215"/>
                  <a:pt x="240" y="1208"/>
                </a:cubicBezTo>
                <a:cubicBezTo>
                  <a:pt x="233" y="1201"/>
                  <a:pt x="219" y="1174"/>
                  <a:pt x="208" y="1168"/>
                </a:cubicBezTo>
                <a:cubicBezTo>
                  <a:pt x="197" y="1162"/>
                  <a:pt x="189" y="1176"/>
                  <a:pt x="176" y="1174"/>
                </a:cubicBezTo>
                <a:cubicBezTo>
                  <a:pt x="163" y="1172"/>
                  <a:pt x="141" y="1162"/>
                  <a:pt x="130" y="1154"/>
                </a:cubicBezTo>
                <a:cubicBezTo>
                  <a:pt x="119" y="1146"/>
                  <a:pt x="118" y="1130"/>
                  <a:pt x="108" y="1128"/>
                </a:cubicBezTo>
                <a:cubicBezTo>
                  <a:pt x="98" y="1126"/>
                  <a:pt x="79" y="1141"/>
                  <a:pt x="68" y="1142"/>
                </a:cubicBezTo>
                <a:cubicBezTo>
                  <a:pt x="57" y="1143"/>
                  <a:pt x="42" y="1143"/>
                  <a:pt x="40" y="1134"/>
                </a:cubicBezTo>
                <a:lnTo>
                  <a:pt x="56" y="1086"/>
                </a:lnTo>
                <a:cubicBezTo>
                  <a:pt x="79" y="1036"/>
                  <a:pt x="166" y="902"/>
                  <a:pt x="176" y="834"/>
                </a:cubicBezTo>
                <a:cubicBezTo>
                  <a:pt x="186" y="766"/>
                  <a:pt x="143" y="742"/>
                  <a:pt x="116" y="680"/>
                </a:cubicBezTo>
                <a:cubicBezTo>
                  <a:pt x="89" y="618"/>
                  <a:pt x="33" y="504"/>
                  <a:pt x="14" y="462"/>
                </a:cubicBezTo>
                <a:lnTo>
                  <a:pt x="0" y="430"/>
                </a:lnTo>
                <a:cubicBezTo>
                  <a:pt x="5" y="418"/>
                  <a:pt x="40" y="405"/>
                  <a:pt x="42" y="392"/>
                </a:cubicBezTo>
                <a:cubicBezTo>
                  <a:pt x="44" y="379"/>
                  <a:pt x="17" y="363"/>
                  <a:pt x="12" y="352"/>
                </a:cubicBezTo>
                <a:cubicBezTo>
                  <a:pt x="7" y="341"/>
                  <a:pt x="7" y="329"/>
                  <a:pt x="14" y="324"/>
                </a:cubicBezTo>
                <a:cubicBezTo>
                  <a:pt x="21" y="319"/>
                  <a:pt x="46" y="330"/>
                  <a:pt x="54" y="324"/>
                </a:cubicBezTo>
                <a:cubicBezTo>
                  <a:pt x="62" y="318"/>
                  <a:pt x="57" y="302"/>
                  <a:pt x="62" y="288"/>
                </a:cubicBezTo>
                <a:cubicBezTo>
                  <a:pt x="67" y="274"/>
                  <a:pt x="84" y="253"/>
                  <a:pt x="86" y="240"/>
                </a:cubicBezTo>
                <a:cubicBezTo>
                  <a:pt x="88" y="227"/>
                  <a:pt x="78" y="216"/>
                  <a:pt x="76" y="210"/>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40"/>
          <p:cNvSpPr/>
          <p:nvPr/>
        </p:nvSpPr>
        <p:spPr>
          <a:xfrm>
            <a:off x="5756400" y="1717560"/>
            <a:ext cx="736560" cy="662040"/>
          </a:xfrm>
          <a:custGeom>
            <a:avLst/>
            <a:gdLst>
              <a:gd name="textAreaLeft" fmla="*/ 0 w 736560"/>
              <a:gd name="textAreaRight" fmla="*/ 736920 w 736560"/>
              <a:gd name="textAreaTop" fmla="*/ 0 h 662040"/>
              <a:gd name="textAreaBottom" fmla="*/ 662400 h 662040"/>
            </a:gdLst>
            <a:ahLst/>
            <a:rect l="textAreaLeft" t="textAreaTop" r="textAreaRight" b="textAreaBottom"/>
            <a:pathLst>
              <a:path w="464" h="417">
                <a:moveTo>
                  <a:pt x="282" y="12"/>
                </a:moveTo>
                <a:cubicBezTo>
                  <a:pt x="269" y="26"/>
                  <a:pt x="236" y="85"/>
                  <a:pt x="222" y="100"/>
                </a:cubicBezTo>
                <a:cubicBezTo>
                  <a:pt x="208" y="115"/>
                  <a:pt x="208" y="98"/>
                  <a:pt x="200" y="100"/>
                </a:cubicBezTo>
                <a:cubicBezTo>
                  <a:pt x="192" y="102"/>
                  <a:pt x="178" y="102"/>
                  <a:pt x="172" y="112"/>
                </a:cubicBezTo>
                <a:cubicBezTo>
                  <a:pt x="166" y="122"/>
                  <a:pt x="174" y="146"/>
                  <a:pt x="166" y="160"/>
                </a:cubicBezTo>
                <a:cubicBezTo>
                  <a:pt x="158" y="174"/>
                  <a:pt x="135" y="186"/>
                  <a:pt x="124" y="198"/>
                </a:cubicBezTo>
                <a:cubicBezTo>
                  <a:pt x="113" y="210"/>
                  <a:pt x="110" y="232"/>
                  <a:pt x="102" y="234"/>
                </a:cubicBezTo>
                <a:cubicBezTo>
                  <a:pt x="94" y="236"/>
                  <a:pt x="83" y="217"/>
                  <a:pt x="74" y="210"/>
                </a:cubicBezTo>
                <a:cubicBezTo>
                  <a:pt x="65" y="203"/>
                  <a:pt x="58" y="192"/>
                  <a:pt x="50" y="194"/>
                </a:cubicBezTo>
                <a:cubicBezTo>
                  <a:pt x="42" y="196"/>
                  <a:pt x="30" y="214"/>
                  <a:pt x="26" y="224"/>
                </a:cubicBezTo>
                <a:cubicBezTo>
                  <a:pt x="22" y="234"/>
                  <a:pt x="22" y="239"/>
                  <a:pt x="26" y="254"/>
                </a:cubicBezTo>
                <a:cubicBezTo>
                  <a:pt x="30" y="269"/>
                  <a:pt x="54" y="293"/>
                  <a:pt x="50" y="314"/>
                </a:cubicBezTo>
                <a:cubicBezTo>
                  <a:pt x="46" y="335"/>
                  <a:pt x="8" y="363"/>
                  <a:pt x="4" y="380"/>
                </a:cubicBezTo>
                <a:cubicBezTo>
                  <a:pt x="0" y="397"/>
                  <a:pt x="3" y="411"/>
                  <a:pt x="24" y="414"/>
                </a:cubicBezTo>
                <a:cubicBezTo>
                  <a:pt x="45" y="417"/>
                  <a:pt x="107" y="396"/>
                  <a:pt x="132" y="396"/>
                </a:cubicBezTo>
                <a:cubicBezTo>
                  <a:pt x="157" y="396"/>
                  <a:pt x="161" y="413"/>
                  <a:pt x="176" y="412"/>
                </a:cubicBezTo>
                <a:cubicBezTo>
                  <a:pt x="191" y="411"/>
                  <a:pt x="202" y="394"/>
                  <a:pt x="220" y="388"/>
                </a:cubicBezTo>
                <a:cubicBezTo>
                  <a:pt x="238" y="382"/>
                  <a:pt x="267" y="386"/>
                  <a:pt x="282" y="378"/>
                </a:cubicBezTo>
                <a:cubicBezTo>
                  <a:pt x="297" y="370"/>
                  <a:pt x="299" y="345"/>
                  <a:pt x="312" y="340"/>
                </a:cubicBezTo>
                <a:cubicBezTo>
                  <a:pt x="325" y="335"/>
                  <a:pt x="344" y="354"/>
                  <a:pt x="358" y="350"/>
                </a:cubicBezTo>
                <a:cubicBezTo>
                  <a:pt x="372" y="346"/>
                  <a:pt x="385" y="322"/>
                  <a:pt x="398" y="316"/>
                </a:cubicBezTo>
                <a:cubicBezTo>
                  <a:pt x="411" y="310"/>
                  <a:pt x="424" y="320"/>
                  <a:pt x="434" y="316"/>
                </a:cubicBezTo>
                <a:cubicBezTo>
                  <a:pt x="444" y="312"/>
                  <a:pt x="452" y="299"/>
                  <a:pt x="456" y="290"/>
                </a:cubicBezTo>
                <a:cubicBezTo>
                  <a:pt x="460" y="281"/>
                  <a:pt x="464" y="266"/>
                  <a:pt x="456" y="260"/>
                </a:cubicBezTo>
                <a:cubicBezTo>
                  <a:pt x="448" y="254"/>
                  <a:pt x="412" y="264"/>
                  <a:pt x="410" y="252"/>
                </a:cubicBezTo>
                <a:cubicBezTo>
                  <a:pt x="408" y="240"/>
                  <a:pt x="439" y="208"/>
                  <a:pt x="446" y="188"/>
                </a:cubicBezTo>
                <a:cubicBezTo>
                  <a:pt x="453" y="168"/>
                  <a:pt x="459" y="149"/>
                  <a:pt x="454" y="134"/>
                </a:cubicBezTo>
                <a:cubicBezTo>
                  <a:pt x="449" y="119"/>
                  <a:pt x="429" y="105"/>
                  <a:pt x="416" y="100"/>
                </a:cubicBezTo>
                <a:cubicBezTo>
                  <a:pt x="403" y="95"/>
                  <a:pt x="391" y="106"/>
                  <a:pt x="374" y="102"/>
                </a:cubicBezTo>
                <a:cubicBezTo>
                  <a:pt x="357" y="98"/>
                  <a:pt x="327" y="89"/>
                  <a:pt x="316" y="78"/>
                </a:cubicBezTo>
                <a:cubicBezTo>
                  <a:pt x="305" y="67"/>
                  <a:pt x="311" y="45"/>
                  <a:pt x="308" y="34"/>
                </a:cubicBezTo>
                <a:cubicBezTo>
                  <a:pt x="305" y="23"/>
                  <a:pt x="304" y="18"/>
                  <a:pt x="300" y="14"/>
                </a:cubicBezTo>
                <a:cubicBezTo>
                  <a:pt x="296" y="10"/>
                  <a:pt x="296" y="0"/>
                  <a:pt x="282" y="12"/>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Picture 41" descr="nazi"/>
          <p:cNvPicPr/>
          <p:nvPr/>
        </p:nvPicPr>
        <p:blipFill>
          <a:blip r:embed="rId4"/>
          <a:stretch/>
        </p:blipFill>
        <p:spPr>
          <a:xfrm>
            <a:off x="4562640" y="2320920"/>
            <a:ext cx="444240" cy="264960"/>
          </a:xfrm>
          <a:prstGeom prst="rect">
            <a:avLst/>
          </a:prstGeom>
          <a:ln w="0">
            <a:noFill/>
          </a:ln>
        </p:spPr>
      </p:pic>
      <p:pic>
        <p:nvPicPr>
          <p:cNvPr id="214" name="Picture 43" descr="union-jack"/>
          <p:cNvPicPr/>
          <p:nvPr/>
        </p:nvPicPr>
        <p:blipFill>
          <a:blip r:embed="rId5"/>
          <a:stretch/>
        </p:blipFill>
        <p:spPr>
          <a:xfrm>
            <a:off x="2698920" y="2130480"/>
            <a:ext cx="438120" cy="203040"/>
          </a:xfrm>
          <a:prstGeom prst="rect">
            <a:avLst/>
          </a:prstGeom>
          <a:ln w="0">
            <a:noFill/>
          </a:ln>
        </p:spPr>
      </p:pic>
      <p:sp>
        <p:nvSpPr>
          <p:cNvPr id="215" name="Freeform 44"/>
          <p:cNvSpPr/>
          <p:nvPr/>
        </p:nvSpPr>
        <p:spPr>
          <a:xfrm>
            <a:off x="3882960" y="2467080"/>
            <a:ext cx="468360" cy="1114200"/>
          </a:xfrm>
          <a:custGeom>
            <a:avLst/>
            <a:gdLst>
              <a:gd name="textAreaLeft" fmla="*/ 0 w 468360"/>
              <a:gd name="textAreaRight" fmla="*/ 468720 w 468360"/>
              <a:gd name="textAreaTop" fmla="*/ 0 h 1114200"/>
              <a:gd name="textAreaBottom" fmla="*/ 1114560 h 1114200"/>
            </a:gdLst>
            <a:ahLst/>
            <a:rect l="textAreaLeft" t="textAreaTop" r="textAreaRight" b="textAreaBottom"/>
            <a:pathLst>
              <a:path w="295" h="702">
                <a:moveTo>
                  <a:pt x="114" y="0"/>
                </a:moveTo>
                <a:cubicBezTo>
                  <a:pt x="132" y="26"/>
                  <a:pt x="179" y="133"/>
                  <a:pt x="197" y="171"/>
                </a:cubicBezTo>
                <a:cubicBezTo>
                  <a:pt x="215" y="209"/>
                  <a:pt x="214" y="208"/>
                  <a:pt x="223" y="227"/>
                </a:cubicBezTo>
                <a:cubicBezTo>
                  <a:pt x="232" y="246"/>
                  <a:pt x="244" y="270"/>
                  <a:pt x="253" y="287"/>
                </a:cubicBezTo>
                <a:cubicBezTo>
                  <a:pt x="262" y="304"/>
                  <a:pt x="270" y="312"/>
                  <a:pt x="277" y="326"/>
                </a:cubicBezTo>
                <a:cubicBezTo>
                  <a:pt x="284" y="340"/>
                  <a:pt x="293" y="352"/>
                  <a:pt x="294" y="370"/>
                </a:cubicBezTo>
                <a:cubicBezTo>
                  <a:pt x="295" y="388"/>
                  <a:pt x="291" y="413"/>
                  <a:pt x="283" y="437"/>
                </a:cubicBezTo>
                <a:cubicBezTo>
                  <a:pt x="275" y="461"/>
                  <a:pt x="265" y="483"/>
                  <a:pt x="248" y="516"/>
                </a:cubicBezTo>
                <a:cubicBezTo>
                  <a:pt x="231" y="549"/>
                  <a:pt x="198" y="605"/>
                  <a:pt x="182" y="636"/>
                </a:cubicBezTo>
                <a:cubicBezTo>
                  <a:pt x="166" y="667"/>
                  <a:pt x="167" y="692"/>
                  <a:pt x="154" y="702"/>
                </a:cubicBezTo>
                <a:lnTo>
                  <a:pt x="102" y="696"/>
                </a:lnTo>
                <a:cubicBezTo>
                  <a:pt x="93" y="674"/>
                  <a:pt x="94" y="600"/>
                  <a:pt x="100" y="572"/>
                </a:cubicBezTo>
                <a:cubicBezTo>
                  <a:pt x="106" y="544"/>
                  <a:pt x="132" y="543"/>
                  <a:pt x="140" y="530"/>
                </a:cubicBezTo>
                <a:cubicBezTo>
                  <a:pt x="148" y="517"/>
                  <a:pt x="142" y="502"/>
                  <a:pt x="146" y="496"/>
                </a:cubicBezTo>
                <a:cubicBezTo>
                  <a:pt x="150" y="490"/>
                  <a:pt x="157" y="495"/>
                  <a:pt x="162" y="492"/>
                </a:cubicBezTo>
                <a:cubicBezTo>
                  <a:pt x="167" y="489"/>
                  <a:pt x="170" y="482"/>
                  <a:pt x="176" y="476"/>
                </a:cubicBezTo>
                <a:cubicBezTo>
                  <a:pt x="182" y="470"/>
                  <a:pt x="205" y="466"/>
                  <a:pt x="196" y="458"/>
                </a:cubicBezTo>
                <a:cubicBezTo>
                  <a:pt x="187" y="450"/>
                  <a:pt x="149" y="438"/>
                  <a:pt x="120" y="426"/>
                </a:cubicBezTo>
                <a:cubicBezTo>
                  <a:pt x="91" y="414"/>
                  <a:pt x="33" y="403"/>
                  <a:pt x="20" y="388"/>
                </a:cubicBezTo>
                <a:cubicBezTo>
                  <a:pt x="7" y="373"/>
                  <a:pt x="44" y="358"/>
                  <a:pt x="42" y="336"/>
                </a:cubicBezTo>
                <a:cubicBezTo>
                  <a:pt x="40" y="314"/>
                  <a:pt x="9" y="279"/>
                  <a:pt x="8" y="254"/>
                </a:cubicBezTo>
                <a:cubicBezTo>
                  <a:pt x="7" y="229"/>
                  <a:pt x="37" y="199"/>
                  <a:pt x="38" y="186"/>
                </a:cubicBezTo>
                <a:cubicBezTo>
                  <a:pt x="39" y="173"/>
                  <a:pt x="22" y="178"/>
                  <a:pt x="16" y="174"/>
                </a:cubicBezTo>
                <a:cubicBezTo>
                  <a:pt x="10" y="170"/>
                  <a:pt x="0" y="171"/>
                  <a:pt x="4" y="160"/>
                </a:cubicBezTo>
                <a:cubicBezTo>
                  <a:pt x="8" y="149"/>
                  <a:pt x="34" y="131"/>
                  <a:pt x="40" y="106"/>
                </a:cubicBezTo>
                <a:cubicBezTo>
                  <a:pt x="46" y="81"/>
                  <a:pt x="30" y="27"/>
                  <a:pt x="38" y="12"/>
                </a:cubicBezTo>
                <a:lnTo>
                  <a:pt x="86" y="16"/>
                </a:lnTo>
                <a:lnTo>
                  <a:pt x="114" y="0"/>
                </a:ln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45"/>
          <p:cNvSpPr/>
          <p:nvPr/>
        </p:nvSpPr>
        <p:spPr>
          <a:xfrm>
            <a:off x="4330800" y="3365640"/>
            <a:ext cx="1271520" cy="628560"/>
          </a:xfrm>
          <a:custGeom>
            <a:avLst/>
            <a:gdLst>
              <a:gd name="textAreaLeft" fmla="*/ 0 w 1271520"/>
              <a:gd name="textAreaRight" fmla="*/ 1271880 w 1271520"/>
              <a:gd name="textAreaTop" fmla="*/ 0 h 628560"/>
              <a:gd name="textAreaBottom" fmla="*/ 628920 h 628560"/>
            </a:gdLst>
            <a:ahLst/>
            <a:rect l="textAreaLeft" t="textAreaTop" r="textAreaRight" b="textAreaBottom"/>
            <a:pathLst>
              <a:path w="801" h="396">
                <a:moveTo>
                  <a:pt x="17" y="174"/>
                </a:moveTo>
                <a:cubicBezTo>
                  <a:pt x="21" y="170"/>
                  <a:pt x="40" y="174"/>
                  <a:pt x="50" y="181"/>
                </a:cubicBezTo>
                <a:cubicBezTo>
                  <a:pt x="60" y="188"/>
                  <a:pt x="69" y="212"/>
                  <a:pt x="79" y="213"/>
                </a:cubicBezTo>
                <a:cubicBezTo>
                  <a:pt x="89" y="214"/>
                  <a:pt x="101" y="192"/>
                  <a:pt x="110" y="187"/>
                </a:cubicBezTo>
                <a:cubicBezTo>
                  <a:pt x="119" y="182"/>
                  <a:pt x="123" y="180"/>
                  <a:pt x="134" y="183"/>
                </a:cubicBezTo>
                <a:cubicBezTo>
                  <a:pt x="145" y="186"/>
                  <a:pt x="158" y="210"/>
                  <a:pt x="175" y="208"/>
                </a:cubicBezTo>
                <a:cubicBezTo>
                  <a:pt x="192" y="206"/>
                  <a:pt x="224" y="173"/>
                  <a:pt x="239" y="169"/>
                </a:cubicBezTo>
                <a:cubicBezTo>
                  <a:pt x="254" y="165"/>
                  <a:pt x="251" y="183"/>
                  <a:pt x="263" y="183"/>
                </a:cubicBezTo>
                <a:cubicBezTo>
                  <a:pt x="275" y="183"/>
                  <a:pt x="301" y="169"/>
                  <a:pt x="313" y="169"/>
                </a:cubicBezTo>
                <a:cubicBezTo>
                  <a:pt x="325" y="169"/>
                  <a:pt x="329" y="173"/>
                  <a:pt x="337" y="181"/>
                </a:cubicBezTo>
                <a:cubicBezTo>
                  <a:pt x="345" y="189"/>
                  <a:pt x="354" y="213"/>
                  <a:pt x="361" y="217"/>
                </a:cubicBezTo>
                <a:cubicBezTo>
                  <a:pt x="368" y="221"/>
                  <a:pt x="377" y="210"/>
                  <a:pt x="380" y="204"/>
                </a:cubicBezTo>
                <a:cubicBezTo>
                  <a:pt x="383" y="198"/>
                  <a:pt x="381" y="187"/>
                  <a:pt x="382" y="180"/>
                </a:cubicBezTo>
                <a:cubicBezTo>
                  <a:pt x="383" y="173"/>
                  <a:pt x="393" y="170"/>
                  <a:pt x="389" y="163"/>
                </a:cubicBezTo>
                <a:cubicBezTo>
                  <a:pt x="385" y="156"/>
                  <a:pt x="363" y="146"/>
                  <a:pt x="358" y="135"/>
                </a:cubicBezTo>
                <a:cubicBezTo>
                  <a:pt x="353" y="124"/>
                  <a:pt x="356" y="107"/>
                  <a:pt x="358" y="96"/>
                </a:cubicBezTo>
                <a:cubicBezTo>
                  <a:pt x="360" y="85"/>
                  <a:pt x="362" y="72"/>
                  <a:pt x="368" y="67"/>
                </a:cubicBezTo>
                <a:cubicBezTo>
                  <a:pt x="374" y="62"/>
                  <a:pt x="380" y="75"/>
                  <a:pt x="392" y="69"/>
                </a:cubicBezTo>
                <a:cubicBezTo>
                  <a:pt x="404" y="63"/>
                  <a:pt x="425" y="35"/>
                  <a:pt x="442" y="30"/>
                </a:cubicBezTo>
                <a:cubicBezTo>
                  <a:pt x="459" y="25"/>
                  <a:pt x="484" y="31"/>
                  <a:pt x="496" y="36"/>
                </a:cubicBezTo>
                <a:cubicBezTo>
                  <a:pt x="508" y="41"/>
                  <a:pt x="509" y="58"/>
                  <a:pt x="517" y="60"/>
                </a:cubicBezTo>
                <a:cubicBezTo>
                  <a:pt x="525" y="62"/>
                  <a:pt x="533" y="47"/>
                  <a:pt x="547" y="48"/>
                </a:cubicBezTo>
                <a:cubicBezTo>
                  <a:pt x="561" y="49"/>
                  <a:pt x="588" y="72"/>
                  <a:pt x="601" y="67"/>
                </a:cubicBezTo>
                <a:cubicBezTo>
                  <a:pt x="614" y="62"/>
                  <a:pt x="616" y="29"/>
                  <a:pt x="625" y="18"/>
                </a:cubicBezTo>
                <a:cubicBezTo>
                  <a:pt x="634" y="7"/>
                  <a:pt x="645" y="5"/>
                  <a:pt x="653" y="3"/>
                </a:cubicBezTo>
                <a:cubicBezTo>
                  <a:pt x="661" y="1"/>
                  <a:pt x="669" y="0"/>
                  <a:pt x="674" y="7"/>
                </a:cubicBezTo>
                <a:cubicBezTo>
                  <a:pt x="679" y="14"/>
                  <a:pt x="678" y="35"/>
                  <a:pt x="686" y="43"/>
                </a:cubicBezTo>
                <a:cubicBezTo>
                  <a:pt x="694" y="51"/>
                  <a:pt x="709" y="53"/>
                  <a:pt x="721" y="54"/>
                </a:cubicBezTo>
                <a:cubicBezTo>
                  <a:pt x="733" y="55"/>
                  <a:pt x="751" y="43"/>
                  <a:pt x="760" y="51"/>
                </a:cubicBezTo>
                <a:cubicBezTo>
                  <a:pt x="769" y="59"/>
                  <a:pt x="768" y="94"/>
                  <a:pt x="775" y="105"/>
                </a:cubicBezTo>
                <a:cubicBezTo>
                  <a:pt x="782" y="116"/>
                  <a:pt x="797" y="109"/>
                  <a:pt x="799" y="117"/>
                </a:cubicBezTo>
                <a:cubicBezTo>
                  <a:pt x="801" y="125"/>
                  <a:pt x="792" y="140"/>
                  <a:pt x="788" y="154"/>
                </a:cubicBezTo>
                <a:cubicBezTo>
                  <a:pt x="784" y="168"/>
                  <a:pt x="782" y="190"/>
                  <a:pt x="776" y="201"/>
                </a:cubicBezTo>
                <a:cubicBezTo>
                  <a:pt x="770" y="212"/>
                  <a:pt x="754" y="209"/>
                  <a:pt x="749" y="217"/>
                </a:cubicBezTo>
                <a:cubicBezTo>
                  <a:pt x="744" y="225"/>
                  <a:pt x="754" y="238"/>
                  <a:pt x="748" y="250"/>
                </a:cubicBezTo>
                <a:cubicBezTo>
                  <a:pt x="742" y="262"/>
                  <a:pt x="726" y="282"/>
                  <a:pt x="715" y="289"/>
                </a:cubicBezTo>
                <a:cubicBezTo>
                  <a:pt x="704" y="296"/>
                  <a:pt x="692" y="290"/>
                  <a:pt x="685" y="295"/>
                </a:cubicBezTo>
                <a:cubicBezTo>
                  <a:pt x="678" y="300"/>
                  <a:pt x="679" y="311"/>
                  <a:pt x="674" y="318"/>
                </a:cubicBezTo>
                <a:cubicBezTo>
                  <a:pt x="669" y="325"/>
                  <a:pt x="662" y="338"/>
                  <a:pt x="652" y="339"/>
                </a:cubicBezTo>
                <a:cubicBezTo>
                  <a:pt x="642" y="340"/>
                  <a:pt x="625" y="324"/>
                  <a:pt x="613" y="324"/>
                </a:cubicBezTo>
                <a:cubicBezTo>
                  <a:pt x="601" y="324"/>
                  <a:pt x="588" y="338"/>
                  <a:pt x="577" y="339"/>
                </a:cubicBezTo>
                <a:cubicBezTo>
                  <a:pt x="566" y="340"/>
                  <a:pt x="553" y="328"/>
                  <a:pt x="545" y="331"/>
                </a:cubicBezTo>
                <a:cubicBezTo>
                  <a:pt x="537" y="334"/>
                  <a:pt x="539" y="347"/>
                  <a:pt x="526" y="357"/>
                </a:cubicBezTo>
                <a:cubicBezTo>
                  <a:pt x="513" y="367"/>
                  <a:pt x="503" y="396"/>
                  <a:pt x="467" y="393"/>
                </a:cubicBezTo>
                <a:cubicBezTo>
                  <a:pt x="431" y="390"/>
                  <a:pt x="343" y="346"/>
                  <a:pt x="311" y="339"/>
                </a:cubicBezTo>
                <a:cubicBezTo>
                  <a:pt x="279" y="332"/>
                  <a:pt x="292" y="350"/>
                  <a:pt x="277" y="349"/>
                </a:cubicBezTo>
                <a:cubicBezTo>
                  <a:pt x="262" y="348"/>
                  <a:pt x="236" y="342"/>
                  <a:pt x="223" y="336"/>
                </a:cubicBezTo>
                <a:cubicBezTo>
                  <a:pt x="210" y="330"/>
                  <a:pt x="208" y="318"/>
                  <a:pt x="197" y="313"/>
                </a:cubicBezTo>
                <a:cubicBezTo>
                  <a:pt x="186" y="308"/>
                  <a:pt x="165" y="306"/>
                  <a:pt x="154" y="306"/>
                </a:cubicBezTo>
                <a:cubicBezTo>
                  <a:pt x="143" y="306"/>
                  <a:pt x="136" y="310"/>
                  <a:pt x="133" y="315"/>
                </a:cubicBezTo>
                <a:cubicBezTo>
                  <a:pt x="130" y="320"/>
                  <a:pt x="141" y="332"/>
                  <a:pt x="134" y="334"/>
                </a:cubicBezTo>
                <a:cubicBezTo>
                  <a:pt x="127" y="336"/>
                  <a:pt x="94" y="335"/>
                  <a:pt x="88" y="327"/>
                </a:cubicBezTo>
                <a:cubicBezTo>
                  <a:pt x="82" y="319"/>
                  <a:pt x="100" y="296"/>
                  <a:pt x="100" y="288"/>
                </a:cubicBezTo>
                <a:cubicBezTo>
                  <a:pt x="100" y="280"/>
                  <a:pt x="93" y="276"/>
                  <a:pt x="85" y="276"/>
                </a:cubicBezTo>
                <a:cubicBezTo>
                  <a:pt x="77" y="276"/>
                  <a:pt x="60" y="289"/>
                  <a:pt x="53" y="285"/>
                </a:cubicBezTo>
                <a:cubicBezTo>
                  <a:pt x="46" y="281"/>
                  <a:pt x="52" y="263"/>
                  <a:pt x="44" y="253"/>
                </a:cubicBezTo>
                <a:cubicBezTo>
                  <a:pt x="36" y="243"/>
                  <a:pt x="8" y="235"/>
                  <a:pt x="4" y="222"/>
                </a:cubicBezTo>
                <a:cubicBezTo>
                  <a:pt x="0" y="209"/>
                  <a:pt x="14" y="184"/>
                  <a:pt x="17" y="174"/>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Picture 46" descr="nazi"/>
          <p:cNvPicPr/>
          <p:nvPr/>
        </p:nvPicPr>
        <p:blipFill>
          <a:blip r:embed="rId6"/>
          <a:stretch/>
        </p:blipFill>
        <p:spPr>
          <a:xfrm>
            <a:off x="5019840" y="3533760"/>
            <a:ext cx="215640" cy="128520"/>
          </a:xfrm>
          <a:prstGeom prst="rect">
            <a:avLst/>
          </a:prstGeom>
          <a:ln w="0">
            <a:noFill/>
          </a:ln>
        </p:spPr>
      </p:pic>
      <p:sp>
        <p:nvSpPr>
          <p:cNvPr id="218" name="Freeform 47"/>
          <p:cNvSpPr/>
          <p:nvPr/>
        </p:nvSpPr>
        <p:spPr>
          <a:xfrm>
            <a:off x="4797360" y="2836800"/>
            <a:ext cx="1041480" cy="378000"/>
          </a:xfrm>
          <a:custGeom>
            <a:avLst/>
            <a:gdLst>
              <a:gd name="textAreaLeft" fmla="*/ 0 w 1041480"/>
              <a:gd name="textAreaRight" fmla="*/ 1041480 w 1041480"/>
              <a:gd name="textAreaTop" fmla="*/ 0 h 378000"/>
              <a:gd name="textAreaBottom" fmla="*/ 378360 h 378000"/>
            </a:gdLst>
            <a:ahLst/>
            <a:rect l="textAreaLeft" t="textAreaTop" r="textAreaRight" b="textAreaBottom"/>
            <a:pathLst>
              <a:path w="656" h="238">
                <a:moveTo>
                  <a:pt x="656" y="196"/>
                </a:moveTo>
                <a:lnTo>
                  <a:pt x="625" y="238"/>
                </a:lnTo>
                <a:cubicBezTo>
                  <a:pt x="600" y="235"/>
                  <a:pt x="534" y="185"/>
                  <a:pt x="508" y="175"/>
                </a:cubicBezTo>
                <a:cubicBezTo>
                  <a:pt x="482" y="165"/>
                  <a:pt x="479" y="179"/>
                  <a:pt x="469" y="178"/>
                </a:cubicBezTo>
                <a:cubicBezTo>
                  <a:pt x="459" y="177"/>
                  <a:pt x="453" y="175"/>
                  <a:pt x="448" y="168"/>
                </a:cubicBezTo>
                <a:cubicBezTo>
                  <a:pt x="443" y="161"/>
                  <a:pt x="446" y="146"/>
                  <a:pt x="440" y="133"/>
                </a:cubicBezTo>
                <a:cubicBezTo>
                  <a:pt x="434" y="120"/>
                  <a:pt x="418" y="94"/>
                  <a:pt x="410" y="90"/>
                </a:cubicBezTo>
                <a:cubicBezTo>
                  <a:pt x="402" y="86"/>
                  <a:pt x="402" y="107"/>
                  <a:pt x="391" y="106"/>
                </a:cubicBezTo>
                <a:cubicBezTo>
                  <a:pt x="380" y="105"/>
                  <a:pt x="354" y="85"/>
                  <a:pt x="344" y="82"/>
                </a:cubicBezTo>
                <a:cubicBezTo>
                  <a:pt x="334" y="79"/>
                  <a:pt x="335" y="87"/>
                  <a:pt x="329" y="88"/>
                </a:cubicBezTo>
                <a:cubicBezTo>
                  <a:pt x="323" y="89"/>
                  <a:pt x="315" y="93"/>
                  <a:pt x="308" y="90"/>
                </a:cubicBezTo>
                <a:cubicBezTo>
                  <a:pt x="301" y="87"/>
                  <a:pt x="311" y="70"/>
                  <a:pt x="289" y="72"/>
                </a:cubicBezTo>
                <a:cubicBezTo>
                  <a:pt x="267" y="74"/>
                  <a:pt x="207" y="89"/>
                  <a:pt x="173" y="103"/>
                </a:cubicBezTo>
                <a:cubicBezTo>
                  <a:pt x="139" y="117"/>
                  <a:pt x="104" y="145"/>
                  <a:pt x="83" y="154"/>
                </a:cubicBezTo>
                <a:lnTo>
                  <a:pt x="49" y="156"/>
                </a:lnTo>
                <a:cubicBezTo>
                  <a:pt x="36" y="149"/>
                  <a:pt x="8" y="124"/>
                  <a:pt x="4" y="111"/>
                </a:cubicBezTo>
                <a:cubicBezTo>
                  <a:pt x="0" y="98"/>
                  <a:pt x="13" y="82"/>
                  <a:pt x="23" y="79"/>
                </a:cubicBezTo>
                <a:cubicBezTo>
                  <a:pt x="33" y="76"/>
                  <a:pt x="53" y="90"/>
                  <a:pt x="65" y="90"/>
                </a:cubicBezTo>
                <a:cubicBezTo>
                  <a:pt x="77" y="90"/>
                  <a:pt x="85" y="80"/>
                  <a:pt x="94" y="78"/>
                </a:cubicBezTo>
                <a:cubicBezTo>
                  <a:pt x="103" y="76"/>
                  <a:pt x="114" y="82"/>
                  <a:pt x="122" y="79"/>
                </a:cubicBezTo>
                <a:cubicBezTo>
                  <a:pt x="130" y="76"/>
                  <a:pt x="131" y="61"/>
                  <a:pt x="142" y="58"/>
                </a:cubicBezTo>
                <a:cubicBezTo>
                  <a:pt x="153" y="55"/>
                  <a:pt x="178" y="63"/>
                  <a:pt x="187" y="60"/>
                </a:cubicBezTo>
                <a:cubicBezTo>
                  <a:pt x="196" y="57"/>
                  <a:pt x="188" y="45"/>
                  <a:pt x="196" y="40"/>
                </a:cubicBezTo>
                <a:cubicBezTo>
                  <a:pt x="204" y="35"/>
                  <a:pt x="222" y="37"/>
                  <a:pt x="235" y="31"/>
                </a:cubicBezTo>
                <a:cubicBezTo>
                  <a:pt x="248" y="25"/>
                  <a:pt x="260" y="2"/>
                  <a:pt x="277" y="1"/>
                </a:cubicBezTo>
                <a:cubicBezTo>
                  <a:pt x="294" y="0"/>
                  <a:pt x="324" y="24"/>
                  <a:pt x="338" y="27"/>
                </a:cubicBezTo>
                <a:cubicBezTo>
                  <a:pt x="352" y="30"/>
                  <a:pt x="352" y="16"/>
                  <a:pt x="362" y="19"/>
                </a:cubicBezTo>
                <a:cubicBezTo>
                  <a:pt x="372" y="22"/>
                  <a:pt x="391" y="43"/>
                  <a:pt x="401" y="45"/>
                </a:cubicBezTo>
                <a:cubicBezTo>
                  <a:pt x="411" y="47"/>
                  <a:pt x="414" y="28"/>
                  <a:pt x="424" y="33"/>
                </a:cubicBezTo>
                <a:cubicBezTo>
                  <a:pt x="434" y="38"/>
                  <a:pt x="456" y="62"/>
                  <a:pt x="464" y="78"/>
                </a:cubicBezTo>
                <a:cubicBezTo>
                  <a:pt x="472" y="94"/>
                  <a:pt x="468" y="123"/>
                  <a:pt x="475" y="129"/>
                </a:cubicBezTo>
                <a:cubicBezTo>
                  <a:pt x="482" y="135"/>
                  <a:pt x="494" y="115"/>
                  <a:pt x="505" y="112"/>
                </a:cubicBezTo>
                <a:cubicBezTo>
                  <a:pt x="516" y="109"/>
                  <a:pt x="528" y="113"/>
                  <a:pt x="539" y="114"/>
                </a:cubicBezTo>
                <a:cubicBezTo>
                  <a:pt x="550" y="115"/>
                  <a:pt x="562" y="112"/>
                  <a:pt x="571" y="115"/>
                </a:cubicBezTo>
                <a:cubicBezTo>
                  <a:pt x="580" y="118"/>
                  <a:pt x="589" y="127"/>
                  <a:pt x="592" y="135"/>
                </a:cubicBezTo>
                <a:cubicBezTo>
                  <a:pt x="595" y="143"/>
                  <a:pt x="583" y="159"/>
                  <a:pt x="589" y="166"/>
                </a:cubicBezTo>
                <a:cubicBezTo>
                  <a:pt x="595" y="173"/>
                  <a:pt x="618" y="172"/>
                  <a:pt x="629" y="177"/>
                </a:cubicBezTo>
                <a:cubicBezTo>
                  <a:pt x="640" y="182"/>
                  <a:pt x="651" y="192"/>
                  <a:pt x="656" y="196"/>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48"/>
          <p:cNvSpPr/>
          <p:nvPr/>
        </p:nvSpPr>
        <p:spPr>
          <a:xfrm>
            <a:off x="4875120" y="3081240"/>
            <a:ext cx="674640" cy="395280"/>
          </a:xfrm>
          <a:custGeom>
            <a:avLst/>
            <a:gdLst>
              <a:gd name="textAreaLeft" fmla="*/ 0 w 674640"/>
              <a:gd name="textAreaRight" fmla="*/ 675000 w 674640"/>
              <a:gd name="textAreaTop" fmla="*/ 0 h 395280"/>
              <a:gd name="textAreaBottom" fmla="*/ 395640 h 395280"/>
            </a:gdLst>
            <a:ahLst/>
            <a:rect l="textAreaLeft" t="textAreaTop" r="textAreaRight" b="textAreaBottom"/>
            <a:pathLst>
              <a:path w="425" h="249">
                <a:moveTo>
                  <a:pt x="0" y="2"/>
                </a:moveTo>
                <a:lnTo>
                  <a:pt x="34" y="0"/>
                </a:lnTo>
                <a:cubicBezTo>
                  <a:pt x="41" y="8"/>
                  <a:pt x="29" y="26"/>
                  <a:pt x="43" y="50"/>
                </a:cubicBezTo>
                <a:cubicBezTo>
                  <a:pt x="57" y="74"/>
                  <a:pt x="99" y="124"/>
                  <a:pt x="120" y="146"/>
                </a:cubicBezTo>
                <a:cubicBezTo>
                  <a:pt x="141" y="168"/>
                  <a:pt x="158" y="177"/>
                  <a:pt x="171" y="182"/>
                </a:cubicBezTo>
                <a:cubicBezTo>
                  <a:pt x="184" y="187"/>
                  <a:pt x="188" y="175"/>
                  <a:pt x="196" y="179"/>
                </a:cubicBezTo>
                <a:cubicBezTo>
                  <a:pt x="204" y="183"/>
                  <a:pt x="203" y="202"/>
                  <a:pt x="217" y="206"/>
                </a:cubicBezTo>
                <a:cubicBezTo>
                  <a:pt x="231" y="210"/>
                  <a:pt x="269" y="207"/>
                  <a:pt x="280" y="204"/>
                </a:cubicBezTo>
                <a:cubicBezTo>
                  <a:pt x="291" y="201"/>
                  <a:pt x="279" y="193"/>
                  <a:pt x="283" y="189"/>
                </a:cubicBezTo>
                <a:cubicBezTo>
                  <a:pt x="287" y="185"/>
                  <a:pt x="301" y="189"/>
                  <a:pt x="304" y="182"/>
                </a:cubicBezTo>
                <a:cubicBezTo>
                  <a:pt x="307" y="175"/>
                  <a:pt x="292" y="150"/>
                  <a:pt x="301" y="149"/>
                </a:cubicBezTo>
                <a:cubicBezTo>
                  <a:pt x="310" y="148"/>
                  <a:pt x="346" y="167"/>
                  <a:pt x="358" y="174"/>
                </a:cubicBezTo>
                <a:cubicBezTo>
                  <a:pt x="370" y="181"/>
                  <a:pt x="370" y="188"/>
                  <a:pt x="376" y="191"/>
                </a:cubicBezTo>
                <a:cubicBezTo>
                  <a:pt x="382" y="194"/>
                  <a:pt x="390" y="187"/>
                  <a:pt x="397" y="192"/>
                </a:cubicBezTo>
                <a:cubicBezTo>
                  <a:pt x="404" y="197"/>
                  <a:pt x="425" y="218"/>
                  <a:pt x="417" y="224"/>
                </a:cubicBezTo>
                <a:cubicBezTo>
                  <a:pt x="409" y="230"/>
                  <a:pt x="366" y="235"/>
                  <a:pt x="351" y="228"/>
                </a:cubicBezTo>
                <a:cubicBezTo>
                  <a:pt x="336" y="221"/>
                  <a:pt x="335" y="188"/>
                  <a:pt x="324" y="182"/>
                </a:cubicBezTo>
                <a:cubicBezTo>
                  <a:pt x="313" y="176"/>
                  <a:pt x="292" y="183"/>
                  <a:pt x="285" y="191"/>
                </a:cubicBezTo>
                <a:cubicBezTo>
                  <a:pt x="278" y="199"/>
                  <a:pt x="285" y="224"/>
                  <a:pt x="279" y="233"/>
                </a:cubicBezTo>
                <a:cubicBezTo>
                  <a:pt x="273" y="242"/>
                  <a:pt x="261" y="249"/>
                  <a:pt x="249" y="248"/>
                </a:cubicBezTo>
                <a:cubicBezTo>
                  <a:pt x="237" y="247"/>
                  <a:pt x="220" y="227"/>
                  <a:pt x="207" y="225"/>
                </a:cubicBezTo>
                <a:cubicBezTo>
                  <a:pt x="194" y="223"/>
                  <a:pt x="179" y="241"/>
                  <a:pt x="171" y="239"/>
                </a:cubicBezTo>
                <a:cubicBezTo>
                  <a:pt x="163" y="237"/>
                  <a:pt x="165" y="221"/>
                  <a:pt x="156" y="216"/>
                </a:cubicBezTo>
                <a:cubicBezTo>
                  <a:pt x="147" y="211"/>
                  <a:pt x="123" y="216"/>
                  <a:pt x="115" y="206"/>
                </a:cubicBezTo>
                <a:lnTo>
                  <a:pt x="108" y="158"/>
                </a:lnTo>
                <a:cubicBezTo>
                  <a:pt x="99" y="145"/>
                  <a:pt x="71" y="133"/>
                  <a:pt x="60" y="126"/>
                </a:cubicBezTo>
                <a:cubicBezTo>
                  <a:pt x="49" y="119"/>
                  <a:pt x="45" y="120"/>
                  <a:pt x="42" y="113"/>
                </a:cubicBezTo>
                <a:cubicBezTo>
                  <a:pt x="39" y="106"/>
                  <a:pt x="45" y="93"/>
                  <a:pt x="39" y="83"/>
                </a:cubicBezTo>
                <a:cubicBezTo>
                  <a:pt x="33" y="73"/>
                  <a:pt x="13" y="66"/>
                  <a:pt x="7" y="53"/>
                </a:cubicBezTo>
                <a:cubicBezTo>
                  <a:pt x="1" y="40"/>
                  <a:pt x="1" y="13"/>
                  <a:pt x="0" y="2"/>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49"/>
          <p:cNvSpPr/>
          <p:nvPr/>
        </p:nvSpPr>
        <p:spPr>
          <a:xfrm>
            <a:off x="4932360" y="2949480"/>
            <a:ext cx="1952640" cy="760680"/>
          </a:xfrm>
          <a:custGeom>
            <a:avLst/>
            <a:gdLst>
              <a:gd name="textAreaLeft" fmla="*/ 0 w 1952640"/>
              <a:gd name="textAreaRight" fmla="*/ 1952640 w 1952640"/>
              <a:gd name="textAreaTop" fmla="*/ 0 h 760680"/>
              <a:gd name="textAreaBottom" fmla="*/ 761040 h 760680"/>
            </a:gdLst>
            <a:ahLst/>
            <a:rect l="textAreaLeft" t="textAreaTop" r="textAreaRight" b="textAreaBottom"/>
            <a:pathLst>
              <a:path w="1230" h="479">
                <a:moveTo>
                  <a:pt x="0" y="85"/>
                </a:moveTo>
                <a:cubicBezTo>
                  <a:pt x="17" y="69"/>
                  <a:pt x="62" y="42"/>
                  <a:pt x="97" y="28"/>
                </a:cubicBezTo>
                <a:cubicBezTo>
                  <a:pt x="132" y="14"/>
                  <a:pt x="186" y="2"/>
                  <a:pt x="208" y="1"/>
                </a:cubicBezTo>
                <a:cubicBezTo>
                  <a:pt x="230" y="0"/>
                  <a:pt x="220" y="20"/>
                  <a:pt x="228" y="22"/>
                </a:cubicBezTo>
                <a:cubicBezTo>
                  <a:pt x="236" y="24"/>
                  <a:pt x="245" y="9"/>
                  <a:pt x="258" y="11"/>
                </a:cubicBezTo>
                <a:cubicBezTo>
                  <a:pt x="271" y="13"/>
                  <a:pt x="295" y="34"/>
                  <a:pt x="306" y="35"/>
                </a:cubicBezTo>
                <a:cubicBezTo>
                  <a:pt x="317" y="36"/>
                  <a:pt x="314" y="17"/>
                  <a:pt x="322" y="20"/>
                </a:cubicBezTo>
                <a:cubicBezTo>
                  <a:pt x="330" y="23"/>
                  <a:pt x="344" y="38"/>
                  <a:pt x="352" y="52"/>
                </a:cubicBezTo>
                <a:cubicBezTo>
                  <a:pt x="360" y="66"/>
                  <a:pt x="358" y="98"/>
                  <a:pt x="369" y="106"/>
                </a:cubicBezTo>
                <a:cubicBezTo>
                  <a:pt x="380" y="114"/>
                  <a:pt x="391" y="93"/>
                  <a:pt x="420" y="103"/>
                </a:cubicBezTo>
                <a:cubicBezTo>
                  <a:pt x="449" y="113"/>
                  <a:pt x="517" y="162"/>
                  <a:pt x="541" y="166"/>
                </a:cubicBezTo>
                <a:lnTo>
                  <a:pt x="567" y="127"/>
                </a:lnTo>
                <a:cubicBezTo>
                  <a:pt x="573" y="122"/>
                  <a:pt x="570" y="132"/>
                  <a:pt x="574" y="136"/>
                </a:cubicBezTo>
                <a:cubicBezTo>
                  <a:pt x="578" y="140"/>
                  <a:pt x="582" y="148"/>
                  <a:pt x="594" y="154"/>
                </a:cubicBezTo>
                <a:cubicBezTo>
                  <a:pt x="606" y="160"/>
                  <a:pt x="633" y="166"/>
                  <a:pt x="649" y="170"/>
                </a:cubicBezTo>
                <a:cubicBezTo>
                  <a:pt x="665" y="174"/>
                  <a:pt x="681" y="176"/>
                  <a:pt x="690" y="181"/>
                </a:cubicBezTo>
                <a:cubicBezTo>
                  <a:pt x="699" y="186"/>
                  <a:pt x="700" y="198"/>
                  <a:pt x="706" y="203"/>
                </a:cubicBezTo>
                <a:cubicBezTo>
                  <a:pt x="712" y="208"/>
                  <a:pt x="721" y="208"/>
                  <a:pt x="726" y="211"/>
                </a:cubicBezTo>
                <a:cubicBezTo>
                  <a:pt x="731" y="214"/>
                  <a:pt x="734" y="210"/>
                  <a:pt x="738" y="220"/>
                </a:cubicBezTo>
                <a:cubicBezTo>
                  <a:pt x="742" y="230"/>
                  <a:pt x="743" y="265"/>
                  <a:pt x="751" y="274"/>
                </a:cubicBezTo>
                <a:cubicBezTo>
                  <a:pt x="759" y="283"/>
                  <a:pt x="775" y="283"/>
                  <a:pt x="787" y="277"/>
                </a:cubicBezTo>
                <a:cubicBezTo>
                  <a:pt x="799" y="271"/>
                  <a:pt x="813" y="246"/>
                  <a:pt x="825" y="238"/>
                </a:cubicBezTo>
                <a:cubicBezTo>
                  <a:pt x="837" y="230"/>
                  <a:pt x="850" y="230"/>
                  <a:pt x="858" y="229"/>
                </a:cubicBezTo>
                <a:cubicBezTo>
                  <a:pt x="866" y="228"/>
                  <a:pt x="867" y="235"/>
                  <a:pt x="873" y="235"/>
                </a:cubicBezTo>
                <a:cubicBezTo>
                  <a:pt x="879" y="235"/>
                  <a:pt x="885" y="227"/>
                  <a:pt x="895" y="229"/>
                </a:cubicBezTo>
                <a:cubicBezTo>
                  <a:pt x="905" y="231"/>
                  <a:pt x="920" y="246"/>
                  <a:pt x="933" y="248"/>
                </a:cubicBezTo>
                <a:cubicBezTo>
                  <a:pt x="946" y="250"/>
                  <a:pt x="961" y="238"/>
                  <a:pt x="972" y="242"/>
                </a:cubicBezTo>
                <a:cubicBezTo>
                  <a:pt x="983" y="246"/>
                  <a:pt x="994" y="268"/>
                  <a:pt x="1003" y="274"/>
                </a:cubicBezTo>
                <a:cubicBezTo>
                  <a:pt x="1012" y="280"/>
                  <a:pt x="1018" y="272"/>
                  <a:pt x="1027" y="278"/>
                </a:cubicBezTo>
                <a:cubicBezTo>
                  <a:pt x="1036" y="284"/>
                  <a:pt x="1050" y="305"/>
                  <a:pt x="1060" y="310"/>
                </a:cubicBezTo>
                <a:cubicBezTo>
                  <a:pt x="1070" y="315"/>
                  <a:pt x="1080" y="305"/>
                  <a:pt x="1089" y="311"/>
                </a:cubicBezTo>
                <a:cubicBezTo>
                  <a:pt x="1098" y="317"/>
                  <a:pt x="1101" y="340"/>
                  <a:pt x="1113" y="347"/>
                </a:cubicBezTo>
                <a:cubicBezTo>
                  <a:pt x="1125" y="354"/>
                  <a:pt x="1154" y="345"/>
                  <a:pt x="1161" y="352"/>
                </a:cubicBezTo>
                <a:cubicBezTo>
                  <a:pt x="1168" y="359"/>
                  <a:pt x="1150" y="382"/>
                  <a:pt x="1156" y="391"/>
                </a:cubicBezTo>
                <a:cubicBezTo>
                  <a:pt x="1162" y="400"/>
                  <a:pt x="1188" y="396"/>
                  <a:pt x="1197" y="407"/>
                </a:cubicBezTo>
                <a:cubicBezTo>
                  <a:pt x="1206" y="418"/>
                  <a:pt x="1204" y="446"/>
                  <a:pt x="1210" y="458"/>
                </a:cubicBezTo>
                <a:lnTo>
                  <a:pt x="1230" y="479"/>
                </a:lnTo>
                <a:cubicBezTo>
                  <a:pt x="1219" y="477"/>
                  <a:pt x="1165" y="453"/>
                  <a:pt x="1146" y="448"/>
                </a:cubicBezTo>
                <a:cubicBezTo>
                  <a:pt x="1127" y="443"/>
                  <a:pt x="1124" y="454"/>
                  <a:pt x="1116" y="451"/>
                </a:cubicBezTo>
                <a:cubicBezTo>
                  <a:pt x="1108" y="448"/>
                  <a:pt x="1103" y="433"/>
                  <a:pt x="1096" y="431"/>
                </a:cubicBezTo>
                <a:cubicBezTo>
                  <a:pt x="1089" y="429"/>
                  <a:pt x="1083" y="443"/>
                  <a:pt x="1074" y="439"/>
                </a:cubicBezTo>
                <a:cubicBezTo>
                  <a:pt x="1065" y="435"/>
                  <a:pt x="1054" y="410"/>
                  <a:pt x="1041" y="406"/>
                </a:cubicBezTo>
                <a:cubicBezTo>
                  <a:pt x="1028" y="402"/>
                  <a:pt x="1005" y="417"/>
                  <a:pt x="993" y="413"/>
                </a:cubicBezTo>
                <a:cubicBezTo>
                  <a:pt x="981" y="409"/>
                  <a:pt x="977" y="386"/>
                  <a:pt x="970" y="382"/>
                </a:cubicBezTo>
                <a:cubicBezTo>
                  <a:pt x="963" y="378"/>
                  <a:pt x="956" y="384"/>
                  <a:pt x="948" y="386"/>
                </a:cubicBezTo>
                <a:cubicBezTo>
                  <a:pt x="940" y="388"/>
                  <a:pt x="933" y="394"/>
                  <a:pt x="922" y="392"/>
                </a:cubicBezTo>
                <a:cubicBezTo>
                  <a:pt x="911" y="390"/>
                  <a:pt x="894" y="372"/>
                  <a:pt x="882" y="371"/>
                </a:cubicBezTo>
                <a:cubicBezTo>
                  <a:pt x="870" y="370"/>
                  <a:pt x="860" y="386"/>
                  <a:pt x="852" y="388"/>
                </a:cubicBezTo>
                <a:cubicBezTo>
                  <a:pt x="844" y="390"/>
                  <a:pt x="838" y="380"/>
                  <a:pt x="831" y="383"/>
                </a:cubicBezTo>
                <a:cubicBezTo>
                  <a:pt x="824" y="386"/>
                  <a:pt x="821" y="399"/>
                  <a:pt x="811" y="404"/>
                </a:cubicBezTo>
                <a:cubicBezTo>
                  <a:pt x="801" y="409"/>
                  <a:pt x="781" y="406"/>
                  <a:pt x="769" y="412"/>
                </a:cubicBezTo>
                <a:cubicBezTo>
                  <a:pt x="757" y="418"/>
                  <a:pt x="748" y="437"/>
                  <a:pt x="736" y="439"/>
                </a:cubicBezTo>
                <a:cubicBezTo>
                  <a:pt x="724" y="441"/>
                  <a:pt x="714" y="421"/>
                  <a:pt x="697" y="422"/>
                </a:cubicBezTo>
                <a:cubicBezTo>
                  <a:pt x="680" y="423"/>
                  <a:pt x="655" y="444"/>
                  <a:pt x="636" y="446"/>
                </a:cubicBezTo>
                <a:cubicBezTo>
                  <a:pt x="617" y="448"/>
                  <a:pt x="595" y="434"/>
                  <a:pt x="585" y="437"/>
                </a:cubicBezTo>
                <a:cubicBezTo>
                  <a:pt x="575" y="440"/>
                  <a:pt x="586" y="458"/>
                  <a:pt x="573" y="463"/>
                </a:cubicBezTo>
                <a:cubicBezTo>
                  <a:pt x="560" y="468"/>
                  <a:pt x="521" y="469"/>
                  <a:pt x="507" y="466"/>
                </a:cubicBezTo>
                <a:cubicBezTo>
                  <a:pt x="493" y="463"/>
                  <a:pt x="499" y="452"/>
                  <a:pt x="486" y="443"/>
                </a:cubicBezTo>
                <a:cubicBezTo>
                  <a:pt x="473" y="434"/>
                  <a:pt x="441" y="423"/>
                  <a:pt x="426" y="410"/>
                </a:cubicBezTo>
                <a:cubicBezTo>
                  <a:pt x="411" y="397"/>
                  <a:pt x="403" y="376"/>
                  <a:pt x="397" y="364"/>
                </a:cubicBezTo>
                <a:cubicBezTo>
                  <a:pt x="391" y="352"/>
                  <a:pt x="392" y="351"/>
                  <a:pt x="390" y="340"/>
                </a:cubicBezTo>
                <a:cubicBezTo>
                  <a:pt x="388" y="329"/>
                  <a:pt x="387" y="309"/>
                  <a:pt x="382" y="298"/>
                </a:cubicBezTo>
                <a:cubicBezTo>
                  <a:pt x="377" y="287"/>
                  <a:pt x="363" y="275"/>
                  <a:pt x="357" y="272"/>
                </a:cubicBezTo>
                <a:cubicBezTo>
                  <a:pt x="351" y="269"/>
                  <a:pt x="348" y="279"/>
                  <a:pt x="343" y="277"/>
                </a:cubicBezTo>
                <a:lnTo>
                  <a:pt x="324" y="257"/>
                </a:lnTo>
                <a:lnTo>
                  <a:pt x="264" y="229"/>
                </a:lnTo>
                <a:lnTo>
                  <a:pt x="265" y="260"/>
                </a:lnTo>
                <a:lnTo>
                  <a:pt x="252" y="272"/>
                </a:lnTo>
                <a:lnTo>
                  <a:pt x="238" y="290"/>
                </a:lnTo>
                <a:lnTo>
                  <a:pt x="189" y="293"/>
                </a:lnTo>
                <a:lnTo>
                  <a:pt x="175" y="286"/>
                </a:lnTo>
                <a:lnTo>
                  <a:pt x="160" y="260"/>
                </a:lnTo>
                <a:lnTo>
                  <a:pt x="138" y="265"/>
                </a:lnTo>
                <a:cubicBezTo>
                  <a:pt x="131" y="264"/>
                  <a:pt x="125" y="261"/>
                  <a:pt x="115" y="254"/>
                </a:cubicBezTo>
                <a:cubicBezTo>
                  <a:pt x="105" y="247"/>
                  <a:pt x="97" y="245"/>
                  <a:pt x="78" y="223"/>
                </a:cubicBezTo>
                <a:cubicBezTo>
                  <a:pt x="59" y="201"/>
                  <a:pt x="13" y="147"/>
                  <a:pt x="0" y="124"/>
                </a:cubicBezTo>
                <a:lnTo>
                  <a:pt x="0" y="85"/>
                </a:ln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1" name="Picture 50" descr="nazi"/>
          <p:cNvPicPr/>
          <p:nvPr/>
        </p:nvPicPr>
        <p:blipFill>
          <a:blip r:embed="rId7"/>
          <a:stretch/>
        </p:blipFill>
        <p:spPr>
          <a:xfrm>
            <a:off x="5462640" y="3079800"/>
            <a:ext cx="216000" cy="128520"/>
          </a:xfrm>
          <a:prstGeom prst="rect">
            <a:avLst/>
          </a:prstGeom>
          <a:ln w="0">
            <a:noFill/>
          </a:ln>
        </p:spPr>
      </p:pic>
      <p:sp>
        <p:nvSpPr>
          <p:cNvPr id="222" name="Freeform 55"/>
          <p:cNvSpPr/>
          <p:nvPr/>
        </p:nvSpPr>
        <p:spPr>
          <a:xfrm>
            <a:off x="5443560" y="3544920"/>
            <a:ext cx="1066680" cy="620640"/>
          </a:xfrm>
          <a:custGeom>
            <a:avLst/>
            <a:gdLst>
              <a:gd name="textAreaLeft" fmla="*/ 0 w 1066680"/>
              <a:gd name="textAreaRight" fmla="*/ 1067040 w 1066680"/>
              <a:gd name="textAreaTop" fmla="*/ 0 h 620640"/>
              <a:gd name="textAreaBottom" fmla="*/ 621000 h 620640"/>
            </a:gdLst>
            <a:ahLst/>
            <a:rect l="textAreaLeft" t="textAreaTop" r="textAreaRight" b="textAreaBottom"/>
            <a:pathLst>
              <a:path w="672" h="391">
                <a:moveTo>
                  <a:pt x="97" y="37"/>
                </a:moveTo>
                <a:cubicBezTo>
                  <a:pt x="108" y="29"/>
                  <a:pt x="115" y="48"/>
                  <a:pt x="127" y="53"/>
                </a:cubicBezTo>
                <a:cubicBezTo>
                  <a:pt x="139" y="58"/>
                  <a:pt x="156" y="62"/>
                  <a:pt x="167" y="69"/>
                </a:cubicBezTo>
                <a:cubicBezTo>
                  <a:pt x="178" y="76"/>
                  <a:pt x="182" y="93"/>
                  <a:pt x="191" y="97"/>
                </a:cubicBezTo>
                <a:cubicBezTo>
                  <a:pt x="200" y="101"/>
                  <a:pt x="208" y="96"/>
                  <a:pt x="219" y="95"/>
                </a:cubicBezTo>
                <a:cubicBezTo>
                  <a:pt x="230" y="94"/>
                  <a:pt x="247" y="96"/>
                  <a:pt x="255" y="91"/>
                </a:cubicBezTo>
                <a:cubicBezTo>
                  <a:pt x="263" y="86"/>
                  <a:pt x="256" y="66"/>
                  <a:pt x="265" y="63"/>
                </a:cubicBezTo>
                <a:cubicBezTo>
                  <a:pt x="274" y="60"/>
                  <a:pt x="292" y="76"/>
                  <a:pt x="311" y="73"/>
                </a:cubicBezTo>
                <a:cubicBezTo>
                  <a:pt x="330" y="70"/>
                  <a:pt x="362" y="49"/>
                  <a:pt x="379" y="47"/>
                </a:cubicBezTo>
                <a:cubicBezTo>
                  <a:pt x="396" y="45"/>
                  <a:pt x="404" y="63"/>
                  <a:pt x="415" y="63"/>
                </a:cubicBezTo>
                <a:cubicBezTo>
                  <a:pt x="426" y="63"/>
                  <a:pt x="437" y="52"/>
                  <a:pt x="445" y="47"/>
                </a:cubicBezTo>
                <a:cubicBezTo>
                  <a:pt x="453" y="42"/>
                  <a:pt x="454" y="34"/>
                  <a:pt x="461" y="31"/>
                </a:cubicBezTo>
                <a:cubicBezTo>
                  <a:pt x="468" y="28"/>
                  <a:pt x="478" y="30"/>
                  <a:pt x="487" y="27"/>
                </a:cubicBezTo>
                <a:cubicBezTo>
                  <a:pt x="496" y="24"/>
                  <a:pt x="505" y="15"/>
                  <a:pt x="513" y="13"/>
                </a:cubicBezTo>
                <a:cubicBezTo>
                  <a:pt x="521" y="11"/>
                  <a:pt x="523" y="15"/>
                  <a:pt x="533" y="13"/>
                </a:cubicBezTo>
                <a:cubicBezTo>
                  <a:pt x="543" y="11"/>
                  <a:pt x="560" y="0"/>
                  <a:pt x="571" y="1"/>
                </a:cubicBezTo>
                <a:cubicBezTo>
                  <a:pt x="582" y="2"/>
                  <a:pt x="589" y="16"/>
                  <a:pt x="601" y="17"/>
                </a:cubicBezTo>
                <a:cubicBezTo>
                  <a:pt x="613" y="18"/>
                  <a:pt x="630" y="1"/>
                  <a:pt x="641" y="5"/>
                </a:cubicBezTo>
                <a:cubicBezTo>
                  <a:pt x="652" y="9"/>
                  <a:pt x="672" y="27"/>
                  <a:pt x="669" y="41"/>
                </a:cubicBezTo>
                <a:cubicBezTo>
                  <a:pt x="666" y="55"/>
                  <a:pt x="631" y="73"/>
                  <a:pt x="621" y="87"/>
                </a:cubicBezTo>
                <a:cubicBezTo>
                  <a:pt x="611" y="101"/>
                  <a:pt x="622" y="106"/>
                  <a:pt x="609" y="127"/>
                </a:cubicBezTo>
                <a:cubicBezTo>
                  <a:pt x="596" y="148"/>
                  <a:pt x="557" y="191"/>
                  <a:pt x="545" y="211"/>
                </a:cubicBezTo>
                <a:cubicBezTo>
                  <a:pt x="533" y="231"/>
                  <a:pt x="552" y="230"/>
                  <a:pt x="539" y="249"/>
                </a:cubicBezTo>
                <a:cubicBezTo>
                  <a:pt x="526" y="268"/>
                  <a:pt x="492" y="311"/>
                  <a:pt x="469" y="323"/>
                </a:cubicBezTo>
                <a:cubicBezTo>
                  <a:pt x="446" y="335"/>
                  <a:pt x="424" y="318"/>
                  <a:pt x="399" y="323"/>
                </a:cubicBezTo>
                <a:cubicBezTo>
                  <a:pt x="374" y="328"/>
                  <a:pt x="339" y="350"/>
                  <a:pt x="319" y="355"/>
                </a:cubicBezTo>
                <a:cubicBezTo>
                  <a:pt x="299" y="360"/>
                  <a:pt x="296" y="350"/>
                  <a:pt x="281" y="355"/>
                </a:cubicBezTo>
                <a:cubicBezTo>
                  <a:pt x="266" y="360"/>
                  <a:pt x="244" y="379"/>
                  <a:pt x="229" y="383"/>
                </a:cubicBezTo>
                <a:cubicBezTo>
                  <a:pt x="214" y="387"/>
                  <a:pt x="207" y="381"/>
                  <a:pt x="193" y="379"/>
                </a:cubicBezTo>
                <a:cubicBezTo>
                  <a:pt x="179" y="377"/>
                  <a:pt x="170" y="391"/>
                  <a:pt x="143" y="373"/>
                </a:cubicBezTo>
                <a:cubicBezTo>
                  <a:pt x="116" y="355"/>
                  <a:pt x="52" y="292"/>
                  <a:pt x="31" y="271"/>
                </a:cubicBezTo>
                <a:cubicBezTo>
                  <a:pt x="10" y="250"/>
                  <a:pt x="24" y="258"/>
                  <a:pt x="19" y="245"/>
                </a:cubicBezTo>
                <a:cubicBezTo>
                  <a:pt x="14" y="232"/>
                  <a:pt x="0" y="208"/>
                  <a:pt x="1" y="195"/>
                </a:cubicBezTo>
                <a:cubicBezTo>
                  <a:pt x="2" y="182"/>
                  <a:pt x="15" y="178"/>
                  <a:pt x="23" y="169"/>
                </a:cubicBezTo>
                <a:cubicBezTo>
                  <a:pt x="31" y="160"/>
                  <a:pt x="43" y="153"/>
                  <a:pt x="49" y="141"/>
                </a:cubicBezTo>
                <a:cubicBezTo>
                  <a:pt x="55" y="129"/>
                  <a:pt x="51" y="116"/>
                  <a:pt x="59" y="99"/>
                </a:cubicBezTo>
                <a:cubicBezTo>
                  <a:pt x="67" y="82"/>
                  <a:pt x="86" y="46"/>
                  <a:pt x="97" y="37"/>
                </a:cubicBezTo>
                <a:close/>
              </a:path>
            </a:pathLst>
          </a:custGeom>
          <a:blipFill rotWithShape="0">
            <a:blip r:embed="rId8">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56"/>
          <p:cNvSpPr/>
          <p:nvPr/>
        </p:nvSpPr>
        <p:spPr>
          <a:xfrm>
            <a:off x="6392880" y="2062080"/>
            <a:ext cx="252360" cy="115920"/>
          </a:xfrm>
          <a:custGeom>
            <a:avLst/>
            <a:gdLst>
              <a:gd name="textAreaLeft" fmla="*/ 0 w 252360"/>
              <a:gd name="textAreaRight" fmla="*/ 252720 w 252360"/>
              <a:gd name="textAreaTop" fmla="*/ 0 h 115920"/>
              <a:gd name="textAreaBottom" fmla="*/ 116280 h 115920"/>
            </a:gdLst>
            <a:ahLst/>
            <a:rect l="textAreaLeft" t="textAreaTop" r="textAreaRight" b="textAreaBottom"/>
            <a:pathLst>
              <a:path w="159" h="73">
                <a:moveTo>
                  <a:pt x="53" y="73"/>
                </a:moveTo>
                <a:lnTo>
                  <a:pt x="153" y="35"/>
                </a:lnTo>
                <a:cubicBezTo>
                  <a:pt x="159" y="27"/>
                  <a:pt x="102" y="32"/>
                  <a:pt x="87" y="27"/>
                </a:cubicBezTo>
                <a:cubicBezTo>
                  <a:pt x="72" y="22"/>
                  <a:pt x="73" y="11"/>
                  <a:pt x="65" y="7"/>
                </a:cubicBezTo>
                <a:cubicBezTo>
                  <a:pt x="57" y="3"/>
                  <a:pt x="47" y="0"/>
                  <a:pt x="37" y="5"/>
                </a:cubicBezTo>
                <a:cubicBezTo>
                  <a:pt x="27" y="10"/>
                  <a:pt x="0" y="29"/>
                  <a:pt x="3" y="35"/>
                </a:cubicBezTo>
                <a:cubicBezTo>
                  <a:pt x="6" y="41"/>
                  <a:pt x="47" y="37"/>
                  <a:pt x="55" y="43"/>
                </a:cubicBezTo>
                <a:cubicBezTo>
                  <a:pt x="63" y="49"/>
                  <a:pt x="53" y="73"/>
                  <a:pt x="53" y="73"/>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4" name="Picture 59" descr="nazi"/>
          <p:cNvPicPr/>
          <p:nvPr/>
        </p:nvPicPr>
        <p:blipFill>
          <a:blip r:embed="rId9"/>
          <a:stretch/>
        </p:blipFill>
        <p:spPr>
          <a:xfrm>
            <a:off x="6211800" y="2838600"/>
            <a:ext cx="216000" cy="128520"/>
          </a:xfrm>
          <a:prstGeom prst="rect">
            <a:avLst/>
          </a:prstGeom>
          <a:ln w="0">
            <a:noFill/>
          </a:ln>
        </p:spPr>
      </p:pic>
      <p:sp>
        <p:nvSpPr>
          <p:cNvPr id="225" name="Freeform 62"/>
          <p:cNvSpPr/>
          <p:nvPr/>
        </p:nvSpPr>
        <p:spPr>
          <a:xfrm>
            <a:off x="6157800" y="3397320"/>
            <a:ext cx="1690920" cy="1301760"/>
          </a:xfrm>
          <a:custGeom>
            <a:avLst/>
            <a:gdLst>
              <a:gd name="textAreaLeft" fmla="*/ 0 w 1690920"/>
              <a:gd name="textAreaRight" fmla="*/ 1691280 w 1690920"/>
              <a:gd name="textAreaTop" fmla="*/ 0 h 1301760"/>
              <a:gd name="textAreaBottom" fmla="*/ 1302120 h 1301760"/>
            </a:gdLst>
            <a:ahLst/>
            <a:rect l="textAreaLeft" t="textAreaTop" r="textAreaRight" b="textAreaBottom"/>
            <a:pathLst>
              <a:path w="1065" h="820">
                <a:moveTo>
                  <a:pt x="227" y="134"/>
                </a:moveTo>
                <a:cubicBezTo>
                  <a:pt x="243" y="124"/>
                  <a:pt x="255" y="123"/>
                  <a:pt x="267" y="126"/>
                </a:cubicBezTo>
                <a:cubicBezTo>
                  <a:pt x="279" y="129"/>
                  <a:pt x="290" y="150"/>
                  <a:pt x="299" y="154"/>
                </a:cubicBezTo>
                <a:cubicBezTo>
                  <a:pt x="308" y="158"/>
                  <a:pt x="313" y="149"/>
                  <a:pt x="321" y="152"/>
                </a:cubicBezTo>
                <a:cubicBezTo>
                  <a:pt x="329" y="155"/>
                  <a:pt x="336" y="167"/>
                  <a:pt x="345" y="170"/>
                </a:cubicBezTo>
                <a:cubicBezTo>
                  <a:pt x="354" y="173"/>
                  <a:pt x="358" y="165"/>
                  <a:pt x="375" y="170"/>
                </a:cubicBezTo>
                <a:cubicBezTo>
                  <a:pt x="392" y="175"/>
                  <a:pt x="432" y="197"/>
                  <a:pt x="447" y="200"/>
                </a:cubicBezTo>
                <a:cubicBezTo>
                  <a:pt x="462" y="203"/>
                  <a:pt x="465" y="204"/>
                  <a:pt x="467" y="188"/>
                </a:cubicBezTo>
                <a:cubicBezTo>
                  <a:pt x="469" y="172"/>
                  <a:pt x="457" y="128"/>
                  <a:pt x="461" y="106"/>
                </a:cubicBezTo>
                <a:cubicBezTo>
                  <a:pt x="465" y="84"/>
                  <a:pt x="486" y="68"/>
                  <a:pt x="493" y="54"/>
                </a:cubicBezTo>
                <a:cubicBezTo>
                  <a:pt x="500" y="40"/>
                  <a:pt x="483" y="26"/>
                  <a:pt x="503" y="20"/>
                </a:cubicBezTo>
                <a:cubicBezTo>
                  <a:pt x="523" y="14"/>
                  <a:pt x="583" y="23"/>
                  <a:pt x="613" y="20"/>
                </a:cubicBezTo>
                <a:cubicBezTo>
                  <a:pt x="643" y="17"/>
                  <a:pt x="658" y="0"/>
                  <a:pt x="685" y="4"/>
                </a:cubicBezTo>
                <a:cubicBezTo>
                  <a:pt x="712" y="8"/>
                  <a:pt x="751" y="36"/>
                  <a:pt x="777" y="46"/>
                </a:cubicBezTo>
                <a:cubicBezTo>
                  <a:pt x="803" y="56"/>
                  <a:pt x="822" y="39"/>
                  <a:pt x="843" y="62"/>
                </a:cubicBezTo>
                <a:cubicBezTo>
                  <a:pt x="864" y="85"/>
                  <a:pt x="882" y="149"/>
                  <a:pt x="901" y="186"/>
                </a:cubicBezTo>
                <a:cubicBezTo>
                  <a:pt x="920" y="223"/>
                  <a:pt x="941" y="264"/>
                  <a:pt x="957" y="284"/>
                </a:cubicBezTo>
                <a:cubicBezTo>
                  <a:pt x="973" y="304"/>
                  <a:pt x="978" y="294"/>
                  <a:pt x="995" y="306"/>
                </a:cubicBezTo>
                <a:cubicBezTo>
                  <a:pt x="1012" y="318"/>
                  <a:pt x="1053" y="339"/>
                  <a:pt x="1059" y="356"/>
                </a:cubicBezTo>
                <a:cubicBezTo>
                  <a:pt x="1065" y="373"/>
                  <a:pt x="1043" y="390"/>
                  <a:pt x="1031" y="406"/>
                </a:cubicBezTo>
                <a:cubicBezTo>
                  <a:pt x="1019" y="422"/>
                  <a:pt x="996" y="434"/>
                  <a:pt x="989" y="452"/>
                </a:cubicBezTo>
                <a:cubicBezTo>
                  <a:pt x="982" y="470"/>
                  <a:pt x="988" y="496"/>
                  <a:pt x="989" y="514"/>
                </a:cubicBezTo>
                <a:cubicBezTo>
                  <a:pt x="990" y="532"/>
                  <a:pt x="1002" y="554"/>
                  <a:pt x="993" y="558"/>
                </a:cubicBezTo>
                <a:cubicBezTo>
                  <a:pt x="984" y="562"/>
                  <a:pt x="946" y="531"/>
                  <a:pt x="935" y="536"/>
                </a:cubicBezTo>
                <a:cubicBezTo>
                  <a:pt x="924" y="541"/>
                  <a:pt x="923" y="576"/>
                  <a:pt x="925" y="586"/>
                </a:cubicBezTo>
                <a:cubicBezTo>
                  <a:pt x="927" y="596"/>
                  <a:pt x="948" y="588"/>
                  <a:pt x="947" y="598"/>
                </a:cubicBezTo>
                <a:cubicBezTo>
                  <a:pt x="946" y="608"/>
                  <a:pt x="925" y="624"/>
                  <a:pt x="917" y="644"/>
                </a:cubicBezTo>
                <a:cubicBezTo>
                  <a:pt x="909" y="664"/>
                  <a:pt x="900" y="699"/>
                  <a:pt x="899" y="718"/>
                </a:cubicBezTo>
                <a:cubicBezTo>
                  <a:pt x="898" y="737"/>
                  <a:pt x="909" y="748"/>
                  <a:pt x="909" y="760"/>
                </a:cubicBezTo>
                <a:cubicBezTo>
                  <a:pt x="909" y="772"/>
                  <a:pt x="905" y="784"/>
                  <a:pt x="897" y="792"/>
                </a:cubicBezTo>
                <a:cubicBezTo>
                  <a:pt x="889" y="800"/>
                  <a:pt x="873" y="802"/>
                  <a:pt x="863" y="806"/>
                </a:cubicBezTo>
                <a:cubicBezTo>
                  <a:pt x="853" y="810"/>
                  <a:pt x="851" y="820"/>
                  <a:pt x="839" y="818"/>
                </a:cubicBezTo>
                <a:cubicBezTo>
                  <a:pt x="827" y="816"/>
                  <a:pt x="805" y="803"/>
                  <a:pt x="793" y="794"/>
                </a:cubicBezTo>
                <a:cubicBezTo>
                  <a:pt x="781" y="785"/>
                  <a:pt x="780" y="774"/>
                  <a:pt x="767" y="764"/>
                </a:cubicBezTo>
                <a:cubicBezTo>
                  <a:pt x="754" y="754"/>
                  <a:pt x="728" y="735"/>
                  <a:pt x="713" y="734"/>
                </a:cubicBezTo>
                <a:cubicBezTo>
                  <a:pt x="698" y="733"/>
                  <a:pt x="691" y="755"/>
                  <a:pt x="677" y="758"/>
                </a:cubicBezTo>
                <a:cubicBezTo>
                  <a:pt x="663" y="761"/>
                  <a:pt x="650" y="752"/>
                  <a:pt x="631" y="752"/>
                </a:cubicBezTo>
                <a:cubicBezTo>
                  <a:pt x="612" y="752"/>
                  <a:pt x="583" y="754"/>
                  <a:pt x="565" y="758"/>
                </a:cubicBezTo>
                <a:cubicBezTo>
                  <a:pt x="547" y="762"/>
                  <a:pt x="551" y="772"/>
                  <a:pt x="525" y="776"/>
                </a:cubicBezTo>
                <a:cubicBezTo>
                  <a:pt x="499" y="780"/>
                  <a:pt x="441" y="785"/>
                  <a:pt x="411" y="784"/>
                </a:cubicBezTo>
                <a:cubicBezTo>
                  <a:pt x="381" y="783"/>
                  <a:pt x="367" y="773"/>
                  <a:pt x="347" y="770"/>
                </a:cubicBezTo>
                <a:cubicBezTo>
                  <a:pt x="327" y="767"/>
                  <a:pt x="311" y="774"/>
                  <a:pt x="293" y="766"/>
                </a:cubicBezTo>
                <a:cubicBezTo>
                  <a:pt x="275" y="758"/>
                  <a:pt x="249" y="732"/>
                  <a:pt x="239" y="720"/>
                </a:cubicBezTo>
                <a:cubicBezTo>
                  <a:pt x="229" y="708"/>
                  <a:pt x="241" y="701"/>
                  <a:pt x="235" y="692"/>
                </a:cubicBezTo>
                <a:cubicBezTo>
                  <a:pt x="229" y="683"/>
                  <a:pt x="215" y="669"/>
                  <a:pt x="205" y="666"/>
                </a:cubicBezTo>
                <a:cubicBezTo>
                  <a:pt x="195" y="663"/>
                  <a:pt x="184" y="675"/>
                  <a:pt x="173" y="672"/>
                </a:cubicBezTo>
                <a:cubicBezTo>
                  <a:pt x="162" y="669"/>
                  <a:pt x="151" y="653"/>
                  <a:pt x="139" y="646"/>
                </a:cubicBezTo>
                <a:cubicBezTo>
                  <a:pt x="127" y="639"/>
                  <a:pt x="106" y="645"/>
                  <a:pt x="99" y="632"/>
                </a:cubicBezTo>
                <a:cubicBezTo>
                  <a:pt x="92" y="619"/>
                  <a:pt x="106" y="584"/>
                  <a:pt x="99" y="570"/>
                </a:cubicBezTo>
                <a:cubicBezTo>
                  <a:pt x="92" y="556"/>
                  <a:pt x="72" y="558"/>
                  <a:pt x="57" y="546"/>
                </a:cubicBezTo>
                <a:cubicBezTo>
                  <a:pt x="42" y="534"/>
                  <a:pt x="14" y="509"/>
                  <a:pt x="7" y="496"/>
                </a:cubicBezTo>
                <a:cubicBezTo>
                  <a:pt x="0" y="483"/>
                  <a:pt x="13" y="482"/>
                  <a:pt x="15" y="470"/>
                </a:cubicBezTo>
                <a:cubicBezTo>
                  <a:pt x="17" y="458"/>
                  <a:pt x="14" y="442"/>
                  <a:pt x="21" y="426"/>
                </a:cubicBezTo>
                <a:cubicBezTo>
                  <a:pt x="28" y="410"/>
                  <a:pt x="48" y="389"/>
                  <a:pt x="59" y="374"/>
                </a:cubicBezTo>
                <a:cubicBezTo>
                  <a:pt x="70" y="359"/>
                  <a:pt x="81" y="347"/>
                  <a:pt x="87" y="334"/>
                </a:cubicBezTo>
                <a:cubicBezTo>
                  <a:pt x="93" y="321"/>
                  <a:pt x="81" y="317"/>
                  <a:pt x="93" y="298"/>
                </a:cubicBezTo>
                <a:cubicBezTo>
                  <a:pt x="105" y="279"/>
                  <a:pt x="145" y="241"/>
                  <a:pt x="157" y="222"/>
                </a:cubicBezTo>
                <a:cubicBezTo>
                  <a:pt x="169" y="203"/>
                  <a:pt x="155" y="199"/>
                  <a:pt x="167" y="184"/>
                </a:cubicBezTo>
                <a:cubicBezTo>
                  <a:pt x="179" y="169"/>
                  <a:pt x="211" y="144"/>
                  <a:pt x="227" y="134"/>
                </a:cubicBezTo>
                <a:close/>
              </a:path>
            </a:pathLst>
          </a:custGeom>
          <a:blipFill rotWithShape="0">
            <a:blip r:embed="rId10">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63"/>
          <p:cNvSpPr/>
          <p:nvPr/>
        </p:nvSpPr>
        <p:spPr>
          <a:xfrm>
            <a:off x="3753000" y="3848040"/>
            <a:ext cx="2044440" cy="2249640"/>
          </a:xfrm>
          <a:custGeom>
            <a:avLst/>
            <a:gdLst>
              <a:gd name="textAreaLeft" fmla="*/ 0 w 2044440"/>
              <a:gd name="textAreaRight" fmla="*/ 2044800 w 2044440"/>
              <a:gd name="textAreaTop" fmla="*/ 0 h 2249640"/>
              <a:gd name="textAreaBottom" fmla="*/ 2250000 h 2249640"/>
            </a:gdLst>
            <a:ahLst/>
            <a:rect l="textAreaLeft" t="textAreaTop" r="textAreaRight" b="textAreaBottom"/>
            <a:pathLst>
              <a:path w="1288" h="1417">
                <a:moveTo>
                  <a:pt x="80" y="71"/>
                </a:moveTo>
                <a:cubicBezTo>
                  <a:pt x="90" y="67"/>
                  <a:pt x="126" y="67"/>
                  <a:pt x="141" y="68"/>
                </a:cubicBezTo>
                <a:cubicBezTo>
                  <a:pt x="156" y="69"/>
                  <a:pt x="161" y="76"/>
                  <a:pt x="170" y="75"/>
                </a:cubicBezTo>
                <a:cubicBezTo>
                  <a:pt x="179" y="74"/>
                  <a:pt x="187" y="69"/>
                  <a:pt x="198" y="59"/>
                </a:cubicBezTo>
                <a:cubicBezTo>
                  <a:pt x="209" y="49"/>
                  <a:pt x="226" y="13"/>
                  <a:pt x="234" y="12"/>
                </a:cubicBezTo>
                <a:cubicBezTo>
                  <a:pt x="242" y="11"/>
                  <a:pt x="251" y="41"/>
                  <a:pt x="249" y="53"/>
                </a:cubicBezTo>
                <a:cubicBezTo>
                  <a:pt x="247" y="65"/>
                  <a:pt x="224" y="78"/>
                  <a:pt x="222" y="86"/>
                </a:cubicBezTo>
                <a:cubicBezTo>
                  <a:pt x="220" y="94"/>
                  <a:pt x="233" y="103"/>
                  <a:pt x="240" y="104"/>
                </a:cubicBezTo>
                <a:cubicBezTo>
                  <a:pt x="247" y="105"/>
                  <a:pt x="257" y="94"/>
                  <a:pt x="264" y="95"/>
                </a:cubicBezTo>
                <a:cubicBezTo>
                  <a:pt x="271" y="96"/>
                  <a:pt x="280" y="120"/>
                  <a:pt x="285" y="113"/>
                </a:cubicBezTo>
                <a:cubicBezTo>
                  <a:pt x="290" y="106"/>
                  <a:pt x="288" y="66"/>
                  <a:pt x="294" y="54"/>
                </a:cubicBezTo>
                <a:cubicBezTo>
                  <a:pt x="300" y="42"/>
                  <a:pt x="304" y="40"/>
                  <a:pt x="323" y="42"/>
                </a:cubicBezTo>
                <a:cubicBezTo>
                  <a:pt x="342" y="44"/>
                  <a:pt x="390" y="72"/>
                  <a:pt x="407" y="68"/>
                </a:cubicBezTo>
                <a:cubicBezTo>
                  <a:pt x="424" y="64"/>
                  <a:pt x="415" y="23"/>
                  <a:pt x="428" y="18"/>
                </a:cubicBezTo>
                <a:cubicBezTo>
                  <a:pt x="441" y="13"/>
                  <a:pt x="473" y="40"/>
                  <a:pt x="486" y="38"/>
                </a:cubicBezTo>
                <a:cubicBezTo>
                  <a:pt x="499" y="36"/>
                  <a:pt x="494" y="10"/>
                  <a:pt x="507" y="5"/>
                </a:cubicBezTo>
                <a:cubicBezTo>
                  <a:pt x="520" y="0"/>
                  <a:pt x="550" y="4"/>
                  <a:pt x="564" y="9"/>
                </a:cubicBezTo>
                <a:cubicBezTo>
                  <a:pt x="578" y="14"/>
                  <a:pt x="580" y="27"/>
                  <a:pt x="593" y="33"/>
                </a:cubicBezTo>
                <a:cubicBezTo>
                  <a:pt x="606" y="39"/>
                  <a:pt x="627" y="45"/>
                  <a:pt x="639" y="45"/>
                </a:cubicBezTo>
                <a:cubicBezTo>
                  <a:pt x="651" y="45"/>
                  <a:pt x="650" y="32"/>
                  <a:pt x="668" y="35"/>
                </a:cubicBezTo>
                <a:cubicBezTo>
                  <a:pt x="686" y="38"/>
                  <a:pt x="726" y="51"/>
                  <a:pt x="747" y="66"/>
                </a:cubicBezTo>
                <a:cubicBezTo>
                  <a:pt x="768" y="81"/>
                  <a:pt x="786" y="107"/>
                  <a:pt x="795" y="123"/>
                </a:cubicBezTo>
                <a:cubicBezTo>
                  <a:pt x="804" y="139"/>
                  <a:pt x="799" y="152"/>
                  <a:pt x="804" y="161"/>
                </a:cubicBezTo>
                <a:cubicBezTo>
                  <a:pt x="809" y="170"/>
                  <a:pt x="820" y="168"/>
                  <a:pt x="827" y="180"/>
                </a:cubicBezTo>
                <a:cubicBezTo>
                  <a:pt x="834" y="192"/>
                  <a:pt x="845" y="217"/>
                  <a:pt x="846" y="234"/>
                </a:cubicBezTo>
                <a:cubicBezTo>
                  <a:pt x="847" y="251"/>
                  <a:pt x="836" y="269"/>
                  <a:pt x="831" y="281"/>
                </a:cubicBezTo>
                <a:cubicBezTo>
                  <a:pt x="826" y="293"/>
                  <a:pt x="819" y="299"/>
                  <a:pt x="815" y="308"/>
                </a:cubicBezTo>
                <a:cubicBezTo>
                  <a:pt x="811" y="317"/>
                  <a:pt x="811" y="331"/>
                  <a:pt x="807" y="335"/>
                </a:cubicBezTo>
                <a:cubicBezTo>
                  <a:pt x="803" y="339"/>
                  <a:pt x="796" y="338"/>
                  <a:pt x="791" y="333"/>
                </a:cubicBezTo>
                <a:cubicBezTo>
                  <a:pt x="786" y="328"/>
                  <a:pt x="778" y="311"/>
                  <a:pt x="776" y="303"/>
                </a:cubicBezTo>
                <a:cubicBezTo>
                  <a:pt x="774" y="295"/>
                  <a:pt x="782" y="292"/>
                  <a:pt x="779" y="282"/>
                </a:cubicBezTo>
                <a:cubicBezTo>
                  <a:pt x="776" y="272"/>
                  <a:pt x="759" y="253"/>
                  <a:pt x="759" y="243"/>
                </a:cubicBezTo>
                <a:cubicBezTo>
                  <a:pt x="759" y="233"/>
                  <a:pt x="772" y="230"/>
                  <a:pt x="777" y="224"/>
                </a:cubicBezTo>
                <a:cubicBezTo>
                  <a:pt x="782" y="218"/>
                  <a:pt x="789" y="212"/>
                  <a:pt x="788" y="207"/>
                </a:cubicBezTo>
                <a:cubicBezTo>
                  <a:pt x="787" y="202"/>
                  <a:pt x="776" y="200"/>
                  <a:pt x="771" y="195"/>
                </a:cubicBezTo>
                <a:cubicBezTo>
                  <a:pt x="766" y="190"/>
                  <a:pt x="765" y="178"/>
                  <a:pt x="758" y="177"/>
                </a:cubicBezTo>
                <a:cubicBezTo>
                  <a:pt x="751" y="176"/>
                  <a:pt x="739" y="188"/>
                  <a:pt x="731" y="189"/>
                </a:cubicBezTo>
                <a:cubicBezTo>
                  <a:pt x="723" y="190"/>
                  <a:pt x="714" y="181"/>
                  <a:pt x="708" y="182"/>
                </a:cubicBezTo>
                <a:cubicBezTo>
                  <a:pt x="702" y="183"/>
                  <a:pt x="700" y="192"/>
                  <a:pt x="695" y="195"/>
                </a:cubicBezTo>
                <a:cubicBezTo>
                  <a:pt x="690" y="198"/>
                  <a:pt x="685" y="197"/>
                  <a:pt x="680" y="200"/>
                </a:cubicBezTo>
                <a:cubicBezTo>
                  <a:pt x="675" y="203"/>
                  <a:pt x="668" y="212"/>
                  <a:pt x="663" y="215"/>
                </a:cubicBezTo>
                <a:cubicBezTo>
                  <a:pt x="658" y="218"/>
                  <a:pt x="648" y="222"/>
                  <a:pt x="647" y="219"/>
                </a:cubicBezTo>
                <a:cubicBezTo>
                  <a:pt x="646" y="216"/>
                  <a:pt x="656" y="202"/>
                  <a:pt x="656" y="198"/>
                </a:cubicBezTo>
                <a:cubicBezTo>
                  <a:pt x="656" y="194"/>
                  <a:pt x="648" y="192"/>
                  <a:pt x="644" y="192"/>
                </a:cubicBezTo>
                <a:cubicBezTo>
                  <a:pt x="640" y="192"/>
                  <a:pt x="636" y="199"/>
                  <a:pt x="632" y="200"/>
                </a:cubicBezTo>
                <a:cubicBezTo>
                  <a:pt x="628" y="201"/>
                  <a:pt x="622" y="197"/>
                  <a:pt x="618" y="198"/>
                </a:cubicBezTo>
                <a:cubicBezTo>
                  <a:pt x="614" y="199"/>
                  <a:pt x="605" y="203"/>
                  <a:pt x="605" y="209"/>
                </a:cubicBezTo>
                <a:cubicBezTo>
                  <a:pt x="605" y="215"/>
                  <a:pt x="614" y="227"/>
                  <a:pt x="615" y="233"/>
                </a:cubicBezTo>
                <a:cubicBezTo>
                  <a:pt x="616" y="239"/>
                  <a:pt x="610" y="241"/>
                  <a:pt x="612" y="248"/>
                </a:cubicBezTo>
                <a:cubicBezTo>
                  <a:pt x="614" y="255"/>
                  <a:pt x="622" y="267"/>
                  <a:pt x="627" y="275"/>
                </a:cubicBezTo>
                <a:cubicBezTo>
                  <a:pt x="632" y="283"/>
                  <a:pt x="640" y="288"/>
                  <a:pt x="639" y="294"/>
                </a:cubicBezTo>
                <a:cubicBezTo>
                  <a:pt x="638" y="300"/>
                  <a:pt x="629" y="313"/>
                  <a:pt x="621" y="312"/>
                </a:cubicBezTo>
                <a:cubicBezTo>
                  <a:pt x="613" y="311"/>
                  <a:pt x="598" y="288"/>
                  <a:pt x="593" y="287"/>
                </a:cubicBezTo>
                <a:cubicBezTo>
                  <a:pt x="588" y="286"/>
                  <a:pt x="591" y="300"/>
                  <a:pt x="593" y="306"/>
                </a:cubicBezTo>
                <a:cubicBezTo>
                  <a:pt x="595" y="312"/>
                  <a:pt x="609" y="316"/>
                  <a:pt x="606" y="321"/>
                </a:cubicBezTo>
                <a:cubicBezTo>
                  <a:pt x="603" y="326"/>
                  <a:pt x="578" y="333"/>
                  <a:pt x="576" y="338"/>
                </a:cubicBezTo>
                <a:cubicBezTo>
                  <a:pt x="574" y="343"/>
                  <a:pt x="587" y="348"/>
                  <a:pt x="593" y="350"/>
                </a:cubicBezTo>
                <a:cubicBezTo>
                  <a:pt x="599" y="352"/>
                  <a:pt x="608" y="349"/>
                  <a:pt x="611" y="353"/>
                </a:cubicBezTo>
                <a:cubicBezTo>
                  <a:pt x="614" y="357"/>
                  <a:pt x="606" y="365"/>
                  <a:pt x="608" y="374"/>
                </a:cubicBezTo>
                <a:cubicBezTo>
                  <a:pt x="610" y="383"/>
                  <a:pt x="623" y="399"/>
                  <a:pt x="626" y="407"/>
                </a:cubicBezTo>
                <a:cubicBezTo>
                  <a:pt x="629" y="415"/>
                  <a:pt x="624" y="419"/>
                  <a:pt x="627" y="423"/>
                </a:cubicBezTo>
                <a:cubicBezTo>
                  <a:pt x="630" y="427"/>
                  <a:pt x="640" y="428"/>
                  <a:pt x="645" y="434"/>
                </a:cubicBezTo>
                <a:cubicBezTo>
                  <a:pt x="650" y="440"/>
                  <a:pt x="654" y="455"/>
                  <a:pt x="660" y="461"/>
                </a:cubicBezTo>
                <a:cubicBezTo>
                  <a:pt x="666" y="467"/>
                  <a:pt x="678" y="468"/>
                  <a:pt x="684" y="473"/>
                </a:cubicBezTo>
                <a:cubicBezTo>
                  <a:pt x="690" y="478"/>
                  <a:pt x="688" y="487"/>
                  <a:pt x="693" y="492"/>
                </a:cubicBezTo>
                <a:cubicBezTo>
                  <a:pt x="698" y="497"/>
                  <a:pt x="707" y="492"/>
                  <a:pt x="717" y="501"/>
                </a:cubicBezTo>
                <a:cubicBezTo>
                  <a:pt x="727" y="510"/>
                  <a:pt x="744" y="537"/>
                  <a:pt x="752" y="549"/>
                </a:cubicBezTo>
                <a:cubicBezTo>
                  <a:pt x="760" y="561"/>
                  <a:pt x="764" y="566"/>
                  <a:pt x="767" y="575"/>
                </a:cubicBezTo>
                <a:cubicBezTo>
                  <a:pt x="770" y="584"/>
                  <a:pt x="767" y="597"/>
                  <a:pt x="770" y="606"/>
                </a:cubicBezTo>
                <a:cubicBezTo>
                  <a:pt x="773" y="615"/>
                  <a:pt x="782" y="623"/>
                  <a:pt x="785" y="632"/>
                </a:cubicBezTo>
                <a:cubicBezTo>
                  <a:pt x="788" y="641"/>
                  <a:pt x="782" y="652"/>
                  <a:pt x="785" y="662"/>
                </a:cubicBezTo>
                <a:cubicBezTo>
                  <a:pt x="788" y="672"/>
                  <a:pt x="800" y="685"/>
                  <a:pt x="804" y="693"/>
                </a:cubicBezTo>
                <a:cubicBezTo>
                  <a:pt x="808" y="701"/>
                  <a:pt x="805" y="704"/>
                  <a:pt x="812" y="711"/>
                </a:cubicBezTo>
                <a:cubicBezTo>
                  <a:pt x="819" y="718"/>
                  <a:pt x="838" y="724"/>
                  <a:pt x="849" y="734"/>
                </a:cubicBezTo>
                <a:cubicBezTo>
                  <a:pt x="860" y="744"/>
                  <a:pt x="861" y="760"/>
                  <a:pt x="876" y="770"/>
                </a:cubicBezTo>
                <a:cubicBezTo>
                  <a:pt x="891" y="780"/>
                  <a:pt x="919" y="791"/>
                  <a:pt x="938" y="795"/>
                </a:cubicBezTo>
                <a:cubicBezTo>
                  <a:pt x="957" y="799"/>
                  <a:pt x="978" y="793"/>
                  <a:pt x="990" y="795"/>
                </a:cubicBezTo>
                <a:cubicBezTo>
                  <a:pt x="1002" y="797"/>
                  <a:pt x="1007" y="802"/>
                  <a:pt x="1012" y="806"/>
                </a:cubicBezTo>
                <a:cubicBezTo>
                  <a:pt x="1017" y="810"/>
                  <a:pt x="1020" y="814"/>
                  <a:pt x="1019" y="819"/>
                </a:cubicBezTo>
                <a:cubicBezTo>
                  <a:pt x="1018" y="824"/>
                  <a:pt x="1012" y="833"/>
                  <a:pt x="1007" y="836"/>
                </a:cubicBezTo>
                <a:cubicBezTo>
                  <a:pt x="1002" y="839"/>
                  <a:pt x="992" y="831"/>
                  <a:pt x="990" y="836"/>
                </a:cubicBezTo>
                <a:cubicBezTo>
                  <a:pt x="988" y="841"/>
                  <a:pt x="986" y="857"/>
                  <a:pt x="992" y="867"/>
                </a:cubicBezTo>
                <a:cubicBezTo>
                  <a:pt x="998" y="877"/>
                  <a:pt x="1020" y="893"/>
                  <a:pt x="1029" y="896"/>
                </a:cubicBezTo>
                <a:cubicBezTo>
                  <a:pt x="1038" y="899"/>
                  <a:pt x="1038" y="882"/>
                  <a:pt x="1044" y="884"/>
                </a:cubicBezTo>
                <a:cubicBezTo>
                  <a:pt x="1050" y="886"/>
                  <a:pt x="1061" y="904"/>
                  <a:pt x="1068" y="909"/>
                </a:cubicBezTo>
                <a:cubicBezTo>
                  <a:pt x="1075" y="914"/>
                  <a:pt x="1083" y="907"/>
                  <a:pt x="1089" y="912"/>
                </a:cubicBezTo>
                <a:cubicBezTo>
                  <a:pt x="1095" y="917"/>
                  <a:pt x="1097" y="934"/>
                  <a:pt x="1106" y="940"/>
                </a:cubicBezTo>
                <a:cubicBezTo>
                  <a:pt x="1115" y="946"/>
                  <a:pt x="1132" y="941"/>
                  <a:pt x="1142" y="947"/>
                </a:cubicBezTo>
                <a:cubicBezTo>
                  <a:pt x="1152" y="953"/>
                  <a:pt x="1155" y="969"/>
                  <a:pt x="1164" y="974"/>
                </a:cubicBezTo>
                <a:cubicBezTo>
                  <a:pt x="1173" y="979"/>
                  <a:pt x="1188" y="974"/>
                  <a:pt x="1198" y="978"/>
                </a:cubicBezTo>
                <a:cubicBezTo>
                  <a:pt x="1208" y="982"/>
                  <a:pt x="1216" y="996"/>
                  <a:pt x="1222" y="1000"/>
                </a:cubicBezTo>
                <a:cubicBezTo>
                  <a:pt x="1228" y="1004"/>
                  <a:pt x="1229" y="995"/>
                  <a:pt x="1234" y="1000"/>
                </a:cubicBezTo>
                <a:cubicBezTo>
                  <a:pt x="1239" y="1005"/>
                  <a:pt x="1246" y="1023"/>
                  <a:pt x="1252" y="1030"/>
                </a:cubicBezTo>
                <a:cubicBezTo>
                  <a:pt x="1258" y="1037"/>
                  <a:pt x="1263" y="1033"/>
                  <a:pt x="1269" y="1040"/>
                </a:cubicBezTo>
                <a:cubicBezTo>
                  <a:pt x="1275" y="1047"/>
                  <a:pt x="1284" y="1057"/>
                  <a:pt x="1286" y="1070"/>
                </a:cubicBezTo>
                <a:cubicBezTo>
                  <a:pt x="1288" y="1083"/>
                  <a:pt x="1285" y="1106"/>
                  <a:pt x="1278" y="1118"/>
                </a:cubicBezTo>
                <a:cubicBezTo>
                  <a:pt x="1271" y="1130"/>
                  <a:pt x="1252" y="1142"/>
                  <a:pt x="1244" y="1142"/>
                </a:cubicBezTo>
                <a:cubicBezTo>
                  <a:pt x="1236" y="1142"/>
                  <a:pt x="1238" y="1130"/>
                  <a:pt x="1232" y="1121"/>
                </a:cubicBezTo>
                <a:cubicBezTo>
                  <a:pt x="1226" y="1112"/>
                  <a:pt x="1210" y="1095"/>
                  <a:pt x="1205" y="1085"/>
                </a:cubicBezTo>
                <a:cubicBezTo>
                  <a:pt x="1200" y="1075"/>
                  <a:pt x="1212" y="1065"/>
                  <a:pt x="1200" y="1060"/>
                </a:cubicBezTo>
                <a:cubicBezTo>
                  <a:pt x="1188" y="1055"/>
                  <a:pt x="1147" y="1055"/>
                  <a:pt x="1134" y="1052"/>
                </a:cubicBezTo>
                <a:cubicBezTo>
                  <a:pt x="1121" y="1049"/>
                  <a:pt x="1126" y="1040"/>
                  <a:pt x="1122" y="1040"/>
                </a:cubicBezTo>
                <a:cubicBezTo>
                  <a:pt x="1118" y="1040"/>
                  <a:pt x="1113" y="1048"/>
                  <a:pt x="1107" y="1055"/>
                </a:cubicBezTo>
                <a:cubicBezTo>
                  <a:pt x="1101" y="1062"/>
                  <a:pt x="1089" y="1078"/>
                  <a:pt x="1086" y="1085"/>
                </a:cubicBezTo>
                <a:cubicBezTo>
                  <a:pt x="1083" y="1092"/>
                  <a:pt x="1091" y="1087"/>
                  <a:pt x="1086" y="1097"/>
                </a:cubicBezTo>
                <a:cubicBezTo>
                  <a:pt x="1081" y="1107"/>
                  <a:pt x="1054" y="1136"/>
                  <a:pt x="1053" y="1148"/>
                </a:cubicBezTo>
                <a:cubicBezTo>
                  <a:pt x="1052" y="1160"/>
                  <a:pt x="1075" y="1165"/>
                  <a:pt x="1083" y="1167"/>
                </a:cubicBezTo>
                <a:cubicBezTo>
                  <a:pt x="1091" y="1169"/>
                  <a:pt x="1094" y="1150"/>
                  <a:pt x="1100" y="1163"/>
                </a:cubicBezTo>
                <a:cubicBezTo>
                  <a:pt x="1106" y="1176"/>
                  <a:pt x="1124" y="1224"/>
                  <a:pt x="1118" y="1244"/>
                </a:cubicBezTo>
                <a:cubicBezTo>
                  <a:pt x="1112" y="1264"/>
                  <a:pt x="1077" y="1267"/>
                  <a:pt x="1067" y="1283"/>
                </a:cubicBezTo>
                <a:cubicBezTo>
                  <a:pt x="1057" y="1299"/>
                  <a:pt x="1059" y="1331"/>
                  <a:pt x="1055" y="1340"/>
                </a:cubicBezTo>
                <a:cubicBezTo>
                  <a:pt x="1051" y="1349"/>
                  <a:pt x="1049" y="1332"/>
                  <a:pt x="1044" y="1337"/>
                </a:cubicBezTo>
                <a:cubicBezTo>
                  <a:pt x="1039" y="1342"/>
                  <a:pt x="1032" y="1361"/>
                  <a:pt x="1026" y="1367"/>
                </a:cubicBezTo>
                <a:cubicBezTo>
                  <a:pt x="1020" y="1373"/>
                  <a:pt x="1010" y="1367"/>
                  <a:pt x="1008" y="1373"/>
                </a:cubicBezTo>
                <a:cubicBezTo>
                  <a:pt x="1006" y="1379"/>
                  <a:pt x="1015" y="1396"/>
                  <a:pt x="1013" y="1403"/>
                </a:cubicBezTo>
                <a:cubicBezTo>
                  <a:pt x="1011" y="1410"/>
                  <a:pt x="999" y="1415"/>
                  <a:pt x="993" y="1416"/>
                </a:cubicBezTo>
                <a:cubicBezTo>
                  <a:pt x="987" y="1417"/>
                  <a:pt x="980" y="1410"/>
                  <a:pt x="974" y="1409"/>
                </a:cubicBezTo>
                <a:cubicBezTo>
                  <a:pt x="968" y="1408"/>
                  <a:pt x="961" y="1417"/>
                  <a:pt x="956" y="1412"/>
                </a:cubicBezTo>
                <a:cubicBezTo>
                  <a:pt x="951" y="1407"/>
                  <a:pt x="944" y="1388"/>
                  <a:pt x="944" y="1380"/>
                </a:cubicBezTo>
                <a:cubicBezTo>
                  <a:pt x="944" y="1372"/>
                  <a:pt x="954" y="1367"/>
                  <a:pt x="956" y="1361"/>
                </a:cubicBezTo>
                <a:cubicBezTo>
                  <a:pt x="958" y="1355"/>
                  <a:pt x="953" y="1349"/>
                  <a:pt x="957" y="1343"/>
                </a:cubicBezTo>
                <a:cubicBezTo>
                  <a:pt x="961" y="1337"/>
                  <a:pt x="975" y="1329"/>
                  <a:pt x="978" y="1322"/>
                </a:cubicBezTo>
                <a:cubicBezTo>
                  <a:pt x="981" y="1315"/>
                  <a:pt x="972" y="1306"/>
                  <a:pt x="974" y="1302"/>
                </a:cubicBezTo>
                <a:cubicBezTo>
                  <a:pt x="976" y="1298"/>
                  <a:pt x="984" y="1303"/>
                  <a:pt x="988" y="1300"/>
                </a:cubicBezTo>
                <a:cubicBezTo>
                  <a:pt x="992" y="1297"/>
                  <a:pt x="993" y="1286"/>
                  <a:pt x="998" y="1282"/>
                </a:cubicBezTo>
                <a:cubicBezTo>
                  <a:pt x="1003" y="1278"/>
                  <a:pt x="1017" y="1283"/>
                  <a:pt x="1018" y="1276"/>
                </a:cubicBezTo>
                <a:cubicBezTo>
                  <a:pt x="1019" y="1269"/>
                  <a:pt x="1011" y="1247"/>
                  <a:pt x="1006" y="1238"/>
                </a:cubicBezTo>
                <a:cubicBezTo>
                  <a:pt x="1001" y="1229"/>
                  <a:pt x="991" y="1232"/>
                  <a:pt x="990" y="1224"/>
                </a:cubicBezTo>
                <a:cubicBezTo>
                  <a:pt x="989" y="1216"/>
                  <a:pt x="998" y="1200"/>
                  <a:pt x="998" y="1192"/>
                </a:cubicBezTo>
                <a:cubicBezTo>
                  <a:pt x="998" y="1184"/>
                  <a:pt x="994" y="1181"/>
                  <a:pt x="993" y="1175"/>
                </a:cubicBezTo>
                <a:cubicBezTo>
                  <a:pt x="992" y="1169"/>
                  <a:pt x="996" y="1163"/>
                  <a:pt x="992" y="1158"/>
                </a:cubicBezTo>
                <a:cubicBezTo>
                  <a:pt x="988" y="1153"/>
                  <a:pt x="973" y="1155"/>
                  <a:pt x="968" y="1144"/>
                </a:cubicBezTo>
                <a:cubicBezTo>
                  <a:pt x="963" y="1133"/>
                  <a:pt x="970" y="1103"/>
                  <a:pt x="962" y="1094"/>
                </a:cubicBezTo>
                <a:cubicBezTo>
                  <a:pt x="954" y="1085"/>
                  <a:pt x="933" y="1096"/>
                  <a:pt x="921" y="1091"/>
                </a:cubicBezTo>
                <a:cubicBezTo>
                  <a:pt x="909" y="1086"/>
                  <a:pt x="900" y="1072"/>
                  <a:pt x="890" y="1065"/>
                </a:cubicBezTo>
                <a:cubicBezTo>
                  <a:pt x="880" y="1058"/>
                  <a:pt x="866" y="1057"/>
                  <a:pt x="863" y="1050"/>
                </a:cubicBezTo>
                <a:cubicBezTo>
                  <a:pt x="860" y="1043"/>
                  <a:pt x="870" y="1033"/>
                  <a:pt x="870" y="1025"/>
                </a:cubicBezTo>
                <a:cubicBezTo>
                  <a:pt x="870" y="1017"/>
                  <a:pt x="867" y="1007"/>
                  <a:pt x="861" y="1001"/>
                </a:cubicBezTo>
                <a:cubicBezTo>
                  <a:pt x="855" y="995"/>
                  <a:pt x="842" y="990"/>
                  <a:pt x="833" y="990"/>
                </a:cubicBezTo>
                <a:cubicBezTo>
                  <a:pt x="824" y="990"/>
                  <a:pt x="811" y="1002"/>
                  <a:pt x="806" y="998"/>
                </a:cubicBezTo>
                <a:cubicBezTo>
                  <a:pt x="801" y="994"/>
                  <a:pt x="810" y="970"/>
                  <a:pt x="804" y="964"/>
                </a:cubicBezTo>
                <a:cubicBezTo>
                  <a:pt x="798" y="958"/>
                  <a:pt x="779" y="968"/>
                  <a:pt x="770" y="960"/>
                </a:cubicBezTo>
                <a:cubicBezTo>
                  <a:pt x="761" y="952"/>
                  <a:pt x="751" y="927"/>
                  <a:pt x="748" y="916"/>
                </a:cubicBezTo>
                <a:cubicBezTo>
                  <a:pt x="745" y="905"/>
                  <a:pt x="758" y="898"/>
                  <a:pt x="754" y="894"/>
                </a:cubicBezTo>
                <a:cubicBezTo>
                  <a:pt x="750" y="890"/>
                  <a:pt x="734" y="896"/>
                  <a:pt x="722" y="894"/>
                </a:cubicBezTo>
                <a:cubicBezTo>
                  <a:pt x="710" y="892"/>
                  <a:pt x="692" y="881"/>
                  <a:pt x="682" y="880"/>
                </a:cubicBezTo>
                <a:cubicBezTo>
                  <a:pt x="672" y="879"/>
                  <a:pt x="670" y="894"/>
                  <a:pt x="660" y="890"/>
                </a:cubicBezTo>
                <a:cubicBezTo>
                  <a:pt x="650" y="886"/>
                  <a:pt x="635" y="864"/>
                  <a:pt x="624" y="854"/>
                </a:cubicBezTo>
                <a:cubicBezTo>
                  <a:pt x="613" y="844"/>
                  <a:pt x="599" y="836"/>
                  <a:pt x="590" y="826"/>
                </a:cubicBezTo>
                <a:cubicBezTo>
                  <a:pt x="581" y="816"/>
                  <a:pt x="575" y="804"/>
                  <a:pt x="572" y="794"/>
                </a:cubicBezTo>
                <a:cubicBezTo>
                  <a:pt x="569" y="784"/>
                  <a:pt x="578" y="776"/>
                  <a:pt x="574" y="768"/>
                </a:cubicBezTo>
                <a:cubicBezTo>
                  <a:pt x="570" y="760"/>
                  <a:pt x="554" y="753"/>
                  <a:pt x="548" y="746"/>
                </a:cubicBezTo>
                <a:cubicBezTo>
                  <a:pt x="542" y="739"/>
                  <a:pt x="539" y="733"/>
                  <a:pt x="536" y="728"/>
                </a:cubicBezTo>
                <a:cubicBezTo>
                  <a:pt x="533" y="723"/>
                  <a:pt x="539" y="720"/>
                  <a:pt x="532" y="716"/>
                </a:cubicBezTo>
                <a:cubicBezTo>
                  <a:pt x="525" y="712"/>
                  <a:pt x="505" y="708"/>
                  <a:pt x="495" y="704"/>
                </a:cubicBezTo>
                <a:cubicBezTo>
                  <a:pt x="485" y="700"/>
                  <a:pt x="481" y="693"/>
                  <a:pt x="474" y="690"/>
                </a:cubicBezTo>
                <a:cubicBezTo>
                  <a:pt x="467" y="687"/>
                  <a:pt x="455" y="688"/>
                  <a:pt x="450" y="686"/>
                </a:cubicBezTo>
                <a:cubicBezTo>
                  <a:pt x="445" y="684"/>
                  <a:pt x="441" y="680"/>
                  <a:pt x="441" y="675"/>
                </a:cubicBezTo>
                <a:cubicBezTo>
                  <a:pt x="441" y="670"/>
                  <a:pt x="450" y="663"/>
                  <a:pt x="448" y="656"/>
                </a:cubicBezTo>
                <a:cubicBezTo>
                  <a:pt x="446" y="649"/>
                  <a:pt x="434" y="641"/>
                  <a:pt x="430" y="634"/>
                </a:cubicBezTo>
                <a:cubicBezTo>
                  <a:pt x="426" y="627"/>
                  <a:pt x="432" y="623"/>
                  <a:pt x="426" y="616"/>
                </a:cubicBezTo>
                <a:cubicBezTo>
                  <a:pt x="420" y="609"/>
                  <a:pt x="403" y="601"/>
                  <a:pt x="396" y="592"/>
                </a:cubicBezTo>
                <a:cubicBezTo>
                  <a:pt x="389" y="583"/>
                  <a:pt x="386" y="570"/>
                  <a:pt x="386" y="563"/>
                </a:cubicBezTo>
                <a:cubicBezTo>
                  <a:pt x="386" y="556"/>
                  <a:pt x="394" y="556"/>
                  <a:pt x="394" y="552"/>
                </a:cubicBezTo>
                <a:cubicBezTo>
                  <a:pt x="394" y="548"/>
                  <a:pt x="385" y="545"/>
                  <a:pt x="384" y="540"/>
                </a:cubicBezTo>
                <a:cubicBezTo>
                  <a:pt x="383" y="535"/>
                  <a:pt x="391" y="525"/>
                  <a:pt x="390" y="520"/>
                </a:cubicBezTo>
                <a:cubicBezTo>
                  <a:pt x="389" y="515"/>
                  <a:pt x="381" y="519"/>
                  <a:pt x="376" y="510"/>
                </a:cubicBezTo>
                <a:cubicBezTo>
                  <a:pt x="371" y="501"/>
                  <a:pt x="364" y="478"/>
                  <a:pt x="362" y="468"/>
                </a:cubicBezTo>
                <a:cubicBezTo>
                  <a:pt x="360" y="458"/>
                  <a:pt x="367" y="453"/>
                  <a:pt x="366" y="448"/>
                </a:cubicBezTo>
                <a:cubicBezTo>
                  <a:pt x="365" y="443"/>
                  <a:pt x="359" y="443"/>
                  <a:pt x="358" y="438"/>
                </a:cubicBezTo>
                <a:cubicBezTo>
                  <a:pt x="357" y="433"/>
                  <a:pt x="371" y="425"/>
                  <a:pt x="362" y="416"/>
                </a:cubicBezTo>
                <a:cubicBezTo>
                  <a:pt x="353" y="407"/>
                  <a:pt x="319" y="393"/>
                  <a:pt x="305" y="383"/>
                </a:cubicBezTo>
                <a:cubicBezTo>
                  <a:pt x="291" y="373"/>
                  <a:pt x="288" y="363"/>
                  <a:pt x="280" y="358"/>
                </a:cubicBezTo>
                <a:cubicBezTo>
                  <a:pt x="272" y="353"/>
                  <a:pt x="263" y="357"/>
                  <a:pt x="254" y="353"/>
                </a:cubicBezTo>
                <a:cubicBezTo>
                  <a:pt x="245" y="349"/>
                  <a:pt x="235" y="332"/>
                  <a:pt x="226" y="332"/>
                </a:cubicBezTo>
                <a:cubicBezTo>
                  <a:pt x="217" y="332"/>
                  <a:pt x="208" y="346"/>
                  <a:pt x="198" y="351"/>
                </a:cubicBezTo>
                <a:cubicBezTo>
                  <a:pt x="188" y="356"/>
                  <a:pt x="173" y="358"/>
                  <a:pt x="165" y="365"/>
                </a:cubicBezTo>
                <a:cubicBezTo>
                  <a:pt x="157" y="372"/>
                  <a:pt x="158" y="386"/>
                  <a:pt x="150" y="393"/>
                </a:cubicBezTo>
                <a:cubicBezTo>
                  <a:pt x="142" y="400"/>
                  <a:pt x="125" y="408"/>
                  <a:pt x="117" y="410"/>
                </a:cubicBezTo>
                <a:cubicBezTo>
                  <a:pt x="109" y="412"/>
                  <a:pt x="107" y="404"/>
                  <a:pt x="99" y="405"/>
                </a:cubicBezTo>
                <a:cubicBezTo>
                  <a:pt x="91" y="406"/>
                  <a:pt x="71" y="420"/>
                  <a:pt x="66" y="418"/>
                </a:cubicBezTo>
                <a:cubicBezTo>
                  <a:pt x="61" y="416"/>
                  <a:pt x="66" y="399"/>
                  <a:pt x="69" y="390"/>
                </a:cubicBezTo>
                <a:cubicBezTo>
                  <a:pt x="72" y="381"/>
                  <a:pt x="83" y="369"/>
                  <a:pt x="82" y="362"/>
                </a:cubicBezTo>
                <a:cubicBezTo>
                  <a:pt x="81" y="355"/>
                  <a:pt x="75" y="351"/>
                  <a:pt x="63" y="345"/>
                </a:cubicBezTo>
                <a:cubicBezTo>
                  <a:pt x="51" y="339"/>
                  <a:pt x="15" y="331"/>
                  <a:pt x="8" y="323"/>
                </a:cubicBezTo>
                <a:cubicBezTo>
                  <a:pt x="1" y="315"/>
                  <a:pt x="17" y="309"/>
                  <a:pt x="23" y="294"/>
                </a:cubicBezTo>
                <a:cubicBezTo>
                  <a:pt x="29" y="279"/>
                  <a:pt x="42" y="243"/>
                  <a:pt x="42" y="230"/>
                </a:cubicBezTo>
                <a:cubicBezTo>
                  <a:pt x="42" y="217"/>
                  <a:pt x="26" y="223"/>
                  <a:pt x="21" y="215"/>
                </a:cubicBezTo>
                <a:cubicBezTo>
                  <a:pt x="16" y="207"/>
                  <a:pt x="0" y="194"/>
                  <a:pt x="10" y="182"/>
                </a:cubicBezTo>
                <a:cubicBezTo>
                  <a:pt x="20" y="170"/>
                  <a:pt x="73" y="153"/>
                  <a:pt x="84" y="141"/>
                </a:cubicBezTo>
                <a:cubicBezTo>
                  <a:pt x="95" y="129"/>
                  <a:pt x="77" y="119"/>
                  <a:pt x="78" y="111"/>
                </a:cubicBezTo>
                <a:cubicBezTo>
                  <a:pt x="79" y="103"/>
                  <a:pt x="89" y="102"/>
                  <a:pt x="89" y="95"/>
                </a:cubicBezTo>
                <a:cubicBezTo>
                  <a:pt x="89" y="88"/>
                  <a:pt x="82" y="76"/>
                  <a:pt x="80" y="71"/>
                </a:cubicBezTo>
                <a:close/>
              </a:path>
            </a:pathLst>
          </a:custGeom>
          <a:blipFill rotWithShape="0">
            <a:blip r:embed="rId11">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64"/>
          <p:cNvSpPr/>
          <p:nvPr/>
        </p:nvSpPr>
        <p:spPr>
          <a:xfrm>
            <a:off x="4594320" y="6004080"/>
            <a:ext cx="645840" cy="426960"/>
          </a:xfrm>
          <a:custGeom>
            <a:avLst/>
            <a:gdLst>
              <a:gd name="textAreaLeft" fmla="*/ 0 w 645840"/>
              <a:gd name="textAreaRight" fmla="*/ 645840 w 645840"/>
              <a:gd name="textAreaTop" fmla="*/ 0 h 426960"/>
              <a:gd name="textAreaBottom" fmla="*/ 427320 h 426960"/>
            </a:gdLst>
            <a:ahLst/>
            <a:rect l="textAreaLeft" t="textAreaTop" r="textAreaRight" b="textAreaBottom"/>
            <a:pathLst>
              <a:path w="407" h="269">
                <a:moveTo>
                  <a:pt x="27" y="18"/>
                </a:moveTo>
                <a:cubicBezTo>
                  <a:pt x="33" y="13"/>
                  <a:pt x="34" y="19"/>
                  <a:pt x="40" y="16"/>
                </a:cubicBezTo>
                <a:cubicBezTo>
                  <a:pt x="46" y="13"/>
                  <a:pt x="55" y="0"/>
                  <a:pt x="61" y="0"/>
                </a:cubicBezTo>
                <a:cubicBezTo>
                  <a:pt x="67" y="0"/>
                  <a:pt x="65" y="18"/>
                  <a:pt x="75" y="19"/>
                </a:cubicBezTo>
                <a:cubicBezTo>
                  <a:pt x="85" y="20"/>
                  <a:pt x="112" y="2"/>
                  <a:pt x="123" y="3"/>
                </a:cubicBezTo>
                <a:cubicBezTo>
                  <a:pt x="134" y="4"/>
                  <a:pt x="132" y="20"/>
                  <a:pt x="139" y="24"/>
                </a:cubicBezTo>
                <a:cubicBezTo>
                  <a:pt x="146" y="28"/>
                  <a:pt x="158" y="23"/>
                  <a:pt x="165" y="28"/>
                </a:cubicBezTo>
                <a:cubicBezTo>
                  <a:pt x="172" y="33"/>
                  <a:pt x="175" y="50"/>
                  <a:pt x="181" y="52"/>
                </a:cubicBezTo>
                <a:cubicBezTo>
                  <a:pt x="187" y="54"/>
                  <a:pt x="193" y="43"/>
                  <a:pt x="204" y="42"/>
                </a:cubicBezTo>
                <a:cubicBezTo>
                  <a:pt x="215" y="41"/>
                  <a:pt x="233" y="49"/>
                  <a:pt x="247" y="46"/>
                </a:cubicBezTo>
                <a:cubicBezTo>
                  <a:pt x="261" y="43"/>
                  <a:pt x="279" y="27"/>
                  <a:pt x="289" y="25"/>
                </a:cubicBezTo>
                <a:cubicBezTo>
                  <a:pt x="299" y="23"/>
                  <a:pt x="303" y="34"/>
                  <a:pt x="309" y="34"/>
                </a:cubicBezTo>
                <a:cubicBezTo>
                  <a:pt x="315" y="34"/>
                  <a:pt x="319" y="23"/>
                  <a:pt x="327" y="22"/>
                </a:cubicBezTo>
                <a:cubicBezTo>
                  <a:pt x="335" y="21"/>
                  <a:pt x="350" y="30"/>
                  <a:pt x="358" y="28"/>
                </a:cubicBezTo>
                <a:cubicBezTo>
                  <a:pt x="366" y="26"/>
                  <a:pt x="373" y="12"/>
                  <a:pt x="378" y="10"/>
                </a:cubicBezTo>
                <a:cubicBezTo>
                  <a:pt x="383" y="8"/>
                  <a:pt x="385" y="15"/>
                  <a:pt x="390" y="15"/>
                </a:cubicBezTo>
                <a:cubicBezTo>
                  <a:pt x="395" y="15"/>
                  <a:pt x="407" y="4"/>
                  <a:pt x="406" y="9"/>
                </a:cubicBezTo>
                <a:cubicBezTo>
                  <a:pt x="405" y="14"/>
                  <a:pt x="387" y="35"/>
                  <a:pt x="382" y="46"/>
                </a:cubicBezTo>
                <a:cubicBezTo>
                  <a:pt x="377" y="57"/>
                  <a:pt x="382" y="65"/>
                  <a:pt x="378" y="73"/>
                </a:cubicBezTo>
                <a:cubicBezTo>
                  <a:pt x="374" y="81"/>
                  <a:pt x="360" y="88"/>
                  <a:pt x="357" y="94"/>
                </a:cubicBezTo>
                <a:cubicBezTo>
                  <a:pt x="354" y="100"/>
                  <a:pt x="361" y="105"/>
                  <a:pt x="358" y="112"/>
                </a:cubicBezTo>
                <a:cubicBezTo>
                  <a:pt x="355" y="119"/>
                  <a:pt x="338" y="131"/>
                  <a:pt x="336" y="139"/>
                </a:cubicBezTo>
                <a:cubicBezTo>
                  <a:pt x="334" y="147"/>
                  <a:pt x="345" y="155"/>
                  <a:pt x="346" y="162"/>
                </a:cubicBezTo>
                <a:cubicBezTo>
                  <a:pt x="347" y="169"/>
                  <a:pt x="340" y="177"/>
                  <a:pt x="342" y="183"/>
                </a:cubicBezTo>
                <a:cubicBezTo>
                  <a:pt x="344" y="189"/>
                  <a:pt x="362" y="191"/>
                  <a:pt x="361" y="199"/>
                </a:cubicBezTo>
                <a:cubicBezTo>
                  <a:pt x="360" y="207"/>
                  <a:pt x="343" y="218"/>
                  <a:pt x="339" y="229"/>
                </a:cubicBezTo>
                <a:cubicBezTo>
                  <a:pt x="335" y="240"/>
                  <a:pt x="341" y="265"/>
                  <a:pt x="334" y="267"/>
                </a:cubicBezTo>
                <a:cubicBezTo>
                  <a:pt x="327" y="269"/>
                  <a:pt x="312" y="246"/>
                  <a:pt x="298" y="241"/>
                </a:cubicBezTo>
                <a:cubicBezTo>
                  <a:pt x="284" y="236"/>
                  <a:pt x="259" y="244"/>
                  <a:pt x="247" y="238"/>
                </a:cubicBezTo>
                <a:cubicBezTo>
                  <a:pt x="235" y="232"/>
                  <a:pt x="237" y="212"/>
                  <a:pt x="225" y="202"/>
                </a:cubicBezTo>
                <a:cubicBezTo>
                  <a:pt x="213" y="192"/>
                  <a:pt x="185" y="186"/>
                  <a:pt x="172" y="178"/>
                </a:cubicBezTo>
                <a:cubicBezTo>
                  <a:pt x="159" y="170"/>
                  <a:pt x="150" y="162"/>
                  <a:pt x="144" y="156"/>
                </a:cubicBezTo>
                <a:cubicBezTo>
                  <a:pt x="138" y="150"/>
                  <a:pt x="140" y="144"/>
                  <a:pt x="135" y="142"/>
                </a:cubicBezTo>
                <a:cubicBezTo>
                  <a:pt x="130" y="140"/>
                  <a:pt x="119" y="148"/>
                  <a:pt x="112" y="145"/>
                </a:cubicBezTo>
                <a:cubicBezTo>
                  <a:pt x="105" y="142"/>
                  <a:pt x="98" y="130"/>
                  <a:pt x="94" y="124"/>
                </a:cubicBezTo>
                <a:cubicBezTo>
                  <a:pt x="90" y="118"/>
                  <a:pt x="93" y="109"/>
                  <a:pt x="85" y="106"/>
                </a:cubicBezTo>
                <a:cubicBezTo>
                  <a:pt x="77" y="103"/>
                  <a:pt x="56" y="106"/>
                  <a:pt x="48" y="103"/>
                </a:cubicBezTo>
                <a:cubicBezTo>
                  <a:pt x="40" y="100"/>
                  <a:pt x="43" y="89"/>
                  <a:pt x="36" y="85"/>
                </a:cubicBezTo>
                <a:cubicBezTo>
                  <a:pt x="29" y="81"/>
                  <a:pt x="8" y="84"/>
                  <a:pt x="4" y="81"/>
                </a:cubicBezTo>
                <a:cubicBezTo>
                  <a:pt x="0" y="78"/>
                  <a:pt x="13" y="72"/>
                  <a:pt x="13" y="66"/>
                </a:cubicBezTo>
                <a:cubicBezTo>
                  <a:pt x="13" y="60"/>
                  <a:pt x="4" y="54"/>
                  <a:pt x="6" y="46"/>
                </a:cubicBezTo>
                <a:cubicBezTo>
                  <a:pt x="8" y="38"/>
                  <a:pt x="22" y="24"/>
                  <a:pt x="27" y="18"/>
                </a:cubicBezTo>
                <a:close/>
              </a:path>
            </a:pathLst>
          </a:custGeom>
          <a:blipFill rotWithShape="0">
            <a:blip r:embed="rId12">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65"/>
          <p:cNvSpPr/>
          <p:nvPr/>
        </p:nvSpPr>
        <p:spPr>
          <a:xfrm>
            <a:off x="3868560" y="5180040"/>
            <a:ext cx="300240" cy="571320"/>
          </a:xfrm>
          <a:custGeom>
            <a:avLst/>
            <a:gdLst>
              <a:gd name="textAreaLeft" fmla="*/ 0 w 300240"/>
              <a:gd name="textAreaRight" fmla="*/ 300600 w 300240"/>
              <a:gd name="textAreaTop" fmla="*/ 0 h 571320"/>
              <a:gd name="textAreaBottom" fmla="*/ 571680 h 571320"/>
            </a:gdLst>
            <a:ahLst/>
            <a:rect l="textAreaLeft" t="textAreaTop" r="textAreaRight" b="textAreaBottom"/>
            <a:pathLst>
              <a:path w="189" h="360">
                <a:moveTo>
                  <a:pt x="1" y="73"/>
                </a:moveTo>
                <a:cubicBezTo>
                  <a:pt x="0" y="61"/>
                  <a:pt x="7" y="26"/>
                  <a:pt x="11" y="21"/>
                </a:cubicBezTo>
                <a:cubicBezTo>
                  <a:pt x="15" y="16"/>
                  <a:pt x="20" y="40"/>
                  <a:pt x="28" y="45"/>
                </a:cubicBezTo>
                <a:cubicBezTo>
                  <a:pt x="36" y="50"/>
                  <a:pt x="54" y="52"/>
                  <a:pt x="61" y="51"/>
                </a:cubicBezTo>
                <a:cubicBezTo>
                  <a:pt x="68" y="50"/>
                  <a:pt x="69" y="41"/>
                  <a:pt x="73" y="40"/>
                </a:cubicBezTo>
                <a:cubicBezTo>
                  <a:pt x="77" y="39"/>
                  <a:pt x="82" y="45"/>
                  <a:pt x="86" y="42"/>
                </a:cubicBezTo>
                <a:cubicBezTo>
                  <a:pt x="90" y="39"/>
                  <a:pt x="91" y="25"/>
                  <a:pt x="95" y="22"/>
                </a:cubicBezTo>
                <a:cubicBezTo>
                  <a:pt x="99" y="19"/>
                  <a:pt x="103" y="27"/>
                  <a:pt x="107" y="24"/>
                </a:cubicBezTo>
                <a:cubicBezTo>
                  <a:pt x="111" y="21"/>
                  <a:pt x="115" y="6"/>
                  <a:pt x="118" y="4"/>
                </a:cubicBezTo>
                <a:cubicBezTo>
                  <a:pt x="121" y="2"/>
                  <a:pt x="124" y="9"/>
                  <a:pt x="127" y="9"/>
                </a:cubicBezTo>
                <a:cubicBezTo>
                  <a:pt x="130" y="9"/>
                  <a:pt x="132" y="0"/>
                  <a:pt x="137" y="1"/>
                </a:cubicBezTo>
                <a:cubicBezTo>
                  <a:pt x="142" y="2"/>
                  <a:pt x="150" y="10"/>
                  <a:pt x="155" y="13"/>
                </a:cubicBezTo>
                <a:cubicBezTo>
                  <a:pt x="160" y="16"/>
                  <a:pt x="168" y="15"/>
                  <a:pt x="169" y="18"/>
                </a:cubicBezTo>
                <a:cubicBezTo>
                  <a:pt x="170" y="21"/>
                  <a:pt x="163" y="27"/>
                  <a:pt x="164" y="30"/>
                </a:cubicBezTo>
                <a:cubicBezTo>
                  <a:pt x="165" y="33"/>
                  <a:pt x="173" y="34"/>
                  <a:pt x="173" y="37"/>
                </a:cubicBezTo>
                <a:cubicBezTo>
                  <a:pt x="173" y="40"/>
                  <a:pt x="164" y="44"/>
                  <a:pt x="166" y="48"/>
                </a:cubicBezTo>
                <a:cubicBezTo>
                  <a:pt x="168" y="52"/>
                  <a:pt x="182" y="55"/>
                  <a:pt x="185" y="63"/>
                </a:cubicBezTo>
                <a:cubicBezTo>
                  <a:pt x="188" y="71"/>
                  <a:pt x="181" y="85"/>
                  <a:pt x="181" y="94"/>
                </a:cubicBezTo>
                <a:cubicBezTo>
                  <a:pt x="181" y="103"/>
                  <a:pt x="189" y="110"/>
                  <a:pt x="187" y="118"/>
                </a:cubicBezTo>
                <a:cubicBezTo>
                  <a:pt x="185" y="126"/>
                  <a:pt x="172" y="133"/>
                  <a:pt x="169" y="141"/>
                </a:cubicBezTo>
                <a:cubicBezTo>
                  <a:pt x="166" y="149"/>
                  <a:pt x="171" y="160"/>
                  <a:pt x="169" y="169"/>
                </a:cubicBezTo>
                <a:cubicBezTo>
                  <a:pt x="167" y="178"/>
                  <a:pt x="159" y="184"/>
                  <a:pt x="158" y="198"/>
                </a:cubicBezTo>
                <a:cubicBezTo>
                  <a:pt x="157" y="212"/>
                  <a:pt x="161" y="238"/>
                  <a:pt x="160" y="253"/>
                </a:cubicBezTo>
                <a:cubicBezTo>
                  <a:pt x="159" y="268"/>
                  <a:pt x="153" y="277"/>
                  <a:pt x="151" y="286"/>
                </a:cubicBezTo>
                <a:cubicBezTo>
                  <a:pt x="149" y="295"/>
                  <a:pt x="154" y="302"/>
                  <a:pt x="151" y="309"/>
                </a:cubicBezTo>
                <a:cubicBezTo>
                  <a:pt x="148" y="316"/>
                  <a:pt x="140" y="331"/>
                  <a:pt x="134" y="331"/>
                </a:cubicBezTo>
                <a:cubicBezTo>
                  <a:pt x="128" y="331"/>
                  <a:pt x="120" y="314"/>
                  <a:pt x="115" y="312"/>
                </a:cubicBezTo>
                <a:cubicBezTo>
                  <a:pt x="110" y="310"/>
                  <a:pt x="107" y="317"/>
                  <a:pt x="103" y="316"/>
                </a:cubicBezTo>
                <a:cubicBezTo>
                  <a:pt x="99" y="315"/>
                  <a:pt x="93" y="305"/>
                  <a:pt x="89" y="304"/>
                </a:cubicBezTo>
                <a:cubicBezTo>
                  <a:pt x="85" y="303"/>
                  <a:pt x="82" y="305"/>
                  <a:pt x="79" y="307"/>
                </a:cubicBezTo>
                <a:cubicBezTo>
                  <a:pt x="76" y="309"/>
                  <a:pt x="71" y="311"/>
                  <a:pt x="73" y="316"/>
                </a:cubicBezTo>
                <a:cubicBezTo>
                  <a:pt x="75" y="321"/>
                  <a:pt x="90" y="330"/>
                  <a:pt x="89" y="337"/>
                </a:cubicBezTo>
                <a:cubicBezTo>
                  <a:pt x="88" y="344"/>
                  <a:pt x="75" y="356"/>
                  <a:pt x="67" y="358"/>
                </a:cubicBezTo>
                <a:cubicBezTo>
                  <a:pt x="59" y="360"/>
                  <a:pt x="49" y="352"/>
                  <a:pt x="41" y="351"/>
                </a:cubicBezTo>
                <a:cubicBezTo>
                  <a:pt x="33" y="350"/>
                  <a:pt x="20" y="356"/>
                  <a:pt x="17" y="354"/>
                </a:cubicBezTo>
                <a:cubicBezTo>
                  <a:pt x="14" y="352"/>
                  <a:pt x="26" y="352"/>
                  <a:pt x="25" y="340"/>
                </a:cubicBezTo>
                <a:cubicBezTo>
                  <a:pt x="24" y="328"/>
                  <a:pt x="11" y="292"/>
                  <a:pt x="10" y="279"/>
                </a:cubicBezTo>
                <a:cubicBezTo>
                  <a:pt x="9" y="266"/>
                  <a:pt x="16" y="273"/>
                  <a:pt x="17" y="264"/>
                </a:cubicBezTo>
                <a:cubicBezTo>
                  <a:pt x="18" y="255"/>
                  <a:pt x="12" y="234"/>
                  <a:pt x="14" y="226"/>
                </a:cubicBezTo>
                <a:cubicBezTo>
                  <a:pt x="16" y="218"/>
                  <a:pt x="28" y="221"/>
                  <a:pt x="28" y="213"/>
                </a:cubicBezTo>
                <a:cubicBezTo>
                  <a:pt x="28" y="205"/>
                  <a:pt x="12" y="183"/>
                  <a:pt x="13" y="175"/>
                </a:cubicBezTo>
                <a:cubicBezTo>
                  <a:pt x="14" y="167"/>
                  <a:pt x="33" y="170"/>
                  <a:pt x="34" y="166"/>
                </a:cubicBezTo>
                <a:cubicBezTo>
                  <a:pt x="35" y="162"/>
                  <a:pt x="22" y="154"/>
                  <a:pt x="22" y="148"/>
                </a:cubicBezTo>
                <a:cubicBezTo>
                  <a:pt x="22" y="142"/>
                  <a:pt x="34" y="135"/>
                  <a:pt x="34" y="130"/>
                </a:cubicBezTo>
                <a:cubicBezTo>
                  <a:pt x="34" y="125"/>
                  <a:pt x="24" y="122"/>
                  <a:pt x="23" y="118"/>
                </a:cubicBezTo>
                <a:cubicBezTo>
                  <a:pt x="22" y="114"/>
                  <a:pt x="29" y="106"/>
                  <a:pt x="28" y="103"/>
                </a:cubicBezTo>
                <a:cubicBezTo>
                  <a:pt x="27" y="100"/>
                  <a:pt x="20" y="102"/>
                  <a:pt x="16" y="97"/>
                </a:cubicBezTo>
                <a:cubicBezTo>
                  <a:pt x="12" y="92"/>
                  <a:pt x="4" y="78"/>
                  <a:pt x="1" y="73"/>
                </a:cubicBezTo>
                <a:close/>
              </a:path>
            </a:pathLst>
          </a:custGeom>
          <a:blipFill rotWithShape="0">
            <a:blip r:embed="rId13">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9" name="Picture 67" descr="1861 the Kingdom of Italy"/>
          <p:cNvPicPr/>
          <p:nvPr/>
        </p:nvPicPr>
        <p:blipFill>
          <a:blip r:embed="rId14"/>
          <a:stretch/>
        </p:blipFill>
        <p:spPr>
          <a:xfrm>
            <a:off x="4581360" y="4765680"/>
            <a:ext cx="314640" cy="210960"/>
          </a:xfrm>
          <a:prstGeom prst="rect">
            <a:avLst/>
          </a:prstGeom>
          <a:ln w="0">
            <a:noFill/>
          </a:ln>
        </p:spPr>
      </p:pic>
      <p:sp>
        <p:nvSpPr>
          <p:cNvPr id="230" name="Freeform 68"/>
          <p:cNvSpPr/>
          <p:nvPr/>
        </p:nvSpPr>
        <p:spPr>
          <a:xfrm>
            <a:off x="6470640" y="4546440"/>
            <a:ext cx="1082520" cy="770040"/>
          </a:xfrm>
          <a:custGeom>
            <a:avLst/>
            <a:gdLst>
              <a:gd name="textAreaLeft" fmla="*/ 0 w 1082520"/>
              <a:gd name="textAreaRight" fmla="*/ 1082520 w 1082520"/>
              <a:gd name="textAreaTop" fmla="*/ 0 h 770040"/>
              <a:gd name="textAreaBottom" fmla="*/ 770400 h 770040"/>
            </a:gdLst>
            <a:ahLst/>
            <a:rect l="textAreaLeft" t="textAreaTop" r="textAreaRight" b="textAreaBottom"/>
            <a:pathLst>
              <a:path w="682" h="485">
                <a:moveTo>
                  <a:pt x="40" y="0"/>
                </a:moveTo>
                <a:cubicBezTo>
                  <a:pt x="56" y="1"/>
                  <a:pt x="79" y="37"/>
                  <a:pt x="96" y="44"/>
                </a:cubicBezTo>
                <a:cubicBezTo>
                  <a:pt x="113" y="51"/>
                  <a:pt x="119" y="41"/>
                  <a:pt x="140" y="44"/>
                </a:cubicBezTo>
                <a:cubicBezTo>
                  <a:pt x="161" y="47"/>
                  <a:pt x="191" y="62"/>
                  <a:pt x="220" y="64"/>
                </a:cubicBezTo>
                <a:cubicBezTo>
                  <a:pt x="249" y="66"/>
                  <a:pt x="287" y="58"/>
                  <a:pt x="312" y="54"/>
                </a:cubicBezTo>
                <a:cubicBezTo>
                  <a:pt x="337" y="50"/>
                  <a:pt x="350" y="42"/>
                  <a:pt x="370" y="38"/>
                </a:cubicBezTo>
                <a:cubicBezTo>
                  <a:pt x="390" y="34"/>
                  <a:pt x="416" y="28"/>
                  <a:pt x="434" y="28"/>
                </a:cubicBezTo>
                <a:cubicBezTo>
                  <a:pt x="452" y="28"/>
                  <a:pt x="466" y="40"/>
                  <a:pt x="480" y="38"/>
                </a:cubicBezTo>
                <a:cubicBezTo>
                  <a:pt x="494" y="36"/>
                  <a:pt x="504" y="14"/>
                  <a:pt x="518" y="14"/>
                </a:cubicBezTo>
                <a:cubicBezTo>
                  <a:pt x="532" y="14"/>
                  <a:pt x="544" y="24"/>
                  <a:pt x="562" y="38"/>
                </a:cubicBezTo>
                <a:cubicBezTo>
                  <a:pt x="580" y="52"/>
                  <a:pt x="610" y="89"/>
                  <a:pt x="626" y="98"/>
                </a:cubicBezTo>
                <a:cubicBezTo>
                  <a:pt x="642" y="107"/>
                  <a:pt x="653" y="89"/>
                  <a:pt x="656" y="94"/>
                </a:cubicBezTo>
                <a:cubicBezTo>
                  <a:pt x="659" y="99"/>
                  <a:pt x="643" y="117"/>
                  <a:pt x="642" y="128"/>
                </a:cubicBezTo>
                <a:cubicBezTo>
                  <a:pt x="641" y="139"/>
                  <a:pt x="653" y="152"/>
                  <a:pt x="652" y="160"/>
                </a:cubicBezTo>
                <a:cubicBezTo>
                  <a:pt x="651" y="168"/>
                  <a:pt x="638" y="170"/>
                  <a:pt x="634" y="176"/>
                </a:cubicBezTo>
                <a:cubicBezTo>
                  <a:pt x="630" y="182"/>
                  <a:pt x="632" y="188"/>
                  <a:pt x="628" y="194"/>
                </a:cubicBezTo>
                <a:cubicBezTo>
                  <a:pt x="624" y="200"/>
                  <a:pt x="609" y="205"/>
                  <a:pt x="610" y="210"/>
                </a:cubicBezTo>
                <a:cubicBezTo>
                  <a:pt x="611" y="215"/>
                  <a:pt x="626" y="216"/>
                  <a:pt x="632" y="222"/>
                </a:cubicBezTo>
                <a:cubicBezTo>
                  <a:pt x="638" y="228"/>
                  <a:pt x="636" y="239"/>
                  <a:pt x="644" y="248"/>
                </a:cubicBezTo>
                <a:cubicBezTo>
                  <a:pt x="652" y="257"/>
                  <a:pt x="674" y="270"/>
                  <a:pt x="678" y="276"/>
                </a:cubicBezTo>
                <a:cubicBezTo>
                  <a:pt x="682" y="282"/>
                  <a:pt x="678" y="285"/>
                  <a:pt x="668" y="286"/>
                </a:cubicBezTo>
                <a:cubicBezTo>
                  <a:pt x="658" y="287"/>
                  <a:pt x="631" y="280"/>
                  <a:pt x="616" y="282"/>
                </a:cubicBezTo>
                <a:cubicBezTo>
                  <a:pt x="601" y="284"/>
                  <a:pt x="590" y="294"/>
                  <a:pt x="578" y="296"/>
                </a:cubicBezTo>
                <a:cubicBezTo>
                  <a:pt x="566" y="298"/>
                  <a:pt x="551" y="292"/>
                  <a:pt x="542" y="294"/>
                </a:cubicBezTo>
                <a:cubicBezTo>
                  <a:pt x="533" y="296"/>
                  <a:pt x="534" y="305"/>
                  <a:pt x="524" y="308"/>
                </a:cubicBezTo>
                <a:cubicBezTo>
                  <a:pt x="514" y="311"/>
                  <a:pt x="490" y="304"/>
                  <a:pt x="480" y="310"/>
                </a:cubicBezTo>
                <a:cubicBezTo>
                  <a:pt x="470" y="316"/>
                  <a:pt x="479" y="324"/>
                  <a:pt x="462" y="346"/>
                </a:cubicBezTo>
                <a:cubicBezTo>
                  <a:pt x="445" y="368"/>
                  <a:pt x="396" y="424"/>
                  <a:pt x="376" y="440"/>
                </a:cubicBezTo>
                <a:cubicBezTo>
                  <a:pt x="356" y="456"/>
                  <a:pt x="351" y="441"/>
                  <a:pt x="342" y="444"/>
                </a:cubicBezTo>
                <a:cubicBezTo>
                  <a:pt x="333" y="447"/>
                  <a:pt x="339" y="459"/>
                  <a:pt x="322" y="456"/>
                </a:cubicBezTo>
                <a:cubicBezTo>
                  <a:pt x="305" y="453"/>
                  <a:pt x="259" y="426"/>
                  <a:pt x="238" y="428"/>
                </a:cubicBezTo>
                <a:cubicBezTo>
                  <a:pt x="217" y="430"/>
                  <a:pt x="212" y="462"/>
                  <a:pt x="196" y="468"/>
                </a:cubicBezTo>
                <a:cubicBezTo>
                  <a:pt x="180" y="474"/>
                  <a:pt x="159" y="463"/>
                  <a:pt x="144" y="466"/>
                </a:cubicBezTo>
                <a:cubicBezTo>
                  <a:pt x="129" y="469"/>
                  <a:pt x="120" y="483"/>
                  <a:pt x="108" y="484"/>
                </a:cubicBezTo>
                <a:cubicBezTo>
                  <a:pt x="96" y="485"/>
                  <a:pt x="79" y="482"/>
                  <a:pt x="70" y="474"/>
                </a:cubicBezTo>
                <a:cubicBezTo>
                  <a:pt x="61" y="466"/>
                  <a:pt x="51" y="441"/>
                  <a:pt x="56" y="434"/>
                </a:cubicBezTo>
                <a:cubicBezTo>
                  <a:pt x="61" y="427"/>
                  <a:pt x="96" y="442"/>
                  <a:pt x="100" y="430"/>
                </a:cubicBezTo>
                <a:cubicBezTo>
                  <a:pt x="104" y="418"/>
                  <a:pt x="96" y="382"/>
                  <a:pt x="82" y="360"/>
                </a:cubicBezTo>
                <a:cubicBezTo>
                  <a:pt x="68" y="338"/>
                  <a:pt x="21" y="320"/>
                  <a:pt x="16" y="300"/>
                </a:cubicBezTo>
                <a:cubicBezTo>
                  <a:pt x="11" y="280"/>
                  <a:pt x="49" y="258"/>
                  <a:pt x="54" y="240"/>
                </a:cubicBezTo>
                <a:cubicBezTo>
                  <a:pt x="59" y="222"/>
                  <a:pt x="40" y="206"/>
                  <a:pt x="44" y="192"/>
                </a:cubicBezTo>
                <a:cubicBezTo>
                  <a:pt x="48" y="178"/>
                  <a:pt x="77" y="170"/>
                  <a:pt x="78" y="154"/>
                </a:cubicBezTo>
                <a:cubicBezTo>
                  <a:pt x="79" y="138"/>
                  <a:pt x="63" y="114"/>
                  <a:pt x="50" y="96"/>
                </a:cubicBezTo>
                <a:cubicBezTo>
                  <a:pt x="37" y="78"/>
                  <a:pt x="4" y="62"/>
                  <a:pt x="2" y="46"/>
                </a:cubicBezTo>
                <a:cubicBezTo>
                  <a:pt x="0" y="30"/>
                  <a:pt x="32" y="10"/>
                  <a:pt x="40" y="0"/>
                </a:cubicBezTo>
                <a:close/>
              </a:path>
            </a:pathLst>
          </a:custGeom>
          <a:blipFill rotWithShape="0">
            <a:blip r:embed="rId15">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69"/>
          <p:cNvSpPr/>
          <p:nvPr/>
        </p:nvSpPr>
        <p:spPr>
          <a:xfrm>
            <a:off x="5889600" y="4930920"/>
            <a:ext cx="378000" cy="734760"/>
          </a:xfrm>
          <a:custGeom>
            <a:avLst/>
            <a:gdLst>
              <a:gd name="textAreaLeft" fmla="*/ 0 w 378000"/>
              <a:gd name="textAreaRight" fmla="*/ 378360 w 378000"/>
              <a:gd name="textAreaTop" fmla="*/ 0 h 734760"/>
              <a:gd name="textAreaBottom" fmla="*/ 735120 h 734760"/>
            </a:gdLst>
            <a:ahLst/>
            <a:rect l="textAreaLeft" t="textAreaTop" r="textAreaRight" b="textAreaBottom"/>
            <a:pathLst>
              <a:path w="238" h="463">
                <a:moveTo>
                  <a:pt x="18" y="134"/>
                </a:moveTo>
                <a:lnTo>
                  <a:pt x="66" y="16"/>
                </a:lnTo>
                <a:cubicBezTo>
                  <a:pt x="80" y="0"/>
                  <a:pt x="86" y="35"/>
                  <a:pt x="100" y="40"/>
                </a:cubicBezTo>
                <a:cubicBezTo>
                  <a:pt x="114" y="45"/>
                  <a:pt x="137" y="40"/>
                  <a:pt x="148" y="46"/>
                </a:cubicBezTo>
                <a:cubicBezTo>
                  <a:pt x="159" y="52"/>
                  <a:pt x="160" y="65"/>
                  <a:pt x="168" y="74"/>
                </a:cubicBezTo>
                <a:cubicBezTo>
                  <a:pt x="176" y="83"/>
                  <a:pt x="194" y="93"/>
                  <a:pt x="198" y="102"/>
                </a:cubicBezTo>
                <a:cubicBezTo>
                  <a:pt x="202" y="111"/>
                  <a:pt x="193" y="118"/>
                  <a:pt x="192" y="128"/>
                </a:cubicBezTo>
                <a:cubicBezTo>
                  <a:pt x="191" y="138"/>
                  <a:pt x="193" y="150"/>
                  <a:pt x="192" y="162"/>
                </a:cubicBezTo>
                <a:cubicBezTo>
                  <a:pt x="191" y="174"/>
                  <a:pt x="181" y="177"/>
                  <a:pt x="188" y="200"/>
                </a:cubicBezTo>
                <a:cubicBezTo>
                  <a:pt x="195" y="223"/>
                  <a:pt x="230" y="277"/>
                  <a:pt x="234" y="298"/>
                </a:cubicBezTo>
                <a:cubicBezTo>
                  <a:pt x="238" y="319"/>
                  <a:pt x="218" y="313"/>
                  <a:pt x="212" y="324"/>
                </a:cubicBezTo>
                <a:cubicBezTo>
                  <a:pt x="206" y="335"/>
                  <a:pt x="209" y="356"/>
                  <a:pt x="200" y="362"/>
                </a:cubicBezTo>
                <a:cubicBezTo>
                  <a:pt x="191" y="368"/>
                  <a:pt x="167" y="356"/>
                  <a:pt x="154" y="360"/>
                </a:cubicBezTo>
                <a:cubicBezTo>
                  <a:pt x="141" y="364"/>
                  <a:pt x="130" y="368"/>
                  <a:pt x="120" y="384"/>
                </a:cubicBezTo>
                <a:cubicBezTo>
                  <a:pt x="110" y="400"/>
                  <a:pt x="107" y="445"/>
                  <a:pt x="96" y="454"/>
                </a:cubicBezTo>
                <a:cubicBezTo>
                  <a:pt x="85" y="463"/>
                  <a:pt x="67" y="450"/>
                  <a:pt x="52" y="436"/>
                </a:cubicBezTo>
                <a:cubicBezTo>
                  <a:pt x="37" y="422"/>
                  <a:pt x="12" y="386"/>
                  <a:pt x="6" y="372"/>
                </a:cubicBezTo>
                <a:cubicBezTo>
                  <a:pt x="0" y="358"/>
                  <a:pt x="16" y="360"/>
                  <a:pt x="18" y="354"/>
                </a:cubicBezTo>
                <a:cubicBezTo>
                  <a:pt x="20" y="348"/>
                  <a:pt x="17" y="343"/>
                  <a:pt x="16" y="334"/>
                </a:cubicBezTo>
                <a:cubicBezTo>
                  <a:pt x="15" y="325"/>
                  <a:pt x="9" y="315"/>
                  <a:pt x="12" y="302"/>
                </a:cubicBezTo>
                <a:cubicBezTo>
                  <a:pt x="15" y="289"/>
                  <a:pt x="31" y="265"/>
                  <a:pt x="32" y="254"/>
                </a:cubicBezTo>
                <a:cubicBezTo>
                  <a:pt x="33" y="243"/>
                  <a:pt x="21" y="243"/>
                  <a:pt x="20" y="236"/>
                </a:cubicBezTo>
                <a:cubicBezTo>
                  <a:pt x="19" y="229"/>
                  <a:pt x="24" y="222"/>
                  <a:pt x="26" y="212"/>
                </a:cubicBezTo>
                <a:cubicBezTo>
                  <a:pt x="28" y="202"/>
                  <a:pt x="35" y="189"/>
                  <a:pt x="34" y="176"/>
                </a:cubicBezTo>
                <a:cubicBezTo>
                  <a:pt x="33" y="163"/>
                  <a:pt x="21" y="143"/>
                  <a:pt x="18" y="134"/>
                </a:cubicBezTo>
                <a:close/>
              </a:path>
            </a:pathLst>
          </a:custGeom>
          <a:blipFill rotWithShape="0">
            <a:blip r:embed="rId16">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2" name="Picture 70" descr="1861 the Kingdom of Italy"/>
          <p:cNvPicPr/>
          <p:nvPr/>
        </p:nvPicPr>
        <p:blipFill>
          <a:blip r:embed="rId17"/>
          <a:stretch/>
        </p:blipFill>
        <p:spPr>
          <a:xfrm>
            <a:off x="5975280" y="5251320"/>
            <a:ext cx="155520" cy="104760"/>
          </a:xfrm>
          <a:prstGeom prst="rect">
            <a:avLst/>
          </a:prstGeom>
          <a:ln w="0">
            <a:noFill/>
          </a:ln>
        </p:spPr>
      </p:pic>
      <p:sp>
        <p:nvSpPr>
          <p:cNvPr id="233" name="Freeform 72"/>
          <p:cNvSpPr/>
          <p:nvPr/>
        </p:nvSpPr>
        <p:spPr>
          <a:xfrm>
            <a:off x="4667400" y="1700280"/>
            <a:ext cx="141120" cy="119160"/>
          </a:xfrm>
          <a:custGeom>
            <a:avLst/>
            <a:gdLst>
              <a:gd name="textAreaLeft" fmla="*/ 0 w 141120"/>
              <a:gd name="textAreaRight" fmla="*/ 141480 w 141120"/>
              <a:gd name="textAreaTop" fmla="*/ 0 h 119160"/>
              <a:gd name="textAreaBottom" fmla="*/ 119520 h 119160"/>
            </a:gdLst>
            <a:ahLst/>
            <a:rect l="textAreaLeft" t="textAreaTop" r="textAreaRight" b="textAreaBottom"/>
            <a:pathLst>
              <a:path w="89" h="75">
                <a:moveTo>
                  <a:pt x="0" y="2"/>
                </a:moveTo>
                <a:cubicBezTo>
                  <a:pt x="4" y="0"/>
                  <a:pt x="18" y="8"/>
                  <a:pt x="23" y="9"/>
                </a:cubicBezTo>
                <a:cubicBezTo>
                  <a:pt x="28" y="10"/>
                  <a:pt x="27" y="5"/>
                  <a:pt x="32" y="8"/>
                </a:cubicBezTo>
                <a:cubicBezTo>
                  <a:pt x="37" y="11"/>
                  <a:pt x="46" y="28"/>
                  <a:pt x="53" y="30"/>
                </a:cubicBezTo>
                <a:cubicBezTo>
                  <a:pt x="60" y="32"/>
                  <a:pt x="68" y="19"/>
                  <a:pt x="74" y="21"/>
                </a:cubicBezTo>
                <a:cubicBezTo>
                  <a:pt x="80" y="23"/>
                  <a:pt x="89" y="34"/>
                  <a:pt x="87" y="42"/>
                </a:cubicBezTo>
                <a:cubicBezTo>
                  <a:pt x="85" y="50"/>
                  <a:pt x="66" y="69"/>
                  <a:pt x="59" y="72"/>
                </a:cubicBezTo>
                <a:cubicBezTo>
                  <a:pt x="52" y="75"/>
                  <a:pt x="49" y="64"/>
                  <a:pt x="44" y="63"/>
                </a:cubicBezTo>
                <a:cubicBezTo>
                  <a:pt x="39" y="62"/>
                  <a:pt x="36" y="70"/>
                  <a:pt x="30" y="65"/>
                </a:cubicBezTo>
                <a:cubicBezTo>
                  <a:pt x="24" y="60"/>
                  <a:pt x="9" y="40"/>
                  <a:pt x="6" y="33"/>
                </a:cubicBezTo>
                <a:cubicBezTo>
                  <a:pt x="3" y="26"/>
                  <a:pt x="13" y="25"/>
                  <a:pt x="12" y="20"/>
                </a:cubicBezTo>
                <a:cubicBezTo>
                  <a:pt x="11" y="15"/>
                  <a:pt x="2" y="6"/>
                  <a:pt x="0" y="2"/>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73"/>
          <p:cNvSpPr/>
          <p:nvPr/>
        </p:nvSpPr>
        <p:spPr>
          <a:xfrm>
            <a:off x="4819680" y="1843200"/>
            <a:ext cx="152280" cy="102960"/>
          </a:xfrm>
          <a:custGeom>
            <a:avLst/>
            <a:gdLst>
              <a:gd name="textAreaLeft" fmla="*/ 0 w 152280"/>
              <a:gd name="textAreaRight" fmla="*/ 152640 w 152280"/>
              <a:gd name="textAreaTop" fmla="*/ 0 h 102960"/>
              <a:gd name="textAreaBottom" fmla="*/ 103320 h 102960"/>
            </a:gdLst>
            <a:ahLst/>
            <a:rect l="textAreaLeft" t="textAreaTop" r="textAreaRight" b="textAreaBottom"/>
            <a:pathLst>
              <a:path w="96" h="65">
                <a:moveTo>
                  <a:pt x="9" y="5"/>
                </a:moveTo>
                <a:cubicBezTo>
                  <a:pt x="13" y="3"/>
                  <a:pt x="19" y="0"/>
                  <a:pt x="26" y="3"/>
                </a:cubicBezTo>
                <a:cubicBezTo>
                  <a:pt x="33" y="6"/>
                  <a:pt x="45" y="20"/>
                  <a:pt x="53" y="21"/>
                </a:cubicBezTo>
                <a:cubicBezTo>
                  <a:pt x="61" y="22"/>
                  <a:pt x="68" y="9"/>
                  <a:pt x="75" y="11"/>
                </a:cubicBezTo>
                <a:cubicBezTo>
                  <a:pt x="82" y="13"/>
                  <a:pt x="94" y="29"/>
                  <a:pt x="95" y="35"/>
                </a:cubicBezTo>
                <a:cubicBezTo>
                  <a:pt x="96" y="41"/>
                  <a:pt x="84" y="43"/>
                  <a:pt x="81" y="48"/>
                </a:cubicBezTo>
                <a:cubicBezTo>
                  <a:pt x="78" y="53"/>
                  <a:pt x="81" y="65"/>
                  <a:pt x="78" y="65"/>
                </a:cubicBezTo>
                <a:cubicBezTo>
                  <a:pt x="75" y="65"/>
                  <a:pt x="70" y="50"/>
                  <a:pt x="62" y="47"/>
                </a:cubicBezTo>
                <a:cubicBezTo>
                  <a:pt x="54" y="44"/>
                  <a:pt x="35" y="46"/>
                  <a:pt x="27" y="44"/>
                </a:cubicBezTo>
                <a:cubicBezTo>
                  <a:pt x="19" y="42"/>
                  <a:pt x="19" y="38"/>
                  <a:pt x="15" y="35"/>
                </a:cubicBezTo>
                <a:cubicBezTo>
                  <a:pt x="11" y="32"/>
                  <a:pt x="0" y="29"/>
                  <a:pt x="0" y="26"/>
                </a:cubicBezTo>
                <a:cubicBezTo>
                  <a:pt x="0" y="23"/>
                  <a:pt x="14" y="18"/>
                  <a:pt x="15" y="15"/>
                </a:cubicBezTo>
                <a:cubicBezTo>
                  <a:pt x="16" y="12"/>
                  <a:pt x="10" y="7"/>
                  <a:pt x="9" y="5"/>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74"/>
          <p:cNvSpPr/>
          <p:nvPr/>
        </p:nvSpPr>
        <p:spPr>
          <a:xfrm>
            <a:off x="4843440" y="1677960"/>
            <a:ext cx="209520" cy="157320"/>
          </a:xfrm>
          <a:custGeom>
            <a:avLst/>
            <a:gdLst>
              <a:gd name="textAreaLeft" fmla="*/ 0 w 209520"/>
              <a:gd name="textAreaRight" fmla="*/ 209880 w 209520"/>
              <a:gd name="textAreaTop" fmla="*/ 0 h 157320"/>
              <a:gd name="textAreaBottom" fmla="*/ 157320 h 157320"/>
            </a:gdLst>
            <a:ahLst/>
            <a:rect l="textAreaLeft" t="textAreaTop" r="textAreaRight" b="textAreaBottom"/>
            <a:pathLst>
              <a:path w="132" h="99">
                <a:moveTo>
                  <a:pt x="3" y="23"/>
                </a:moveTo>
                <a:cubicBezTo>
                  <a:pt x="6" y="21"/>
                  <a:pt x="20" y="33"/>
                  <a:pt x="26" y="34"/>
                </a:cubicBezTo>
                <a:cubicBezTo>
                  <a:pt x="32" y="35"/>
                  <a:pt x="36" y="26"/>
                  <a:pt x="41" y="26"/>
                </a:cubicBezTo>
                <a:cubicBezTo>
                  <a:pt x="46" y="26"/>
                  <a:pt x="51" y="33"/>
                  <a:pt x="56" y="32"/>
                </a:cubicBezTo>
                <a:cubicBezTo>
                  <a:pt x="61" y="31"/>
                  <a:pt x="67" y="21"/>
                  <a:pt x="72" y="19"/>
                </a:cubicBezTo>
                <a:cubicBezTo>
                  <a:pt x="77" y="17"/>
                  <a:pt x="79" y="23"/>
                  <a:pt x="84" y="20"/>
                </a:cubicBezTo>
                <a:cubicBezTo>
                  <a:pt x="89" y="17"/>
                  <a:pt x="97" y="2"/>
                  <a:pt x="105" y="1"/>
                </a:cubicBezTo>
                <a:cubicBezTo>
                  <a:pt x="113" y="0"/>
                  <a:pt x="132" y="7"/>
                  <a:pt x="131" y="14"/>
                </a:cubicBezTo>
                <a:cubicBezTo>
                  <a:pt x="130" y="21"/>
                  <a:pt x="103" y="33"/>
                  <a:pt x="99" y="41"/>
                </a:cubicBezTo>
                <a:cubicBezTo>
                  <a:pt x="95" y="49"/>
                  <a:pt x="106" y="54"/>
                  <a:pt x="105" y="61"/>
                </a:cubicBezTo>
                <a:cubicBezTo>
                  <a:pt x="104" y="68"/>
                  <a:pt x="97" y="79"/>
                  <a:pt x="93" y="82"/>
                </a:cubicBezTo>
                <a:cubicBezTo>
                  <a:pt x="89" y="85"/>
                  <a:pt x="86" y="77"/>
                  <a:pt x="83" y="79"/>
                </a:cubicBezTo>
                <a:cubicBezTo>
                  <a:pt x="80" y="81"/>
                  <a:pt x="75" y="99"/>
                  <a:pt x="72" y="97"/>
                </a:cubicBezTo>
                <a:cubicBezTo>
                  <a:pt x="69" y="95"/>
                  <a:pt x="68" y="72"/>
                  <a:pt x="62" y="67"/>
                </a:cubicBezTo>
                <a:cubicBezTo>
                  <a:pt x="56" y="62"/>
                  <a:pt x="43" y="68"/>
                  <a:pt x="38" y="67"/>
                </a:cubicBezTo>
                <a:cubicBezTo>
                  <a:pt x="33" y="66"/>
                  <a:pt x="37" y="62"/>
                  <a:pt x="32" y="59"/>
                </a:cubicBezTo>
                <a:cubicBezTo>
                  <a:pt x="27" y="56"/>
                  <a:pt x="10" y="53"/>
                  <a:pt x="5" y="47"/>
                </a:cubicBezTo>
                <a:cubicBezTo>
                  <a:pt x="0" y="41"/>
                  <a:pt x="0" y="25"/>
                  <a:pt x="3" y="23"/>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6" name="Picture 75" descr="nazi"/>
          <p:cNvPicPr/>
          <p:nvPr/>
        </p:nvPicPr>
        <p:blipFill>
          <a:blip r:embed="rId18"/>
          <a:stretch/>
        </p:blipFill>
        <p:spPr>
          <a:xfrm>
            <a:off x="4525920" y="1479600"/>
            <a:ext cx="182520" cy="108000"/>
          </a:xfrm>
          <a:prstGeom prst="rect">
            <a:avLst/>
          </a:prstGeom>
          <a:ln w="0">
            <a:noFill/>
          </a:ln>
        </p:spPr>
      </p:pic>
      <p:sp>
        <p:nvSpPr>
          <p:cNvPr id="237" name="Freeform 76"/>
          <p:cNvSpPr/>
          <p:nvPr/>
        </p:nvSpPr>
        <p:spPr>
          <a:xfrm>
            <a:off x="4222800" y="23760"/>
            <a:ext cx="1033560" cy="1042920"/>
          </a:xfrm>
          <a:custGeom>
            <a:avLst/>
            <a:gdLst>
              <a:gd name="textAreaLeft" fmla="*/ 0 w 1033560"/>
              <a:gd name="textAreaRight" fmla="*/ 1033920 w 1033560"/>
              <a:gd name="textAreaTop" fmla="*/ 0 h 1042920"/>
              <a:gd name="textAreaBottom" fmla="*/ 1043280 h 1042920"/>
            </a:gdLst>
            <a:ahLst/>
            <a:rect l="textAreaLeft" t="textAreaTop" r="textAreaRight" b="textAreaBottom"/>
            <a:pathLst>
              <a:path w="651" h="657">
                <a:moveTo>
                  <a:pt x="73" y="2"/>
                </a:moveTo>
                <a:lnTo>
                  <a:pt x="610" y="0"/>
                </a:lnTo>
                <a:lnTo>
                  <a:pt x="612" y="27"/>
                </a:lnTo>
                <a:cubicBezTo>
                  <a:pt x="612" y="41"/>
                  <a:pt x="616" y="68"/>
                  <a:pt x="613" y="83"/>
                </a:cubicBezTo>
                <a:cubicBezTo>
                  <a:pt x="610" y="98"/>
                  <a:pt x="588" y="104"/>
                  <a:pt x="592" y="119"/>
                </a:cubicBezTo>
                <a:cubicBezTo>
                  <a:pt x="596" y="134"/>
                  <a:pt x="630" y="161"/>
                  <a:pt x="639" y="176"/>
                </a:cubicBezTo>
                <a:cubicBezTo>
                  <a:pt x="648" y="191"/>
                  <a:pt x="651" y="202"/>
                  <a:pt x="648" y="212"/>
                </a:cubicBezTo>
                <a:cubicBezTo>
                  <a:pt x="645" y="222"/>
                  <a:pt x="629" y="225"/>
                  <a:pt x="621" y="234"/>
                </a:cubicBezTo>
                <a:cubicBezTo>
                  <a:pt x="613" y="243"/>
                  <a:pt x="600" y="252"/>
                  <a:pt x="600" y="266"/>
                </a:cubicBezTo>
                <a:cubicBezTo>
                  <a:pt x="600" y="280"/>
                  <a:pt x="626" y="307"/>
                  <a:pt x="624" y="320"/>
                </a:cubicBezTo>
                <a:cubicBezTo>
                  <a:pt x="622" y="333"/>
                  <a:pt x="593" y="336"/>
                  <a:pt x="588" y="347"/>
                </a:cubicBezTo>
                <a:cubicBezTo>
                  <a:pt x="583" y="358"/>
                  <a:pt x="599" y="374"/>
                  <a:pt x="592" y="386"/>
                </a:cubicBezTo>
                <a:cubicBezTo>
                  <a:pt x="585" y="398"/>
                  <a:pt x="559" y="405"/>
                  <a:pt x="547" y="417"/>
                </a:cubicBezTo>
                <a:cubicBezTo>
                  <a:pt x="535" y="429"/>
                  <a:pt x="523" y="442"/>
                  <a:pt x="520" y="456"/>
                </a:cubicBezTo>
                <a:cubicBezTo>
                  <a:pt x="517" y="470"/>
                  <a:pt x="530" y="487"/>
                  <a:pt x="526" y="500"/>
                </a:cubicBezTo>
                <a:cubicBezTo>
                  <a:pt x="522" y="513"/>
                  <a:pt x="512" y="540"/>
                  <a:pt x="495" y="537"/>
                </a:cubicBezTo>
                <a:cubicBezTo>
                  <a:pt x="478" y="534"/>
                  <a:pt x="439" y="489"/>
                  <a:pt x="426" y="482"/>
                </a:cubicBezTo>
                <a:cubicBezTo>
                  <a:pt x="413" y="475"/>
                  <a:pt x="417" y="492"/>
                  <a:pt x="414" y="495"/>
                </a:cubicBezTo>
                <a:cubicBezTo>
                  <a:pt x="411" y="498"/>
                  <a:pt x="408" y="499"/>
                  <a:pt x="405" y="503"/>
                </a:cubicBezTo>
                <a:cubicBezTo>
                  <a:pt x="402" y="507"/>
                  <a:pt x="402" y="516"/>
                  <a:pt x="399" y="521"/>
                </a:cubicBezTo>
                <a:cubicBezTo>
                  <a:pt x="396" y="526"/>
                  <a:pt x="394" y="529"/>
                  <a:pt x="388" y="531"/>
                </a:cubicBezTo>
                <a:cubicBezTo>
                  <a:pt x="382" y="533"/>
                  <a:pt x="369" y="537"/>
                  <a:pt x="361" y="536"/>
                </a:cubicBezTo>
                <a:cubicBezTo>
                  <a:pt x="353" y="535"/>
                  <a:pt x="346" y="525"/>
                  <a:pt x="340" y="525"/>
                </a:cubicBezTo>
                <a:cubicBezTo>
                  <a:pt x="334" y="525"/>
                  <a:pt x="328" y="529"/>
                  <a:pt x="325" y="534"/>
                </a:cubicBezTo>
                <a:cubicBezTo>
                  <a:pt x="322" y="539"/>
                  <a:pt x="324" y="550"/>
                  <a:pt x="321" y="554"/>
                </a:cubicBezTo>
                <a:cubicBezTo>
                  <a:pt x="318" y="558"/>
                  <a:pt x="310" y="554"/>
                  <a:pt x="307" y="557"/>
                </a:cubicBezTo>
                <a:cubicBezTo>
                  <a:pt x="304" y="560"/>
                  <a:pt x="307" y="564"/>
                  <a:pt x="301" y="573"/>
                </a:cubicBezTo>
                <a:cubicBezTo>
                  <a:pt x="295" y="582"/>
                  <a:pt x="278" y="602"/>
                  <a:pt x="268" y="609"/>
                </a:cubicBezTo>
                <a:cubicBezTo>
                  <a:pt x="258" y="616"/>
                  <a:pt x="250" y="611"/>
                  <a:pt x="241" y="617"/>
                </a:cubicBezTo>
                <a:cubicBezTo>
                  <a:pt x="232" y="623"/>
                  <a:pt x="225" y="640"/>
                  <a:pt x="216" y="645"/>
                </a:cubicBezTo>
                <a:cubicBezTo>
                  <a:pt x="207" y="650"/>
                  <a:pt x="195" y="645"/>
                  <a:pt x="186" y="647"/>
                </a:cubicBezTo>
                <a:cubicBezTo>
                  <a:pt x="177" y="649"/>
                  <a:pt x="169" y="657"/>
                  <a:pt x="160" y="657"/>
                </a:cubicBezTo>
                <a:cubicBezTo>
                  <a:pt x="151" y="657"/>
                  <a:pt x="142" y="649"/>
                  <a:pt x="133" y="647"/>
                </a:cubicBezTo>
                <a:cubicBezTo>
                  <a:pt x="124" y="645"/>
                  <a:pt x="110" y="649"/>
                  <a:pt x="105" y="647"/>
                </a:cubicBezTo>
                <a:cubicBezTo>
                  <a:pt x="100" y="645"/>
                  <a:pt x="102" y="635"/>
                  <a:pt x="99" y="633"/>
                </a:cubicBezTo>
                <a:cubicBezTo>
                  <a:pt x="96" y="631"/>
                  <a:pt x="91" y="639"/>
                  <a:pt x="87" y="638"/>
                </a:cubicBezTo>
                <a:cubicBezTo>
                  <a:pt x="83" y="637"/>
                  <a:pt x="74" y="630"/>
                  <a:pt x="72" y="624"/>
                </a:cubicBezTo>
                <a:cubicBezTo>
                  <a:pt x="70" y="618"/>
                  <a:pt x="78" y="609"/>
                  <a:pt x="73" y="603"/>
                </a:cubicBezTo>
                <a:cubicBezTo>
                  <a:pt x="68" y="597"/>
                  <a:pt x="53" y="603"/>
                  <a:pt x="42" y="588"/>
                </a:cubicBezTo>
                <a:cubicBezTo>
                  <a:pt x="31" y="573"/>
                  <a:pt x="11" y="531"/>
                  <a:pt x="7" y="512"/>
                </a:cubicBezTo>
                <a:cubicBezTo>
                  <a:pt x="3" y="493"/>
                  <a:pt x="10" y="479"/>
                  <a:pt x="15" y="473"/>
                </a:cubicBezTo>
                <a:cubicBezTo>
                  <a:pt x="20" y="467"/>
                  <a:pt x="33" y="478"/>
                  <a:pt x="36" y="477"/>
                </a:cubicBezTo>
                <a:cubicBezTo>
                  <a:pt x="39" y="476"/>
                  <a:pt x="40" y="471"/>
                  <a:pt x="36" y="464"/>
                </a:cubicBezTo>
                <a:cubicBezTo>
                  <a:pt x="32" y="457"/>
                  <a:pt x="18" y="445"/>
                  <a:pt x="12" y="435"/>
                </a:cubicBezTo>
                <a:cubicBezTo>
                  <a:pt x="6" y="425"/>
                  <a:pt x="0" y="410"/>
                  <a:pt x="1" y="402"/>
                </a:cubicBezTo>
                <a:cubicBezTo>
                  <a:pt x="2" y="394"/>
                  <a:pt x="14" y="395"/>
                  <a:pt x="15" y="389"/>
                </a:cubicBezTo>
                <a:cubicBezTo>
                  <a:pt x="16" y="383"/>
                  <a:pt x="10" y="372"/>
                  <a:pt x="10" y="365"/>
                </a:cubicBezTo>
                <a:cubicBezTo>
                  <a:pt x="10" y="358"/>
                  <a:pt x="19" y="352"/>
                  <a:pt x="18" y="345"/>
                </a:cubicBezTo>
                <a:cubicBezTo>
                  <a:pt x="17" y="338"/>
                  <a:pt x="4" y="328"/>
                  <a:pt x="4" y="323"/>
                </a:cubicBezTo>
                <a:cubicBezTo>
                  <a:pt x="4" y="318"/>
                  <a:pt x="9" y="317"/>
                  <a:pt x="16" y="314"/>
                </a:cubicBezTo>
                <a:cubicBezTo>
                  <a:pt x="23" y="311"/>
                  <a:pt x="48" y="315"/>
                  <a:pt x="48" y="308"/>
                </a:cubicBezTo>
                <a:cubicBezTo>
                  <a:pt x="48" y="301"/>
                  <a:pt x="16" y="280"/>
                  <a:pt x="15" y="273"/>
                </a:cubicBezTo>
                <a:cubicBezTo>
                  <a:pt x="14" y="266"/>
                  <a:pt x="39" y="269"/>
                  <a:pt x="45" y="266"/>
                </a:cubicBezTo>
                <a:cubicBezTo>
                  <a:pt x="51" y="263"/>
                  <a:pt x="51" y="255"/>
                  <a:pt x="54" y="252"/>
                </a:cubicBezTo>
                <a:cubicBezTo>
                  <a:pt x="57" y="249"/>
                  <a:pt x="60" y="254"/>
                  <a:pt x="66" y="246"/>
                </a:cubicBezTo>
                <a:cubicBezTo>
                  <a:pt x="72" y="238"/>
                  <a:pt x="90" y="212"/>
                  <a:pt x="91" y="206"/>
                </a:cubicBezTo>
                <a:cubicBezTo>
                  <a:pt x="92" y="200"/>
                  <a:pt x="78" y="207"/>
                  <a:pt x="72" y="212"/>
                </a:cubicBezTo>
                <a:cubicBezTo>
                  <a:pt x="66" y="217"/>
                  <a:pt x="59" y="231"/>
                  <a:pt x="54" y="233"/>
                </a:cubicBezTo>
                <a:cubicBezTo>
                  <a:pt x="49" y="235"/>
                  <a:pt x="40" y="237"/>
                  <a:pt x="39" y="225"/>
                </a:cubicBezTo>
                <a:cubicBezTo>
                  <a:pt x="38" y="213"/>
                  <a:pt x="38" y="169"/>
                  <a:pt x="46" y="159"/>
                </a:cubicBezTo>
                <a:cubicBezTo>
                  <a:pt x="54" y="149"/>
                  <a:pt x="77" y="167"/>
                  <a:pt x="87" y="167"/>
                </a:cubicBezTo>
                <a:cubicBezTo>
                  <a:pt x="97" y="167"/>
                  <a:pt x="103" y="161"/>
                  <a:pt x="106" y="158"/>
                </a:cubicBezTo>
                <a:cubicBezTo>
                  <a:pt x="109" y="155"/>
                  <a:pt x="115" y="149"/>
                  <a:pt x="108" y="147"/>
                </a:cubicBezTo>
                <a:cubicBezTo>
                  <a:pt x="101" y="145"/>
                  <a:pt x="72" y="145"/>
                  <a:pt x="63" y="143"/>
                </a:cubicBezTo>
                <a:cubicBezTo>
                  <a:pt x="54" y="141"/>
                  <a:pt x="55" y="139"/>
                  <a:pt x="54" y="132"/>
                </a:cubicBezTo>
                <a:cubicBezTo>
                  <a:pt x="53" y="125"/>
                  <a:pt x="55" y="110"/>
                  <a:pt x="58" y="101"/>
                </a:cubicBezTo>
                <a:cubicBezTo>
                  <a:pt x="61" y="92"/>
                  <a:pt x="69" y="82"/>
                  <a:pt x="70" y="75"/>
                </a:cubicBezTo>
                <a:cubicBezTo>
                  <a:pt x="71" y="68"/>
                  <a:pt x="66" y="61"/>
                  <a:pt x="67" y="57"/>
                </a:cubicBezTo>
                <a:cubicBezTo>
                  <a:pt x="68" y="53"/>
                  <a:pt x="71" y="52"/>
                  <a:pt x="78" y="50"/>
                </a:cubicBezTo>
                <a:cubicBezTo>
                  <a:pt x="85" y="48"/>
                  <a:pt x="102" y="45"/>
                  <a:pt x="112" y="47"/>
                </a:cubicBezTo>
                <a:cubicBezTo>
                  <a:pt x="122" y="49"/>
                  <a:pt x="131" y="60"/>
                  <a:pt x="141" y="63"/>
                </a:cubicBezTo>
                <a:cubicBezTo>
                  <a:pt x="151" y="66"/>
                  <a:pt x="174" y="65"/>
                  <a:pt x="172" y="62"/>
                </a:cubicBezTo>
                <a:cubicBezTo>
                  <a:pt x="170" y="59"/>
                  <a:pt x="144" y="51"/>
                  <a:pt x="129" y="45"/>
                </a:cubicBezTo>
                <a:cubicBezTo>
                  <a:pt x="114" y="39"/>
                  <a:pt x="90" y="31"/>
                  <a:pt x="81" y="24"/>
                </a:cubicBezTo>
                <a:lnTo>
                  <a:pt x="73" y="2"/>
                </a:ln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8" name="Picture 77" descr="nazi"/>
          <p:cNvPicPr/>
          <p:nvPr/>
        </p:nvPicPr>
        <p:blipFill>
          <a:blip r:embed="rId19"/>
          <a:stretch/>
        </p:blipFill>
        <p:spPr>
          <a:xfrm>
            <a:off x="4818240" y="463680"/>
            <a:ext cx="182520" cy="108000"/>
          </a:xfrm>
          <a:prstGeom prst="rect">
            <a:avLst/>
          </a:prstGeom>
          <a:ln w="0">
            <a:noFill/>
          </a:ln>
        </p:spPr>
      </p:pic>
      <p:pic>
        <p:nvPicPr>
          <p:cNvPr id="239" name="Picture 110" descr="French flag"/>
          <p:cNvPicPr/>
          <p:nvPr/>
        </p:nvPicPr>
        <p:blipFill>
          <a:blip r:embed="rId20"/>
          <a:stretch/>
        </p:blipFill>
        <p:spPr>
          <a:xfrm>
            <a:off x="3032280" y="3995640"/>
            <a:ext cx="249120" cy="166680"/>
          </a:xfrm>
          <a:prstGeom prst="rect">
            <a:avLst/>
          </a:prstGeom>
          <a:ln w="0">
            <a:noFill/>
          </a:ln>
        </p:spPr>
      </p:pic>
      <p:pic>
        <p:nvPicPr>
          <p:cNvPr id="240" name="Picture 111" descr="nazi"/>
          <p:cNvPicPr/>
          <p:nvPr/>
        </p:nvPicPr>
        <p:blipFill>
          <a:blip r:embed="rId21"/>
          <a:stretch/>
        </p:blipFill>
        <p:spPr>
          <a:xfrm>
            <a:off x="3132000" y="3220920"/>
            <a:ext cx="292320" cy="174600"/>
          </a:xfrm>
          <a:prstGeom prst="rect">
            <a:avLst/>
          </a:prstGeom>
          <a:ln w="0">
            <a:noFill/>
          </a:ln>
        </p:spPr>
      </p:pic>
      <p:pic>
        <p:nvPicPr>
          <p:cNvPr id="241" name="Picture 112" descr="French flag"/>
          <p:cNvPicPr/>
          <p:nvPr/>
        </p:nvPicPr>
        <p:blipFill>
          <a:blip r:embed="rId22"/>
          <a:stretch/>
        </p:blipFill>
        <p:spPr>
          <a:xfrm>
            <a:off x="2614680" y="6284880"/>
            <a:ext cx="249120" cy="166680"/>
          </a:xfrm>
          <a:prstGeom prst="rect">
            <a:avLst/>
          </a:prstGeom>
          <a:ln w="0">
            <a:noFill/>
          </a:ln>
        </p:spPr>
      </p:pic>
      <p:sp>
        <p:nvSpPr>
          <p:cNvPr id="242" name="Freeform 122"/>
          <p:cNvSpPr/>
          <p:nvPr/>
        </p:nvSpPr>
        <p:spPr>
          <a:xfrm>
            <a:off x="6754680" y="6662880"/>
            <a:ext cx="590760" cy="171360"/>
          </a:xfrm>
          <a:custGeom>
            <a:avLst/>
            <a:gdLst>
              <a:gd name="textAreaLeft" fmla="*/ 0 w 590760"/>
              <a:gd name="textAreaRight" fmla="*/ 591120 w 590760"/>
              <a:gd name="textAreaTop" fmla="*/ 0 h 171360"/>
              <a:gd name="textAreaBottom" fmla="*/ 171720 h 171360"/>
            </a:gdLst>
            <a:ahLst/>
            <a:rect l="textAreaLeft" t="textAreaTop" r="textAreaRight" b="textAreaBottom"/>
            <a:pathLst>
              <a:path w="372" h="108">
                <a:moveTo>
                  <a:pt x="16" y="14"/>
                </a:moveTo>
                <a:cubicBezTo>
                  <a:pt x="14" y="16"/>
                  <a:pt x="19" y="22"/>
                  <a:pt x="17" y="27"/>
                </a:cubicBezTo>
                <a:cubicBezTo>
                  <a:pt x="15" y="32"/>
                  <a:pt x="4" y="42"/>
                  <a:pt x="2" y="47"/>
                </a:cubicBezTo>
                <a:cubicBezTo>
                  <a:pt x="0" y="52"/>
                  <a:pt x="1" y="58"/>
                  <a:pt x="4" y="60"/>
                </a:cubicBezTo>
                <a:lnTo>
                  <a:pt x="23" y="59"/>
                </a:lnTo>
                <a:lnTo>
                  <a:pt x="59" y="72"/>
                </a:lnTo>
                <a:lnTo>
                  <a:pt x="79" y="66"/>
                </a:lnTo>
                <a:lnTo>
                  <a:pt x="109" y="78"/>
                </a:lnTo>
                <a:lnTo>
                  <a:pt x="145" y="77"/>
                </a:lnTo>
                <a:lnTo>
                  <a:pt x="158" y="93"/>
                </a:lnTo>
                <a:lnTo>
                  <a:pt x="182" y="107"/>
                </a:lnTo>
                <a:lnTo>
                  <a:pt x="217" y="108"/>
                </a:lnTo>
                <a:lnTo>
                  <a:pt x="238" y="90"/>
                </a:lnTo>
                <a:lnTo>
                  <a:pt x="263" y="81"/>
                </a:lnTo>
                <a:lnTo>
                  <a:pt x="317" y="81"/>
                </a:lnTo>
                <a:cubicBezTo>
                  <a:pt x="330" y="81"/>
                  <a:pt x="332" y="80"/>
                  <a:pt x="340" y="78"/>
                </a:cubicBezTo>
                <a:cubicBezTo>
                  <a:pt x="348" y="76"/>
                  <a:pt x="360" y="74"/>
                  <a:pt x="364" y="71"/>
                </a:cubicBezTo>
                <a:cubicBezTo>
                  <a:pt x="368" y="68"/>
                  <a:pt x="361" y="63"/>
                  <a:pt x="362" y="57"/>
                </a:cubicBezTo>
                <a:cubicBezTo>
                  <a:pt x="363" y="51"/>
                  <a:pt x="370" y="41"/>
                  <a:pt x="371" y="36"/>
                </a:cubicBezTo>
                <a:cubicBezTo>
                  <a:pt x="372" y="31"/>
                  <a:pt x="370" y="27"/>
                  <a:pt x="367" y="27"/>
                </a:cubicBezTo>
                <a:cubicBezTo>
                  <a:pt x="364" y="27"/>
                  <a:pt x="357" y="34"/>
                  <a:pt x="352" y="38"/>
                </a:cubicBezTo>
                <a:cubicBezTo>
                  <a:pt x="347" y="42"/>
                  <a:pt x="344" y="51"/>
                  <a:pt x="338" y="53"/>
                </a:cubicBezTo>
                <a:cubicBezTo>
                  <a:pt x="332" y="55"/>
                  <a:pt x="322" y="52"/>
                  <a:pt x="317" y="53"/>
                </a:cubicBezTo>
                <a:cubicBezTo>
                  <a:pt x="312" y="54"/>
                  <a:pt x="312" y="60"/>
                  <a:pt x="305" y="57"/>
                </a:cubicBezTo>
                <a:cubicBezTo>
                  <a:pt x="298" y="54"/>
                  <a:pt x="285" y="39"/>
                  <a:pt x="275" y="36"/>
                </a:cubicBezTo>
                <a:cubicBezTo>
                  <a:pt x="265" y="33"/>
                  <a:pt x="252" y="35"/>
                  <a:pt x="245" y="36"/>
                </a:cubicBezTo>
                <a:cubicBezTo>
                  <a:pt x="238" y="37"/>
                  <a:pt x="241" y="46"/>
                  <a:pt x="233" y="45"/>
                </a:cubicBezTo>
                <a:cubicBezTo>
                  <a:pt x="225" y="44"/>
                  <a:pt x="209" y="33"/>
                  <a:pt x="196" y="32"/>
                </a:cubicBezTo>
                <a:cubicBezTo>
                  <a:pt x="183" y="31"/>
                  <a:pt x="164" y="36"/>
                  <a:pt x="152" y="38"/>
                </a:cubicBezTo>
                <a:cubicBezTo>
                  <a:pt x="140" y="40"/>
                  <a:pt x="131" y="48"/>
                  <a:pt x="122" y="47"/>
                </a:cubicBezTo>
                <a:cubicBezTo>
                  <a:pt x="113" y="46"/>
                  <a:pt x="99" y="35"/>
                  <a:pt x="95" y="30"/>
                </a:cubicBezTo>
                <a:cubicBezTo>
                  <a:pt x="91" y="25"/>
                  <a:pt x="98" y="22"/>
                  <a:pt x="98" y="17"/>
                </a:cubicBezTo>
                <a:cubicBezTo>
                  <a:pt x="98" y="12"/>
                  <a:pt x="97" y="2"/>
                  <a:pt x="94" y="2"/>
                </a:cubicBezTo>
                <a:cubicBezTo>
                  <a:pt x="91" y="2"/>
                  <a:pt x="83" y="18"/>
                  <a:pt x="77" y="20"/>
                </a:cubicBezTo>
                <a:cubicBezTo>
                  <a:pt x="71" y="22"/>
                  <a:pt x="61" y="17"/>
                  <a:pt x="55" y="14"/>
                </a:cubicBezTo>
                <a:cubicBezTo>
                  <a:pt x="49" y="11"/>
                  <a:pt x="47" y="0"/>
                  <a:pt x="43" y="0"/>
                </a:cubicBezTo>
                <a:cubicBezTo>
                  <a:pt x="39" y="0"/>
                  <a:pt x="35" y="12"/>
                  <a:pt x="31" y="14"/>
                </a:cubicBezTo>
                <a:cubicBezTo>
                  <a:pt x="27" y="16"/>
                  <a:pt x="20" y="12"/>
                  <a:pt x="16" y="14"/>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Picture 142" descr="nazi"/>
          <p:cNvPicPr/>
          <p:nvPr/>
        </p:nvPicPr>
        <p:blipFill>
          <a:blip r:embed="rId23"/>
          <a:stretch/>
        </p:blipFill>
        <p:spPr>
          <a:xfrm>
            <a:off x="5705640" y="4543560"/>
            <a:ext cx="215640" cy="128520"/>
          </a:xfrm>
          <a:prstGeom prst="rect">
            <a:avLst/>
          </a:prstGeom>
          <a:ln w="0">
            <a:noFill/>
          </a:ln>
        </p:spPr>
      </p:pic>
      <p:pic>
        <p:nvPicPr>
          <p:cNvPr id="244" name="Picture 143" descr="nazi"/>
          <p:cNvPicPr/>
          <p:nvPr/>
        </p:nvPicPr>
        <p:blipFill>
          <a:blip r:embed="rId24"/>
          <a:stretch/>
        </p:blipFill>
        <p:spPr>
          <a:xfrm>
            <a:off x="6451560" y="5810400"/>
            <a:ext cx="216000" cy="128520"/>
          </a:xfrm>
          <a:prstGeom prst="rect">
            <a:avLst/>
          </a:prstGeom>
          <a:ln w="0">
            <a:noFill/>
          </a:ln>
        </p:spPr>
      </p:pic>
      <p:pic>
        <p:nvPicPr>
          <p:cNvPr id="245" name="Picture 144" descr="nazi"/>
          <p:cNvPicPr/>
          <p:nvPr/>
        </p:nvPicPr>
        <p:blipFill>
          <a:blip r:embed="rId25"/>
          <a:stretch/>
        </p:blipFill>
        <p:spPr>
          <a:xfrm>
            <a:off x="6959520" y="6689880"/>
            <a:ext cx="216000" cy="128520"/>
          </a:xfrm>
          <a:prstGeom prst="rect">
            <a:avLst/>
          </a:prstGeom>
          <a:ln w="0">
            <a:noFill/>
          </a:ln>
        </p:spPr>
      </p:pic>
      <p:sp>
        <p:nvSpPr>
          <p:cNvPr id="246" name="Freeform 206"/>
          <p:cNvSpPr/>
          <p:nvPr/>
        </p:nvSpPr>
        <p:spPr>
          <a:xfrm>
            <a:off x="3990960" y="4721400"/>
            <a:ext cx="193680" cy="430200"/>
          </a:xfrm>
          <a:custGeom>
            <a:avLst/>
            <a:gdLst>
              <a:gd name="textAreaLeft" fmla="*/ 0 w 193680"/>
              <a:gd name="textAreaRight" fmla="*/ 194040 w 193680"/>
              <a:gd name="textAreaTop" fmla="*/ 0 h 430200"/>
              <a:gd name="textAreaBottom" fmla="*/ 430560 h 430200"/>
            </a:gdLst>
            <a:ahLst/>
            <a:rect l="textAreaLeft" t="textAreaTop" r="textAreaRight" b="textAreaBottom"/>
            <a:pathLst>
              <a:path w="122" h="271">
                <a:moveTo>
                  <a:pt x="108" y="4"/>
                </a:moveTo>
                <a:cubicBezTo>
                  <a:pt x="111" y="0"/>
                  <a:pt x="118" y="13"/>
                  <a:pt x="120" y="20"/>
                </a:cubicBezTo>
                <a:cubicBezTo>
                  <a:pt x="122" y="27"/>
                  <a:pt x="120" y="36"/>
                  <a:pt x="118" y="44"/>
                </a:cubicBezTo>
                <a:cubicBezTo>
                  <a:pt x="116" y="52"/>
                  <a:pt x="110" y="58"/>
                  <a:pt x="110" y="68"/>
                </a:cubicBezTo>
                <a:cubicBezTo>
                  <a:pt x="110" y="78"/>
                  <a:pt x="116" y="93"/>
                  <a:pt x="116" y="102"/>
                </a:cubicBezTo>
                <a:cubicBezTo>
                  <a:pt x="116" y="111"/>
                  <a:pt x="108" y="113"/>
                  <a:pt x="108" y="122"/>
                </a:cubicBezTo>
                <a:cubicBezTo>
                  <a:pt x="108" y="131"/>
                  <a:pt x="118" y="142"/>
                  <a:pt x="114" y="154"/>
                </a:cubicBezTo>
                <a:cubicBezTo>
                  <a:pt x="110" y="166"/>
                  <a:pt x="88" y="179"/>
                  <a:pt x="84" y="192"/>
                </a:cubicBezTo>
                <a:cubicBezTo>
                  <a:pt x="80" y="205"/>
                  <a:pt x="91" y="224"/>
                  <a:pt x="88" y="232"/>
                </a:cubicBezTo>
                <a:cubicBezTo>
                  <a:pt x="85" y="240"/>
                  <a:pt x="73" y="234"/>
                  <a:pt x="68" y="240"/>
                </a:cubicBezTo>
                <a:cubicBezTo>
                  <a:pt x="63" y="246"/>
                  <a:pt x="61" y="271"/>
                  <a:pt x="56" y="270"/>
                </a:cubicBezTo>
                <a:cubicBezTo>
                  <a:pt x="51" y="269"/>
                  <a:pt x="41" y="241"/>
                  <a:pt x="36" y="232"/>
                </a:cubicBezTo>
                <a:cubicBezTo>
                  <a:pt x="31" y="223"/>
                  <a:pt x="26" y="222"/>
                  <a:pt x="24" y="216"/>
                </a:cubicBezTo>
                <a:cubicBezTo>
                  <a:pt x="22" y="210"/>
                  <a:pt x="24" y="199"/>
                  <a:pt x="22" y="194"/>
                </a:cubicBezTo>
                <a:cubicBezTo>
                  <a:pt x="20" y="189"/>
                  <a:pt x="14" y="190"/>
                  <a:pt x="14" y="186"/>
                </a:cubicBezTo>
                <a:cubicBezTo>
                  <a:pt x="14" y="182"/>
                  <a:pt x="21" y="174"/>
                  <a:pt x="20" y="170"/>
                </a:cubicBezTo>
                <a:cubicBezTo>
                  <a:pt x="19" y="166"/>
                  <a:pt x="7" y="164"/>
                  <a:pt x="6" y="160"/>
                </a:cubicBezTo>
                <a:cubicBezTo>
                  <a:pt x="5" y="156"/>
                  <a:pt x="13" y="154"/>
                  <a:pt x="12" y="148"/>
                </a:cubicBezTo>
                <a:cubicBezTo>
                  <a:pt x="11" y="142"/>
                  <a:pt x="0" y="133"/>
                  <a:pt x="2" y="126"/>
                </a:cubicBezTo>
                <a:cubicBezTo>
                  <a:pt x="4" y="119"/>
                  <a:pt x="23" y="112"/>
                  <a:pt x="24" y="106"/>
                </a:cubicBezTo>
                <a:cubicBezTo>
                  <a:pt x="25" y="100"/>
                  <a:pt x="7" y="100"/>
                  <a:pt x="8" y="92"/>
                </a:cubicBezTo>
                <a:cubicBezTo>
                  <a:pt x="9" y="84"/>
                  <a:pt x="19" y="67"/>
                  <a:pt x="30" y="60"/>
                </a:cubicBezTo>
                <a:cubicBezTo>
                  <a:pt x="41" y="53"/>
                  <a:pt x="62" y="51"/>
                  <a:pt x="72" y="50"/>
                </a:cubicBezTo>
                <a:cubicBezTo>
                  <a:pt x="82" y="49"/>
                  <a:pt x="85" y="57"/>
                  <a:pt x="90" y="56"/>
                </a:cubicBezTo>
                <a:cubicBezTo>
                  <a:pt x="95" y="55"/>
                  <a:pt x="101" y="51"/>
                  <a:pt x="104" y="42"/>
                </a:cubicBezTo>
                <a:cubicBezTo>
                  <a:pt x="107" y="33"/>
                  <a:pt x="106" y="7"/>
                  <a:pt x="108" y="4"/>
                </a:cubicBezTo>
                <a:close/>
              </a:path>
            </a:pathLst>
          </a:custGeom>
          <a:blipFill rotWithShape="0">
            <a:blip r:embed="rId26">
              <a:alphaModFix amt="3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07"/>
          <p:cNvSpPr/>
          <p:nvPr/>
        </p:nvSpPr>
        <p:spPr>
          <a:xfrm>
            <a:off x="114480" y="2489040"/>
            <a:ext cx="2768400" cy="3594240"/>
          </a:xfrm>
          <a:custGeom>
            <a:avLst/>
            <a:gdLst>
              <a:gd name="textAreaLeft" fmla="*/ 0 w 2768400"/>
              <a:gd name="textAreaRight" fmla="*/ 2768760 w 2768400"/>
              <a:gd name="textAreaTop" fmla="*/ 0 h 3594240"/>
              <a:gd name="textAreaBottom" fmla="*/ 3594600 h 3594240"/>
            </a:gdLst>
            <a:ahLst/>
            <a:rect l="textAreaLeft" t="textAreaTop" r="textAreaRight" b="textAreaBottom"/>
            <a:pathLst>
              <a:path w="1744" h="2264">
                <a:moveTo>
                  <a:pt x="1744" y="0"/>
                </a:moveTo>
                <a:cubicBezTo>
                  <a:pt x="1496" y="124"/>
                  <a:pt x="512" y="440"/>
                  <a:pt x="256" y="744"/>
                </a:cubicBezTo>
                <a:cubicBezTo>
                  <a:pt x="0" y="1048"/>
                  <a:pt x="131" y="1599"/>
                  <a:pt x="208" y="1824"/>
                </a:cubicBezTo>
                <a:cubicBezTo>
                  <a:pt x="285" y="2049"/>
                  <a:pt x="508" y="2041"/>
                  <a:pt x="720" y="2096"/>
                </a:cubicBezTo>
                <a:cubicBezTo>
                  <a:pt x="932" y="2151"/>
                  <a:pt x="1323" y="2124"/>
                  <a:pt x="1480" y="2152"/>
                </a:cubicBezTo>
                <a:cubicBezTo>
                  <a:pt x="1637" y="2180"/>
                  <a:pt x="1626" y="2241"/>
                  <a:pt x="1664" y="2264"/>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8" name="Picture 213" descr="us-flag-stars-top-r2"/>
          <p:cNvPicPr/>
          <p:nvPr/>
        </p:nvPicPr>
        <p:blipFill>
          <a:blip r:embed="rId27"/>
          <a:stretch/>
        </p:blipFill>
        <p:spPr>
          <a:xfrm>
            <a:off x="420840" y="6242040"/>
            <a:ext cx="234720" cy="141120"/>
          </a:xfrm>
          <a:prstGeom prst="rect">
            <a:avLst/>
          </a:prstGeom>
          <a:ln w="9360">
            <a:solidFill>
              <a:srgbClr val="000000"/>
            </a:solidFill>
            <a:miter/>
          </a:ln>
        </p:spPr>
      </p:pic>
      <p:sp>
        <p:nvSpPr>
          <p:cNvPr id="249" name="Freeform 214"/>
          <p:cNvSpPr/>
          <p:nvPr/>
        </p:nvSpPr>
        <p:spPr>
          <a:xfrm>
            <a:off x="1895400" y="5877000"/>
            <a:ext cx="209520" cy="206280"/>
          </a:xfrm>
          <a:custGeom>
            <a:avLst/>
            <a:gdLst>
              <a:gd name="textAreaLeft" fmla="*/ 0 w 209520"/>
              <a:gd name="textAreaRight" fmla="*/ 209880 w 209520"/>
              <a:gd name="textAreaTop" fmla="*/ 0 h 206280"/>
              <a:gd name="textAreaBottom" fmla="*/ 206640 h 206280"/>
            </a:gdLst>
            <a:ahLst/>
            <a:rect l="textAreaLeft" t="textAreaTop" r="textAreaRight" b="textAreaBottom"/>
            <a:pathLst>
              <a:path w="132" h="130">
                <a:moveTo>
                  <a:pt x="0" y="0"/>
                </a:moveTo>
                <a:cubicBezTo>
                  <a:pt x="16" y="8"/>
                  <a:pt x="74" y="26"/>
                  <a:pt x="96" y="48"/>
                </a:cubicBezTo>
                <a:cubicBezTo>
                  <a:pt x="118" y="70"/>
                  <a:pt x="125" y="113"/>
                  <a:pt x="132" y="130"/>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15"/>
          <p:cNvSpPr/>
          <p:nvPr/>
        </p:nvSpPr>
        <p:spPr>
          <a:xfrm>
            <a:off x="146160" y="5702400"/>
            <a:ext cx="326880" cy="504720"/>
          </a:xfrm>
          <a:custGeom>
            <a:avLst/>
            <a:gdLst/>
            <a:ahLst/>
            <a:rect l="l" t="t" r="r" b="b"/>
            <a:pathLst>
              <a:path w="206" h="318">
                <a:moveTo>
                  <a:pt x="0" y="4"/>
                </a:moveTo>
                <a:cubicBezTo>
                  <a:pt x="16" y="12"/>
                  <a:pt x="62" y="0"/>
                  <a:pt x="96" y="52"/>
                </a:cubicBezTo>
                <a:cubicBezTo>
                  <a:pt x="130" y="104"/>
                  <a:pt x="183" y="263"/>
                  <a:pt x="206" y="318"/>
                </a:cubicBez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AutoShape 218"/>
          <p:cNvSpPr/>
          <p:nvPr/>
        </p:nvSpPr>
        <p:spPr>
          <a:xfrm>
            <a:off x="390600" y="617688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11" descr="union-jack"/>
          <p:cNvPicPr/>
          <p:nvPr/>
        </p:nvPicPr>
        <p:blipFill>
          <a:blip r:embed="rId28"/>
          <a:stretch/>
        </p:blipFill>
        <p:spPr>
          <a:xfrm>
            <a:off x="2608200" y="6078600"/>
            <a:ext cx="284400" cy="131760"/>
          </a:xfrm>
          <a:prstGeom prst="rect">
            <a:avLst/>
          </a:prstGeom>
          <a:ln w="9360">
            <a:solidFill>
              <a:srgbClr val="000000"/>
            </a:solidFill>
            <a:miter/>
          </a:ln>
        </p:spPr>
      </p:pic>
      <p:pic>
        <p:nvPicPr>
          <p:cNvPr id="253" name="Picture 212" descr="us-flag-stars-top-r2"/>
          <p:cNvPicPr/>
          <p:nvPr/>
        </p:nvPicPr>
        <p:blipFill>
          <a:blip r:embed="rId29"/>
          <a:stretch/>
        </p:blipFill>
        <p:spPr>
          <a:xfrm>
            <a:off x="2013120" y="6107040"/>
            <a:ext cx="234720" cy="141480"/>
          </a:xfrm>
          <a:prstGeom prst="rect">
            <a:avLst/>
          </a:prstGeom>
          <a:ln w="9360">
            <a:solidFill>
              <a:srgbClr val="000000"/>
            </a:solidFill>
            <a:miter/>
          </a:ln>
        </p:spPr>
      </p:pic>
      <p:sp>
        <p:nvSpPr>
          <p:cNvPr id="254" name="AutoShape 219"/>
          <p:cNvSpPr/>
          <p:nvPr/>
        </p:nvSpPr>
        <p:spPr>
          <a:xfrm>
            <a:off x="2003400" y="6012000"/>
            <a:ext cx="279360" cy="304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220"/>
          <p:cNvSpPr/>
          <p:nvPr/>
        </p:nvSpPr>
        <p:spPr>
          <a:xfrm>
            <a:off x="2606760" y="5986440"/>
            <a:ext cx="279360" cy="30492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789"/>
          <p:cNvSpPr/>
          <p:nvPr/>
        </p:nvSpPr>
        <p:spPr>
          <a:xfrm>
            <a:off x="5111640" y="1914480"/>
            <a:ext cx="87480" cy="115920"/>
          </a:xfrm>
          <a:custGeom>
            <a:avLst/>
            <a:gdLst>
              <a:gd name="textAreaLeft" fmla="*/ 0 w 87480"/>
              <a:gd name="textAreaRight" fmla="*/ 87840 w 87480"/>
              <a:gd name="textAreaTop" fmla="*/ 0 h 115920"/>
              <a:gd name="textAreaBottom" fmla="*/ 116280 h 115920"/>
            </a:gdLst>
            <a:ahLst/>
            <a:rect l="textAreaLeft" t="textAreaTop" r="textAreaRight" b="textAreaBottom"/>
            <a:pathLst>
              <a:path w="55" h="73">
                <a:moveTo>
                  <a:pt x="8" y="11"/>
                </a:moveTo>
                <a:cubicBezTo>
                  <a:pt x="9" y="7"/>
                  <a:pt x="17" y="0"/>
                  <a:pt x="23" y="3"/>
                </a:cubicBezTo>
                <a:cubicBezTo>
                  <a:pt x="29" y="6"/>
                  <a:pt x="42" y="20"/>
                  <a:pt x="46" y="27"/>
                </a:cubicBezTo>
                <a:cubicBezTo>
                  <a:pt x="50" y="34"/>
                  <a:pt x="45" y="39"/>
                  <a:pt x="46" y="44"/>
                </a:cubicBezTo>
                <a:cubicBezTo>
                  <a:pt x="47" y="49"/>
                  <a:pt x="55" y="56"/>
                  <a:pt x="55" y="60"/>
                </a:cubicBezTo>
                <a:cubicBezTo>
                  <a:pt x="55" y="64"/>
                  <a:pt x="49" y="70"/>
                  <a:pt x="46" y="71"/>
                </a:cubicBezTo>
                <a:cubicBezTo>
                  <a:pt x="43" y="72"/>
                  <a:pt x="38" y="65"/>
                  <a:pt x="34" y="65"/>
                </a:cubicBezTo>
                <a:cubicBezTo>
                  <a:pt x="30" y="65"/>
                  <a:pt x="24" y="73"/>
                  <a:pt x="19" y="71"/>
                </a:cubicBezTo>
                <a:cubicBezTo>
                  <a:pt x="14" y="69"/>
                  <a:pt x="4" y="56"/>
                  <a:pt x="2" y="51"/>
                </a:cubicBezTo>
                <a:cubicBezTo>
                  <a:pt x="0" y="46"/>
                  <a:pt x="5" y="41"/>
                  <a:pt x="8" y="38"/>
                </a:cubicBezTo>
                <a:cubicBezTo>
                  <a:pt x="11" y="35"/>
                  <a:pt x="23" y="34"/>
                  <a:pt x="23" y="30"/>
                </a:cubicBezTo>
                <a:cubicBezTo>
                  <a:pt x="23" y="26"/>
                  <a:pt x="11" y="15"/>
                  <a:pt x="8" y="11"/>
                </a:cubicBez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7" name="Picture 817" descr="nazi"/>
          <p:cNvPicPr/>
          <p:nvPr/>
        </p:nvPicPr>
        <p:blipFill>
          <a:blip r:embed="rId30"/>
          <a:stretch/>
        </p:blipFill>
        <p:spPr>
          <a:xfrm>
            <a:off x="2790720" y="2965320"/>
            <a:ext cx="146160" cy="87480"/>
          </a:xfrm>
          <a:prstGeom prst="rect">
            <a:avLst/>
          </a:prstGeom>
          <a:ln w="12600">
            <a:solidFill>
              <a:srgbClr val="000000"/>
            </a:solidFill>
            <a:miter/>
          </a:ln>
        </p:spPr>
      </p:pic>
      <p:pic>
        <p:nvPicPr>
          <p:cNvPr id="258" name="Picture 818" descr="nazi"/>
          <p:cNvPicPr/>
          <p:nvPr/>
        </p:nvPicPr>
        <p:blipFill>
          <a:blip r:embed="rId31"/>
          <a:stretch/>
        </p:blipFill>
        <p:spPr>
          <a:xfrm>
            <a:off x="3267000" y="2789280"/>
            <a:ext cx="146160" cy="87120"/>
          </a:xfrm>
          <a:prstGeom prst="rect">
            <a:avLst/>
          </a:prstGeom>
          <a:ln w="12600">
            <a:solidFill>
              <a:srgbClr val="000000"/>
            </a:solidFill>
            <a:miter/>
          </a:ln>
        </p:spPr>
      </p:pic>
      <p:sp>
        <p:nvSpPr>
          <p:cNvPr id="259" name="Freeform 197"/>
          <p:cNvSpPr/>
          <p:nvPr/>
        </p:nvSpPr>
        <p:spPr>
          <a:xfrm>
            <a:off x="6162840" y="600120"/>
            <a:ext cx="2835000" cy="3673440"/>
          </a:xfrm>
          <a:custGeom>
            <a:avLst/>
            <a:gdLst>
              <a:gd name="textAreaLeft" fmla="*/ 0 w 2835000"/>
              <a:gd name="textAreaRight" fmla="*/ 2835360 w 2835000"/>
              <a:gd name="textAreaTop" fmla="*/ 0 h 3673440"/>
              <a:gd name="textAreaBottom" fmla="*/ 3673800 h 3673440"/>
            </a:gdLst>
            <a:ahLst/>
            <a:rect l="textAreaLeft" t="textAreaTop" r="textAreaRight" b="textAreaBottom"/>
            <a:pathLst>
              <a:path w="1786" h="2314">
                <a:moveTo>
                  <a:pt x="266" y="356"/>
                </a:moveTo>
                <a:cubicBezTo>
                  <a:pt x="264" y="348"/>
                  <a:pt x="267" y="336"/>
                  <a:pt x="272" y="330"/>
                </a:cubicBezTo>
                <a:cubicBezTo>
                  <a:pt x="277" y="324"/>
                  <a:pt x="290" y="326"/>
                  <a:pt x="296" y="320"/>
                </a:cubicBezTo>
                <a:cubicBezTo>
                  <a:pt x="302" y="314"/>
                  <a:pt x="312" y="297"/>
                  <a:pt x="310" y="294"/>
                </a:cubicBezTo>
                <a:cubicBezTo>
                  <a:pt x="308" y="291"/>
                  <a:pt x="291" y="299"/>
                  <a:pt x="284" y="300"/>
                </a:cubicBezTo>
                <a:cubicBezTo>
                  <a:pt x="277" y="301"/>
                  <a:pt x="275" y="300"/>
                  <a:pt x="270" y="302"/>
                </a:cubicBezTo>
                <a:cubicBezTo>
                  <a:pt x="265" y="304"/>
                  <a:pt x="260" y="312"/>
                  <a:pt x="254" y="312"/>
                </a:cubicBezTo>
                <a:cubicBezTo>
                  <a:pt x="248" y="312"/>
                  <a:pt x="236" y="304"/>
                  <a:pt x="232" y="300"/>
                </a:cubicBezTo>
                <a:cubicBezTo>
                  <a:pt x="228" y="296"/>
                  <a:pt x="233" y="291"/>
                  <a:pt x="232" y="286"/>
                </a:cubicBezTo>
                <a:cubicBezTo>
                  <a:pt x="231" y="281"/>
                  <a:pt x="225" y="276"/>
                  <a:pt x="224" y="272"/>
                </a:cubicBezTo>
                <a:cubicBezTo>
                  <a:pt x="223" y="268"/>
                  <a:pt x="228" y="264"/>
                  <a:pt x="228" y="260"/>
                </a:cubicBezTo>
                <a:cubicBezTo>
                  <a:pt x="228" y="256"/>
                  <a:pt x="223" y="254"/>
                  <a:pt x="224" y="250"/>
                </a:cubicBezTo>
                <a:cubicBezTo>
                  <a:pt x="225" y="246"/>
                  <a:pt x="234" y="241"/>
                  <a:pt x="232" y="236"/>
                </a:cubicBezTo>
                <a:cubicBezTo>
                  <a:pt x="230" y="231"/>
                  <a:pt x="213" y="226"/>
                  <a:pt x="212" y="218"/>
                </a:cubicBezTo>
                <a:cubicBezTo>
                  <a:pt x="211" y="210"/>
                  <a:pt x="225" y="197"/>
                  <a:pt x="228" y="188"/>
                </a:cubicBezTo>
                <a:cubicBezTo>
                  <a:pt x="231" y="179"/>
                  <a:pt x="222" y="172"/>
                  <a:pt x="228" y="164"/>
                </a:cubicBezTo>
                <a:cubicBezTo>
                  <a:pt x="234" y="156"/>
                  <a:pt x="254" y="144"/>
                  <a:pt x="264" y="140"/>
                </a:cubicBezTo>
                <a:cubicBezTo>
                  <a:pt x="274" y="136"/>
                  <a:pt x="280" y="145"/>
                  <a:pt x="286" y="142"/>
                </a:cubicBezTo>
                <a:cubicBezTo>
                  <a:pt x="292" y="139"/>
                  <a:pt x="291" y="128"/>
                  <a:pt x="298" y="124"/>
                </a:cubicBezTo>
                <a:cubicBezTo>
                  <a:pt x="305" y="120"/>
                  <a:pt x="319" y="120"/>
                  <a:pt x="330" y="116"/>
                </a:cubicBezTo>
                <a:cubicBezTo>
                  <a:pt x="341" y="112"/>
                  <a:pt x="353" y="108"/>
                  <a:pt x="362" y="102"/>
                </a:cubicBezTo>
                <a:cubicBezTo>
                  <a:pt x="371" y="96"/>
                  <a:pt x="376" y="79"/>
                  <a:pt x="382" y="78"/>
                </a:cubicBezTo>
                <a:cubicBezTo>
                  <a:pt x="388" y="77"/>
                  <a:pt x="392" y="92"/>
                  <a:pt x="398" y="94"/>
                </a:cubicBezTo>
                <a:cubicBezTo>
                  <a:pt x="404" y="96"/>
                  <a:pt x="414" y="89"/>
                  <a:pt x="420" y="92"/>
                </a:cubicBezTo>
                <a:cubicBezTo>
                  <a:pt x="426" y="95"/>
                  <a:pt x="430" y="107"/>
                  <a:pt x="436" y="110"/>
                </a:cubicBezTo>
                <a:cubicBezTo>
                  <a:pt x="442" y="113"/>
                  <a:pt x="450" y="113"/>
                  <a:pt x="458" y="111"/>
                </a:cubicBezTo>
                <a:cubicBezTo>
                  <a:pt x="466" y="109"/>
                  <a:pt x="472" y="98"/>
                  <a:pt x="482" y="98"/>
                </a:cubicBezTo>
                <a:cubicBezTo>
                  <a:pt x="492" y="98"/>
                  <a:pt x="507" y="110"/>
                  <a:pt x="516" y="108"/>
                </a:cubicBezTo>
                <a:cubicBezTo>
                  <a:pt x="525" y="106"/>
                  <a:pt x="532" y="90"/>
                  <a:pt x="538" y="88"/>
                </a:cubicBezTo>
                <a:cubicBezTo>
                  <a:pt x="544" y="86"/>
                  <a:pt x="549" y="93"/>
                  <a:pt x="554" y="94"/>
                </a:cubicBezTo>
                <a:cubicBezTo>
                  <a:pt x="559" y="95"/>
                  <a:pt x="565" y="90"/>
                  <a:pt x="570" y="92"/>
                </a:cubicBezTo>
                <a:cubicBezTo>
                  <a:pt x="575" y="94"/>
                  <a:pt x="581" y="112"/>
                  <a:pt x="584" y="105"/>
                </a:cubicBezTo>
                <a:cubicBezTo>
                  <a:pt x="587" y="98"/>
                  <a:pt x="579" y="66"/>
                  <a:pt x="590" y="51"/>
                </a:cubicBezTo>
                <a:cubicBezTo>
                  <a:pt x="601" y="36"/>
                  <a:pt x="636" y="18"/>
                  <a:pt x="650" y="12"/>
                </a:cubicBezTo>
                <a:cubicBezTo>
                  <a:pt x="664" y="6"/>
                  <a:pt x="666" y="15"/>
                  <a:pt x="672" y="14"/>
                </a:cubicBezTo>
                <a:cubicBezTo>
                  <a:pt x="678" y="13"/>
                  <a:pt x="680" y="0"/>
                  <a:pt x="688" y="8"/>
                </a:cubicBezTo>
                <a:cubicBezTo>
                  <a:pt x="696" y="16"/>
                  <a:pt x="706" y="60"/>
                  <a:pt x="722" y="63"/>
                </a:cubicBezTo>
                <a:cubicBezTo>
                  <a:pt x="738" y="66"/>
                  <a:pt x="769" y="33"/>
                  <a:pt x="782" y="24"/>
                </a:cubicBezTo>
                <a:lnTo>
                  <a:pt x="800" y="12"/>
                </a:lnTo>
                <a:cubicBezTo>
                  <a:pt x="834" y="70"/>
                  <a:pt x="926" y="286"/>
                  <a:pt x="986" y="375"/>
                </a:cubicBezTo>
                <a:cubicBezTo>
                  <a:pt x="1046" y="464"/>
                  <a:pt x="1095" y="506"/>
                  <a:pt x="1163" y="549"/>
                </a:cubicBezTo>
                <a:cubicBezTo>
                  <a:pt x="1231" y="592"/>
                  <a:pt x="1341" y="576"/>
                  <a:pt x="1397" y="636"/>
                </a:cubicBezTo>
                <a:cubicBezTo>
                  <a:pt x="1453" y="696"/>
                  <a:pt x="1437" y="795"/>
                  <a:pt x="1502" y="912"/>
                </a:cubicBezTo>
                <a:cubicBezTo>
                  <a:pt x="1567" y="1029"/>
                  <a:pt x="1739" y="1200"/>
                  <a:pt x="1786" y="1338"/>
                </a:cubicBezTo>
                <a:lnTo>
                  <a:pt x="1784" y="1740"/>
                </a:lnTo>
                <a:lnTo>
                  <a:pt x="1784" y="1834"/>
                </a:lnTo>
                <a:cubicBezTo>
                  <a:pt x="1781" y="1853"/>
                  <a:pt x="1770" y="1846"/>
                  <a:pt x="1764" y="1852"/>
                </a:cubicBezTo>
                <a:cubicBezTo>
                  <a:pt x="1758" y="1858"/>
                  <a:pt x="1753" y="1870"/>
                  <a:pt x="1748" y="1872"/>
                </a:cubicBezTo>
                <a:cubicBezTo>
                  <a:pt x="1743" y="1874"/>
                  <a:pt x="1742" y="1862"/>
                  <a:pt x="1736" y="1864"/>
                </a:cubicBezTo>
                <a:cubicBezTo>
                  <a:pt x="1730" y="1866"/>
                  <a:pt x="1719" y="1874"/>
                  <a:pt x="1712" y="1882"/>
                </a:cubicBezTo>
                <a:cubicBezTo>
                  <a:pt x="1705" y="1890"/>
                  <a:pt x="1701" y="1905"/>
                  <a:pt x="1692" y="1910"/>
                </a:cubicBezTo>
                <a:cubicBezTo>
                  <a:pt x="1683" y="1915"/>
                  <a:pt x="1672" y="1908"/>
                  <a:pt x="1660" y="1914"/>
                </a:cubicBezTo>
                <a:cubicBezTo>
                  <a:pt x="1648" y="1920"/>
                  <a:pt x="1631" y="1941"/>
                  <a:pt x="1620" y="1946"/>
                </a:cubicBezTo>
                <a:cubicBezTo>
                  <a:pt x="1609" y="1951"/>
                  <a:pt x="1600" y="1940"/>
                  <a:pt x="1592" y="1944"/>
                </a:cubicBezTo>
                <a:cubicBezTo>
                  <a:pt x="1584" y="1948"/>
                  <a:pt x="1580" y="1969"/>
                  <a:pt x="1572" y="1970"/>
                </a:cubicBezTo>
                <a:cubicBezTo>
                  <a:pt x="1564" y="1971"/>
                  <a:pt x="1550" y="1952"/>
                  <a:pt x="1544" y="1952"/>
                </a:cubicBezTo>
                <a:cubicBezTo>
                  <a:pt x="1538" y="1952"/>
                  <a:pt x="1535" y="1963"/>
                  <a:pt x="1536" y="1968"/>
                </a:cubicBezTo>
                <a:cubicBezTo>
                  <a:pt x="1537" y="1973"/>
                  <a:pt x="1552" y="1972"/>
                  <a:pt x="1548" y="1982"/>
                </a:cubicBezTo>
                <a:cubicBezTo>
                  <a:pt x="1544" y="1992"/>
                  <a:pt x="1523" y="2019"/>
                  <a:pt x="1512" y="2030"/>
                </a:cubicBezTo>
                <a:cubicBezTo>
                  <a:pt x="1501" y="2041"/>
                  <a:pt x="1492" y="2047"/>
                  <a:pt x="1484" y="2046"/>
                </a:cubicBezTo>
                <a:cubicBezTo>
                  <a:pt x="1476" y="2045"/>
                  <a:pt x="1476" y="2026"/>
                  <a:pt x="1466" y="2024"/>
                </a:cubicBezTo>
                <a:cubicBezTo>
                  <a:pt x="1456" y="2022"/>
                  <a:pt x="1433" y="2035"/>
                  <a:pt x="1422" y="2036"/>
                </a:cubicBezTo>
                <a:cubicBezTo>
                  <a:pt x="1411" y="2037"/>
                  <a:pt x="1395" y="2024"/>
                  <a:pt x="1398" y="2030"/>
                </a:cubicBezTo>
                <a:cubicBezTo>
                  <a:pt x="1401" y="2036"/>
                  <a:pt x="1432" y="2065"/>
                  <a:pt x="1442" y="2070"/>
                </a:cubicBezTo>
                <a:cubicBezTo>
                  <a:pt x="1452" y="2075"/>
                  <a:pt x="1454" y="2060"/>
                  <a:pt x="1460" y="2058"/>
                </a:cubicBezTo>
                <a:cubicBezTo>
                  <a:pt x="1466" y="2056"/>
                  <a:pt x="1470" y="2057"/>
                  <a:pt x="1478" y="2060"/>
                </a:cubicBezTo>
                <a:cubicBezTo>
                  <a:pt x="1486" y="2063"/>
                  <a:pt x="1499" y="2069"/>
                  <a:pt x="1508" y="2076"/>
                </a:cubicBezTo>
                <a:cubicBezTo>
                  <a:pt x="1517" y="2083"/>
                  <a:pt x="1522" y="2098"/>
                  <a:pt x="1532" y="2102"/>
                </a:cubicBezTo>
                <a:cubicBezTo>
                  <a:pt x="1542" y="2106"/>
                  <a:pt x="1557" y="2098"/>
                  <a:pt x="1568" y="2098"/>
                </a:cubicBezTo>
                <a:cubicBezTo>
                  <a:pt x="1579" y="2098"/>
                  <a:pt x="1588" y="2101"/>
                  <a:pt x="1598" y="2100"/>
                </a:cubicBezTo>
                <a:cubicBezTo>
                  <a:pt x="1608" y="2099"/>
                  <a:pt x="1615" y="2091"/>
                  <a:pt x="1626" y="2094"/>
                </a:cubicBezTo>
                <a:cubicBezTo>
                  <a:pt x="1637" y="2097"/>
                  <a:pt x="1656" y="2113"/>
                  <a:pt x="1666" y="2118"/>
                </a:cubicBezTo>
                <a:cubicBezTo>
                  <a:pt x="1676" y="2123"/>
                  <a:pt x="1681" y="2122"/>
                  <a:pt x="1686" y="2126"/>
                </a:cubicBezTo>
                <a:cubicBezTo>
                  <a:pt x="1691" y="2130"/>
                  <a:pt x="1691" y="2139"/>
                  <a:pt x="1696" y="2144"/>
                </a:cubicBezTo>
                <a:cubicBezTo>
                  <a:pt x="1701" y="2149"/>
                  <a:pt x="1713" y="2152"/>
                  <a:pt x="1714" y="2158"/>
                </a:cubicBezTo>
                <a:cubicBezTo>
                  <a:pt x="1715" y="2164"/>
                  <a:pt x="1707" y="2172"/>
                  <a:pt x="1704" y="2178"/>
                </a:cubicBezTo>
                <a:cubicBezTo>
                  <a:pt x="1701" y="2184"/>
                  <a:pt x="1700" y="2191"/>
                  <a:pt x="1696" y="2194"/>
                </a:cubicBezTo>
                <a:cubicBezTo>
                  <a:pt x="1692" y="2197"/>
                  <a:pt x="1684" y="2193"/>
                  <a:pt x="1678" y="2194"/>
                </a:cubicBezTo>
                <a:cubicBezTo>
                  <a:pt x="1672" y="2195"/>
                  <a:pt x="1665" y="2202"/>
                  <a:pt x="1658" y="2202"/>
                </a:cubicBezTo>
                <a:cubicBezTo>
                  <a:pt x="1651" y="2202"/>
                  <a:pt x="1642" y="2195"/>
                  <a:pt x="1636" y="2194"/>
                </a:cubicBezTo>
                <a:cubicBezTo>
                  <a:pt x="1630" y="2193"/>
                  <a:pt x="1630" y="2197"/>
                  <a:pt x="1624" y="2196"/>
                </a:cubicBezTo>
                <a:cubicBezTo>
                  <a:pt x="1618" y="2195"/>
                  <a:pt x="1607" y="2188"/>
                  <a:pt x="1600" y="2188"/>
                </a:cubicBezTo>
                <a:cubicBezTo>
                  <a:pt x="1593" y="2188"/>
                  <a:pt x="1587" y="2190"/>
                  <a:pt x="1584" y="2194"/>
                </a:cubicBezTo>
                <a:cubicBezTo>
                  <a:pt x="1581" y="2198"/>
                  <a:pt x="1587" y="2206"/>
                  <a:pt x="1584" y="2212"/>
                </a:cubicBezTo>
                <a:cubicBezTo>
                  <a:pt x="1581" y="2218"/>
                  <a:pt x="1572" y="2225"/>
                  <a:pt x="1568" y="2232"/>
                </a:cubicBezTo>
                <a:cubicBezTo>
                  <a:pt x="1564" y="2239"/>
                  <a:pt x="1565" y="2248"/>
                  <a:pt x="1562" y="2252"/>
                </a:cubicBezTo>
                <a:cubicBezTo>
                  <a:pt x="1559" y="2256"/>
                  <a:pt x="1553" y="2259"/>
                  <a:pt x="1548" y="2258"/>
                </a:cubicBezTo>
                <a:cubicBezTo>
                  <a:pt x="1543" y="2257"/>
                  <a:pt x="1536" y="2248"/>
                  <a:pt x="1530" y="2246"/>
                </a:cubicBezTo>
                <a:cubicBezTo>
                  <a:pt x="1524" y="2244"/>
                  <a:pt x="1516" y="2243"/>
                  <a:pt x="1512" y="2248"/>
                </a:cubicBezTo>
                <a:cubicBezTo>
                  <a:pt x="1508" y="2253"/>
                  <a:pt x="1508" y="2272"/>
                  <a:pt x="1504" y="2278"/>
                </a:cubicBezTo>
                <a:cubicBezTo>
                  <a:pt x="1500" y="2284"/>
                  <a:pt x="1495" y="2280"/>
                  <a:pt x="1486" y="2286"/>
                </a:cubicBezTo>
                <a:cubicBezTo>
                  <a:pt x="1477" y="2292"/>
                  <a:pt x="1461" y="2310"/>
                  <a:pt x="1452" y="2312"/>
                </a:cubicBezTo>
                <a:cubicBezTo>
                  <a:pt x="1443" y="2314"/>
                  <a:pt x="1438" y="2302"/>
                  <a:pt x="1430" y="2300"/>
                </a:cubicBezTo>
                <a:cubicBezTo>
                  <a:pt x="1422" y="2298"/>
                  <a:pt x="1410" y="2307"/>
                  <a:pt x="1406" y="2298"/>
                </a:cubicBezTo>
                <a:cubicBezTo>
                  <a:pt x="1402" y="2289"/>
                  <a:pt x="1411" y="2257"/>
                  <a:pt x="1408" y="2244"/>
                </a:cubicBezTo>
                <a:cubicBezTo>
                  <a:pt x="1405" y="2231"/>
                  <a:pt x="1393" y="2229"/>
                  <a:pt x="1390" y="2222"/>
                </a:cubicBezTo>
                <a:cubicBezTo>
                  <a:pt x="1387" y="2215"/>
                  <a:pt x="1397" y="2206"/>
                  <a:pt x="1392" y="2204"/>
                </a:cubicBezTo>
                <a:cubicBezTo>
                  <a:pt x="1387" y="2202"/>
                  <a:pt x="1370" y="2211"/>
                  <a:pt x="1362" y="2210"/>
                </a:cubicBezTo>
                <a:cubicBezTo>
                  <a:pt x="1354" y="2209"/>
                  <a:pt x="1353" y="2200"/>
                  <a:pt x="1344" y="2196"/>
                </a:cubicBezTo>
                <a:cubicBezTo>
                  <a:pt x="1335" y="2192"/>
                  <a:pt x="1317" y="2186"/>
                  <a:pt x="1308" y="2186"/>
                </a:cubicBezTo>
                <a:cubicBezTo>
                  <a:pt x="1299" y="2186"/>
                  <a:pt x="1295" y="2196"/>
                  <a:pt x="1290" y="2196"/>
                </a:cubicBezTo>
                <a:cubicBezTo>
                  <a:pt x="1285" y="2196"/>
                  <a:pt x="1273" y="2191"/>
                  <a:pt x="1276" y="2184"/>
                </a:cubicBezTo>
                <a:cubicBezTo>
                  <a:pt x="1279" y="2177"/>
                  <a:pt x="1298" y="2166"/>
                  <a:pt x="1306" y="2156"/>
                </a:cubicBezTo>
                <a:cubicBezTo>
                  <a:pt x="1314" y="2146"/>
                  <a:pt x="1316" y="2133"/>
                  <a:pt x="1324" y="2124"/>
                </a:cubicBezTo>
                <a:cubicBezTo>
                  <a:pt x="1332" y="2115"/>
                  <a:pt x="1346" y="2107"/>
                  <a:pt x="1354" y="2104"/>
                </a:cubicBezTo>
                <a:cubicBezTo>
                  <a:pt x="1362" y="2101"/>
                  <a:pt x="1367" y="2106"/>
                  <a:pt x="1372" y="2104"/>
                </a:cubicBezTo>
                <a:cubicBezTo>
                  <a:pt x="1377" y="2102"/>
                  <a:pt x="1381" y="2092"/>
                  <a:pt x="1388" y="2090"/>
                </a:cubicBezTo>
                <a:cubicBezTo>
                  <a:pt x="1395" y="2088"/>
                  <a:pt x="1412" y="2095"/>
                  <a:pt x="1412" y="2092"/>
                </a:cubicBezTo>
                <a:cubicBezTo>
                  <a:pt x="1412" y="2089"/>
                  <a:pt x="1393" y="2077"/>
                  <a:pt x="1388" y="2070"/>
                </a:cubicBezTo>
                <a:cubicBezTo>
                  <a:pt x="1383" y="2063"/>
                  <a:pt x="1386" y="2050"/>
                  <a:pt x="1382" y="2048"/>
                </a:cubicBezTo>
                <a:cubicBezTo>
                  <a:pt x="1378" y="2046"/>
                  <a:pt x="1370" y="2057"/>
                  <a:pt x="1364" y="2058"/>
                </a:cubicBezTo>
                <a:cubicBezTo>
                  <a:pt x="1358" y="2059"/>
                  <a:pt x="1356" y="2051"/>
                  <a:pt x="1348" y="2052"/>
                </a:cubicBezTo>
                <a:cubicBezTo>
                  <a:pt x="1340" y="2053"/>
                  <a:pt x="1325" y="2063"/>
                  <a:pt x="1314" y="2066"/>
                </a:cubicBezTo>
                <a:cubicBezTo>
                  <a:pt x="1303" y="2069"/>
                  <a:pt x="1275" y="2065"/>
                  <a:pt x="1280" y="2068"/>
                </a:cubicBezTo>
                <a:cubicBezTo>
                  <a:pt x="1285" y="2071"/>
                  <a:pt x="1344" y="2083"/>
                  <a:pt x="1344" y="2086"/>
                </a:cubicBezTo>
                <a:cubicBezTo>
                  <a:pt x="1344" y="2089"/>
                  <a:pt x="1299" y="2090"/>
                  <a:pt x="1282" y="2088"/>
                </a:cubicBezTo>
                <a:cubicBezTo>
                  <a:pt x="1265" y="2086"/>
                  <a:pt x="1253" y="2080"/>
                  <a:pt x="1242" y="2076"/>
                </a:cubicBezTo>
                <a:cubicBezTo>
                  <a:pt x="1231" y="2072"/>
                  <a:pt x="1222" y="2066"/>
                  <a:pt x="1214" y="2064"/>
                </a:cubicBezTo>
                <a:cubicBezTo>
                  <a:pt x="1206" y="2062"/>
                  <a:pt x="1192" y="2066"/>
                  <a:pt x="1192" y="2062"/>
                </a:cubicBezTo>
                <a:cubicBezTo>
                  <a:pt x="1192" y="2058"/>
                  <a:pt x="1222" y="2046"/>
                  <a:pt x="1216" y="2042"/>
                </a:cubicBezTo>
                <a:cubicBezTo>
                  <a:pt x="1210" y="2038"/>
                  <a:pt x="1160" y="2041"/>
                  <a:pt x="1156" y="2038"/>
                </a:cubicBezTo>
                <a:cubicBezTo>
                  <a:pt x="1152" y="2035"/>
                  <a:pt x="1179" y="2025"/>
                  <a:pt x="1190" y="2022"/>
                </a:cubicBezTo>
                <a:cubicBezTo>
                  <a:pt x="1201" y="2019"/>
                  <a:pt x="1212" y="2020"/>
                  <a:pt x="1224" y="2020"/>
                </a:cubicBezTo>
                <a:cubicBezTo>
                  <a:pt x="1236" y="2020"/>
                  <a:pt x="1263" y="2026"/>
                  <a:pt x="1260" y="2022"/>
                </a:cubicBezTo>
                <a:cubicBezTo>
                  <a:pt x="1257" y="2018"/>
                  <a:pt x="1217" y="2006"/>
                  <a:pt x="1206" y="1998"/>
                </a:cubicBezTo>
                <a:cubicBezTo>
                  <a:pt x="1195" y="1990"/>
                  <a:pt x="1197" y="1973"/>
                  <a:pt x="1194" y="1974"/>
                </a:cubicBezTo>
                <a:cubicBezTo>
                  <a:pt x="1191" y="1975"/>
                  <a:pt x="1192" y="1995"/>
                  <a:pt x="1186" y="2002"/>
                </a:cubicBezTo>
                <a:cubicBezTo>
                  <a:pt x="1180" y="2009"/>
                  <a:pt x="1164" y="2017"/>
                  <a:pt x="1160" y="2014"/>
                </a:cubicBezTo>
                <a:cubicBezTo>
                  <a:pt x="1156" y="2011"/>
                  <a:pt x="1167" y="1988"/>
                  <a:pt x="1164" y="1984"/>
                </a:cubicBezTo>
                <a:cubicBezTo>
                  <a:pt x="1161" y="1980"/>
                  <a:pt x="1146" y="1986"/>
                  <a:pt x="1140" y="1992"/>
                </a:cubicBezTo>
                <a:cubicBezTo>
                  <a:pt x="1134" y="1998"/>
                  <a:pt x="1135" y="2015"/>
                  <a:pt x="1130" y="2020"/>
                </a:cubicBezTo>
                <a:cubicBezTo>
                  <a:pt x="1125" y="2025"/>
                  <a:pt x="1115" y="2017"/>
                  <a:pt x="1108" y="2020"/>
                </a:cubicBezTo>
                <a:cubicBezTo>
                  <a:pt x="1101" y="2023"/>
                  <a:pt x="1094" y="2032"/>
                  <a:pt x="1090" y="2036"/>
                </a:cubicBezTo>
                <a:cubicBezTo>
                  <a:pt x="1086" y="2040"/>
                  <a:pt x="1089" y="2041"/>
                  <a:pt x="1086" y="2046"/>
                </a:cubicBezTo>
                <a:cubicBezTo>
                  <a:pt x="1083" y="2051"/>
                  <a:pt x="1078" y="2058"/>
                  <a:pt x="1074" y="2066"/>
                </a:cubicBezTo>
                <a:cubicBezTo>
                  <a:pt x="1070" y="2074"/>
                  <a:pt x="1072" y="2093"/>
                  <a:pt x="1064" y="2096"/>
                </a:cubicBezTo>
                <a:cubicBezTo>
                  <a:pt x="1056" y="2099"/>
                  <a:pt x="1047" y="2092"/>
                  <a:pt x="1028" y="2082"/>
                </a:cubicBezTo>
                <a:cubicBezTo>
                  <a:pt x="1009" y="2072"/>
                  <a:pt x="969" y="2057"/>
                  <a:pt x="948" y="2036"/>
                </a:cubicBezTo>
                <a:cubicBezTo>
                  <a:pt x="927" y="2015"/>
                  <a:pt x="914" y="1978"/>
                  <a:pt x="904" y="1958"/>
                </a:cubicBezTo>
                <a:cubicBezTo>
                  <a:pt x="894" y="1938"/>
                  <a:pt x="900" y="1936"/>
                  <a:pt x="890" y="1916"/>
                </a:cubicBezTo>
                <a:cubicBezTo>
                  <a:pt x="880" y="1896"/>
                  <a:pt x="865" y="1854"/>
                  <a:pt x="846" y="1836"/>
                </a:cubicBezTo>
                <a:cubicBezTo>
                  <a:pt x="827" y="1818"/>
                  <a:pt x="800" y="1820"/>
                  <a:pt x="773" y="1809"/>
                </a:cubicBezTo>
                <a:cubicBezTo>
                  <a:pt x="746" y="1798"/>
                  <a:pt x="708" y="1774"/>
                  <a:pt x="683" y="1770"/>
                </a:cubicBezTo>
                <a:cubicBezTo>
                  <a:pt x="658" y="1766"/>
                  <a:pt x="638" y="1781"/>
                  <a:pt x="620" y="1782"/>
                </a:cubicBezTo>
                <a:cubicBezTo>
                  <a:pt x="602" y="1783"/>
                  <a:pt x="590" y="1776"/>
                  <a:pt x="576" y="1776"/>
                </a:cubicBezTo>
                <a:lnTo>
                  <a:pt x="538" y="1782"/>
                </a:lnTo>
                <a:cubicBezTo>
                  <a:pt x="523" y="1783"/>
                  <a:pt x="494" y="1777"/>
                  <a:pt x="484" y="1784"/>
                </a:cubicBezTo>
                <a:cubicBezTo>
                  <a:pt x="474" y="1791"/>
                  <a:pt x="483" y="1808"/>
                  <a:pt x="478" y="1822"/>
                </a:cubicBezTo>
                <a:cubicBezTo>
                  <a:pt x="473" y="1836"/>
                  <a:pt x="454" y="1845"/>
                  <a:pt x="452" y="1866"/>
                </a:cubicBezTo>
                <a:cubicBezTo>
                  <a:pt x="450" y="1887"/>
                  <a:pt x="466" y="1935"/>
                  <a:pt x="466" y="1950"/>
                </a:cubicBezTo>
                <a:cubicBezTo>
                  <a:pt x="466" y="1965"/>
                  <a:pt x="460" y="1961"/>
                  <a:pt x="454" y="1958"/>
                </a:cubicBezTo>
                <a:cubicBezTo>
                  <a:pt x="448" y="1955"/>
                  <a:pt x="436" y="1947"/>
                  <a:pt x="430" y="1934"/>
                </a:cubicBezTo>
                <a:cubicBezTo>
                  <a:pt x="424" y="1921"/>
                  <a:pt x="426" y="1893"/>
                  <a:pt x="418" y="1882"/>
                </a:cubicBezTo>
                <a:cubicBezTo>
                  <a:pt x="410" y="1871"/>
                  <a:pt x="387" y="1879"/>
                  <a:pt x="380" y="1870"/>
                </a:cubicBezTo>
                <a:cubicBezTo>
                  <a:pt x="373" y="1861"/>
                  <a:pt x="385" y="1833"/>
                  <a:pt x="378" y="1826"/>
                </a:cubicBezTo>
                <a:cubicBezTo>
                  <a:pt x="371" y="1819"/>
                  <a:pt x="349" y="1834"/>
                  <a:pt x="338" y="1828"/>
                </a:cubicBezTo>
                <a:cubicBezTo>
                  <a:pt x="327" y="1822"/>
                  <a:pt x="318" y="1806"/>
                  <a:pt x="310" y="1788"/>
                </a:cubicBezTo>
                <a:cubicBezTo>
                  <a:pt x="302" y="1770"/>
                  <a:pt x="298" y="1739"/>
                  <a:pt x="288" y="1720"/>
                </a:cubicBezTo>
                <a:cubicBezTo>
                  <a:pt x="278" y="1701"/>
                  <a:pt x="262" y="1688"/>
                  <a:pt x="248" y="1672"/>
                </a:cubicBezTo>
                <a:cubicBezTo>
                  <a:pt x="234" y="1656"/>
                  <a:pt x="195" y="1643"/>
                  <a:pt x="204" y="1624"/>
                </a:cubicBezTo>
                <a:cubicBezTo>
                  <a:pt x="213" y="1605"/>
                  <a:pt x="275" y="1575"/>
                  <a:pt x="300" y="1558"/>
                </a:cubicBezTo>
                <a:cubicBezTo>
                  <a:pt x="325" y="1541"/>
                  <a:pt x="346" y="1539"/>
                  <a:pt x="352" y="1524"/>
                </a:cubicBezTo>
                <a:cubicBezTo>
                  <a:pt x="358" y="1509"/>
                  <a:pt x="341" y="1488"/>
                  <a:pt x="334" y="1468"/>
                </a:cubicBezTo>
                <a:cubicBezTo>
                  <a:pt x="327" y="1448"/>
                  <a:pt x="322" y="1421"/>
                  <a:pt x="312" y="1404"/>
                </a:cubicBezTo>
                <a:cubicBezTo>
                  <a:pt x="302" y="1387"/>
                  <a:pt x="279" y="1382"/>
                  <a:pt x="274" y="1362"/>
                </a:cubicBezTo>
                <a:cubicBezTo>
                  <a:pt x="269" y="1342"/>
                  <a:pt x="284" y="1301"/>
                  <a:pt x="280" y="1284"/>
                </a:cubicBezTo>
                <a:cubicBezTo>
                  <a:pt x="276" y="1267"/>
                  <a:pt x="260" y="1267"/>
                  <a:pt x="252" y="1258"/>
                </a:cubicBezTo>
                <a:cubicBezTo>
                  <a:pt x="244" y="1249"/>
                  <a:pt x="239" y="1237"/>
                  <a:pt x="230" y="1232"/>
                </a:cubicBezTo>
                <a:cubicBezTo>
                  <a:pt x="221" y="1227"/>
                  <a:pt x="209" y="1233"/>
                  <a:pt x="196" y="1228"/>
                </a:cubicBezTo>
                <a:cubicBezTo>
                  <a:pt x="183" y="1223"/>
                  <a:pt x="164" y="1210"/>
                  <a:pt x="154" y="1200"/>
                </a:cubicBezTo>
                <a:cubicBezTo>
                  <a:pt x="144" y="1190"/>
                  <a:pt x="158" y="1171"/>
                  <a:pt x="134" y="1170"/>
                </a:cubicBezTo>
                <a:cubicBezTo>
                  <a:pt x="110" y="1169"/>
                  <a:pt x="30" y="1211"/>
                  <a:pt x="12" y="1196"/>
                </a:cubicBezTo>
                <a:lnTo>
                  <a:pt x="24" y="1080"/>
                </a:lnTo>
                <a:cubicBezTo>
                  <a:pt x="30" y="1055"/>
                  <a:pt x="38" y="1048"/>
                  <a:pt x="50" y="1044"/>
                </a:cubicBezTo>
                <a:cubicBezTo>
                  <a:pt x="62" y="1040"/>
                  <a:pt x="82" y="1057"/>
                  <a:pt x="98" y="1054"/>
                </a:cubicBezTo>
                <a:cubicBezTo>
                  <a:pt x="114" y="1051"/>
                  <a:pt x="132" y="1031"/>
                  <a:pt x="144" y="1026"/>
                </a:cubicBezTo>
                <a:cubicBezTo>
                  <a:pt x="156" y="1021"/>
                  <a:pt x="162" y="1027"/>
                  <a:pt x="170" y="1022"/>
                </a:cubicBezTo>
                <a:cubicBezTo>
                  <a:pt x="178" y="1017"/>
                  <a:pt x="174" y="1007"/>
                  <a:pt x="194" y="996"/>
                </a:cubicBezTo>
                <a:lnTo>
                  <a:pt x="290" y="958"/>
                </a:lnTo>
                <a:cubicBezTo>
                  <a:pt x="297" y="951"/>
                  <a:pt x="251" y="957"/>
                  <a:pt x="238" y="952"/>
                </a:cubicBezTo>
                <a:cubicBezTo>
                  <a:pt x="225" y="947"/>
                  <a:pt x="221" y="931"/>
                  <a:pt x="210" y="926"/>
                </a:cubicBezTo>
                <a:cubicBezTo>
                  <a:pt x="199" y="921"/>
                  <a:pt x="175" y="931"/>
                  <a:pt x="172" y="924"/>
                </a:cubicBezTo>
                <a:cubicBezTo>
                  <a:pt x="169" y="917"/>
                  <a:pt x="187" y="899"/>
                  <a:pt x="190" y="882"/>
                </a:cubicBezTo>
                <a:cubicBezTo>
                  <a:pt x="193" y="865"/>
                  <a:pt x="201" y="835"/>
                  <a:pt x="188" y="822"/>
                </a:cubicBezTo>
                <a:cubicBezTo>
                  <a:pt x="175" y="809"/>
                  <a:pt x="133" y="811"/>
                  <a:pt x="110" y="804"/>
                </a:cubicBezTo>
                <a:cubicBezTo>
                  <a:pt x="87" y="797"/>
                  <a:pt x="62" y="792"/>
                  <a:pt x="52" y="780"/>
                </a:cubicBezTo>
                <a:cubicBezTo>
                  <a:pt x="42" y="768"/>
                  <a:pt x="54" y="743"/>
                  <a:pt x="50" y="730"/>
                </a:cubicBezTo>
                <a:cubicBezTo>
                  <a:pt x="46" y="717"/>
                  <a:pt x="33" y="715"/>
                  <a:pt x="26" y="702"/>
                </a:cubicBezTo>
                <a:cubicBezTo>
                  <a:pt x="19" y="689"/>
                  <a:pt x="11" y="668"/>
                  <a:pt x="10" y="654"/>
                </a:cubicBezTo>
                <a:cubicBezTo>
                  <a:pt x="9" y="640"/>
                  <a:pt x="20" y="628"/>
                  <a:pt x="18" y="616"/>
                </a:cubicBezTo>
                <a:cubicBezTo>
                  <a:pt x="16" y="604"/>
                  <a:pt x="0" y="594"/>
                  <a:pt x="0" y="582"/>
                </a:cubicBezTo>
                <a:cubicBezTo>
                  <a:pt x="0" y="570"/>
                  <a:pt x="10" y="557"/>
                  <a:pt x="18" y="542"/>
                </a:cubicBezTo>
                <a:cubicBezTo>
                  <a:pt x="26" y="527"/>
                  <a:pt x="42" y="504"/>
                  <a:pt x="46" y="490"/>
                </a:cubicBezTo>
                <a:cubicBezTo>
                  <a:pt x="50" y="476"/>
                  <a:pt x="39" y="468"/>
                  <a:pt x="44" y="458"/>
                </a:cubicBezTo>
                <a:cubicBezTo>
                  <a:pt x="49" y="448"/>
                  <a:pt x="63" y="443"/>
                  <a:pt x="78" y="428"/>
                </a:cubicBezTo>
                <a:cubicBezTo>
                  <a:pt x="93" y="413"/>
                  <a:pt x="118" y="382"/>
                  <a:pt x="132" y="370"/>
                </a:cubicBezTo>
                <a:cubicBezTo>
                  <a:pt x="146" y="358"/>
                  <a:pt x="156" y="352"/>
                  <a:pt x="162" y="358"/>
                </a:cubicBezTo>
                <a:cubicBezTo>
                  <a:pt x="168" y="364"/>
                  <a:pt x="164" y="395"/>
                  <a:pt x="168" y="406"/>
                </a:cubicBezTo>
                <a:lnTo>
                  <a:pt x="188" y="424"/>
                </a:lnTo>
                <a:cubicBezTo>
                  <a:pt x="195" y="432"/>
                  <a:pt x="206" y="444"/>
                  <a:pt x="210" y="452"/>
                </a:cubicBezTo>
                <a:cubicBezTo>
                  <a:pt x="214" y="460"/>
                  <a:pt x="208" y="465"/>
                  <a:pt x="214" y="472"/>
                </a:cubicBezTo>
                <a:cubicBezTo>
                  <a:pt x="220" y="479"/>
                  <a:pt x="233" y="492"/>
                  <a:pt x="245" y="495"/>
                </a:cubicBezTo>
                <a:cubicBezTo>
                  <a:pt x="257" y="498"/>
                  <a:pt x="273" y="503"/>
                  <a:pt x="284" y="490"/>
                </a:cubicBezTo>
                <a:cubicBezTo>
                  <a:pt x="295" y="477"/>
                  <a:pt x="309" y="434"/>
                  <a:pt x="310" y="416"/>
                </a:cubicBezTo>
                <a:cubicBezTo>
                  <a:pt x="311" y="398"/>
                  <a:pt x="292" y="392"/>
                  <a:pt x="288" y="384"/>
                </a:cubicBezTo>
                <a:lnTo>
                  <a:pt x="288" y="366"/>
                </a:lnTo>
                <a:lnTo>
                  <a:pt x="266" y="356"/>
                </a:lnTo>
                <a:close/>
              </a:path>
            </a:pathLst>
          </a:custGeom>
          <a:solidFill>
            <a:srgbClr val="ff00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216" descr="nazi"/>
          <p:cNvPicPr/>
          <p:nvPr/>
        </p:nvPicPr>
        <p:blipFill>
          <a:blip r:embed="rId32"/>
          <a:stretch/>
        </p:blipFill>
        <p:spPr>
          <a:xfrm>
            <a:off x="7145280" y="1049400"/>
            <a:ext cx="220680" cy="131760"/>
          </a:xfrm>
          <a:prstGeom prst="rect">
            <a:avLst/>
          </a:prstGeom>
          <a:ln w="12600">
            <a:solidFill>
              <a:srgbClr val="000000"/>
            </a:solidFill>
            <a:miter/>
          </a:ln>
        </p:spPr>
      </p:pic>
      <p:pic>
        <p:nvPicPr>
          <p:cNvPr id="261" name="Picture 217" descr="nazi"/>
          <p:cNvPicPr/>
          <p:nvPr/>
        </p:nvPicPr>
        <p:blipFill>
          <a:blip r:embed="rId33"/>
          <a:stretch/>
        </p:blipFill>
        <p:spPr>
          <a:xfrm>
            <a:off x="7907400" y="1846440"/>
            <a:ext cx="220680" cy="131760"/>
          </a:xfrm>
          <a:prstGeom prst="rect">
            <a:avLst/>
          </a:prstGeom>
          <a:ln w="12600">
            <a:solidFill>
              <a:srgbClr val="000000"/>
            </a:solidFill>
            <a:miter/>
          </a:ln>
        </p:spPr>
      </p:pic>
      <p:sp>
        <p:nvSpPr>
          <p:cNvPr id="262" name="Rectangle 2"/>
          <p:cNvSpPr/>
          <p:nvPr/>
        </p:nvSpPr>
        <p:spPr>
          <a:xfrm>
            <a:off x="719280" y="0"/>
            <a:ext cx="8424720" cy="539640"/>
          </a:xfrm>
          <a:prstGeom prst="rect">
            <a:avLst/>
          </a:prstGeom>
          <a:solidFill>
            <a:srgbClr val="336699"/>
          </a:solidFill>
          <a:ln w="0">
            <a:noFill/>
          </a:ln>
        </p:spPr>
        <p:style>
          <a:lnRef idx="0"/>
          <a:fillRef idx="0"/>
          <a:effectRef idx="0"/>
          <a:fontRef idx="minor"/>
        </p:style>
        <p:txBody>
          <a:bodyPr wrap="none" lIns="18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World War II and Bletchley Park</a:t>
            </a:r>
            <a:endParaRPr b="0" lang="en-US" sz="1800" spc="-1" strike="noStrike">
              <a:solidFill>
                <a:srgbClr val="000000"/>
              </a:solidFill>
              <a:latin typeface="Arial"/>
            </a:endParaRPr>
          </a:p>
        </p:txBody>
      </p:sp>
      <p:sp>
        <p:nvSpPr>
          <p:cNvPr id="263" name="Text Box 3"/>
          <p:cNvSpPr/>
          <p:nvPr/>
        </p:nvSpPr>
        <p:spPr>
          <a:xfrm>
            <a:off x="0" y="0"/>
            <a:ext cx="719280" cy="539640"/>
          </a:xfrm>
          <a:prstGeom prst="rect">
            <a:avLst/>
          </a:prstGeom>
          <a:solidFill>
            <a:srgbClr val="00000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1b1</a:t>
            </a:r>
            <a:endParaRPr b="0" lang="en-US" sz="1800" spc="-1" strike="noStrike">
              <a:solidFill>
                <a:srgbClr val="000000"/>
              </a:solidFill>
              <a:latin typeface="Arial"/>
            </a:endParaRPr>
          </a:p>
        </p:txBody>
      </p:sp>
      <p:pic>
        <p:nvPicPr>
          <p:cNvPr id="264" name="Picture 9" descr="ussr"/>
          <p:cNvPicPr/>
          <p:nvPr/>
        </p:nvPicPr>
        <p:blipFill>
          <a:blip r:embed="rId34"/>
          <a:stretch/>
        </p:blipFill>
        <p:spPr>
          <a:xfrm>
            <a:off x="8491680" y="1528920"/>
            <a:ext cx="455400" cy="225360"/>
          </a:xfrm>
          <a:prstGeom prst="rect">
            <a:avLst/>
          </a:prstGeom>
          <a:ln w="0">
            <a:noFill/>
          </a:ln>
        </p:spPr>
      </p:pic>
      <p:pic>
        <p:nvPicPr>
          <p:cNvPr id="265" name="Picture 96" descr="nazi"/>
          <p:cNvPicPr/>
          <p:nvPr/>
        </p:nvPicPr>
        <p:blipFill>
          <a:blip r:embed="rId35"/>
          <a:stretch/>
        </p:blipFill>
        <p:spPr>
          <a:xfrm>
            <a:off x="6643800" y="4770360"/>
            <a:ext cx="145800" cy="87480"/>
          </a:xfrm>
          <a:prstGeom prst="rect">
            <a:avLst/>
          </a:prstGeom>
          <a:ln w="12600">
            <a:solidFill>
              <a:srgbClr val="000000"/>
            </a:solidFill>
            <a:miter/>
          </a:ln>
        </p:spPr>
      </p:pic>
      <p:pic>
        <p:nvPicPr>
          <p:cNvPr id="266" name="Picture 97" descr="nazi"/>
          <p:cNvPicPr/>
          <p:nvPr/>
        </p:nvPicPr>
        <p:blipFill>
          <a:blip r:embed="rId36"/>
          <a:stretch/>
        </p:blipFill>
        <p:spPr>
          <a:xfrm>
            <a:off x="6757920" y="5113440"/>
            <a:ext cx="146160" cy="87120"/>
          </a:xfrm>
          <a:prstGeom prst="rect">
            <a:avLst/>
          </a:prstGeom>
          <a:ln w="12600">
            <a:solidFill>
              <a:srgbClr val="000000"/>
            </a:solidFill>
            <a:miter/>
          </a:ln>
        </p:spPr>
      </p:pic>
      <p:pic>
        <p:nvPicPr>
          <p:cNvPr id="267" name="Picture 193" descr="nazi"/>
          <p:cNvPicPr/>
          <p:nvPr/>
        </p:nvPicPr>
        <p:blipFill>
          <a:blip r:embed="rId37"/>
          <a:stretch/>
        </p:blipFill>
        <p:spPr>
          <a:xfrm>
            <a:off x="6145200" y="2046240"/>
            <a:ext cx="220680" cy="131760"/>
          </a:xfrm>
          <a:prstGeom prst="rect">
            <a:avLst/>
          </a:prstGeom>
          <a:ln w="12600">
            <a:solidFill>
              <a:srgbClr val="000000"/>
            </a:solidFill>
            <a:miter/>
          </a:ln>
        </p:spPr>
      </p:pic>
      <p:pic>
        <p:nvPicPr>
          <p:cNvPr id="268" name="Picture 196" descr="nazi"/>
          <p:cNvPicPr/>
          <p:nvPr/>
        </p:nvPicPr>
        <p:blipFill>
          <a:blip r:embed="rId38"/>
          <a:stretch/>
        </p:blipFill>
        <p:spPr>
          <a:xfrm>
            <a:off x="7269120" y="3549600"/>
            <a:ext cx="146160" cy="87480"/>
          </a:xfrm>
          <a:prstGeom prst="rect">
            <a:avLst/>
          </a:prstGeom>
          <a:ln w="12600">
            <a:solidFill>
              <a:srgbClr val="000000"/>
            </a:solidFill>
            <a:miter/>
          </a:ln>
        </p:spPr>
      </p:pic>
      <p:sp>
        <p:nvSpPr>
          <p:cNvPr id="26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B4559-DDE2-487C-82F1-19A4EC934FC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tangle 106"/>
          <p:cNvSpPr/>
          <p:nvPr/>
        </p:nvSpPr>
        <p:spPr>
          <a:xfrm>
            <a:off x="0" y="542880"/>
            <a:ext cx="185760" cy="631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07"/>
          <p:cNvSpPr/>
          <p:nvPr/>
        </p:nvSpPr>
        <p:spPr>
          <a:xfrm>
            <a:off x="8993160" y="542880"/>
            <a:ext cx="185760" cy="6315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08"/>
          <p:cNvSpPr/>
          <p:nvPr/>
        </p:nvSpPr>
        <p:spPr>
          <a:xfrm>
            <a:off x="3193920" y="738360"/>
            <a:ext cx="3081600" cy="1204920"/>
          </a:xfrm>
          <a:custGeom>
            <a:avLst/>
            <a:gdLst/>
            <a:ahLst/>
            <a:rect l="l" t="t" r="r" b="b"/>
            <a:pathLst>
              <a:path w="3081403" h="1204501">
                <a:moveTo>
                  <a:pt x="3081403" y="0"/>
                </a:moveTo>
                <a:cubicBezTo>
                  <a:pt x="3064702" y="16702"/>
                  <a:pt x="3045471" y="31209"/>
                  <a:pt x="3031299" y="50105"/>
                </a:cubicBezTo>
                <a:cubicBezTo>
                  <a:pt x="2995168" y="98279"/>
                  <a:pt x="2964493" y="150313"/>
                  <a:pt x="2931090" y="200417"/>
                </a:cubicBezTo>
                <a:cubicBezTo>
                  <a:pt x="2895600" y="254696"/>
                  <a:pt x="2855934" y="317326"/>
                  <a:pt x="2818356" y="375781"/>
                </a:cubicBezTo>
                <a:cubicBezTo>
                  <a:pt x="2780778" y="434236"/>
                  <a:pt x="2734849" y="503130"/>
                  <a:pt x="2705622" y="551146"/>
                </a:cubicBezTo>
                <a:cubicBezTo>
                  <a:pt x="2676395" y="599163"/>
                  <a:pt x="2665956" y="626302"/>
                  <a:pt x="2642992" y="663880"/>
                </a:cubicBezTo>
                <a:cubicBezTo>
                  <a:pt x="2620028" y="701458"/>
                  <a:pt x="2590801" y="739036"/>
                  <a:pt x="2567836" y="776614"/>
                </a:cubicBezTo>
                <a:cubicBezTo>
                  <a:pt x="2542638" y="852202"/>
                  <a:pt x="2569814" y="781664"/>
                  <a:pt x="2505205" y="889348"/>
                </a:cubicBezTo>
                <a:cubicBezTo>
                  <a:pt x="2490711" y="913505"/>
                  <a:pt x="2433427" y="1011231"/>
                  <a:pt x="2417523" y="1027135"/>
                </a:cubicBezTo>
                <a:cubicBezTo>
                  <a:pt x="2392471" y="1062625"/>
                  <a:pt x="2379945" y="1081414"/>
                  <a:pt x="2354893" y="1102291"/>
                </a:cubicBezTo>
                <a:cubicBezTo>
                  <a:pt x="2317315" y="1131518"/>
                  <a:pt x="2265124" y="1187885"/>
                  <a:pt x="2192055" y="1202499"/>
                </a:cubicBezTo>
                <a:cubicBezTo>
                  <a:pt x="2100197" y="1198324"/>
                  <a:pt x="2007280" y="1204501"/>
                  <a:pt x="1916482" y="1189973"/>
                </a:cubicBezTo>
                <a:cubicBezTo>
                  <a:pt x="1898990" y="1187174"/>
                  <a:pt x="1889780" y="1166378"/>
                  <a:pt x="1878904" y="1152395"/>
                </a:cubicBezTo>
                <a:cubicBezTo>
                  <a:pt x="1860115" y="1127343"/>
                  <a:pt x="1820449" y="1064713"/>
                  <a:pt x="1803748" y="1039661"/>
                </a:cubicBezTo>
                <a:lnTo>
                  <a:pt x="1778696" y="1002083"/>
                </a:lnTo>
                <a:cubicBezTo>
                  <a:pt x="1758511" y="901156"/>
                  <a:pt x="1762740" y="934681"/>
                  <a:pt x="1753644" y="789140"/>
                </a:cubicBezTo>
                <a:cubicBezTo>
                  <a:pt x="1748429" y="705692"/>
                  <a:pt x="1750702" y="621680"/>
                  <a:pt x="1741118" y="538620"/>
                </a:cubicBezTo>
                <a:cubicBezTo>
                  <a:pt x="1738091" y="512387"/>
                  <a:pt x="1734739" y="482136"/>
                  <a:pt x="1716066" y="463463"/>
                </a:cubicBezTo>
                <a:cubicBezTo>
                  <a:pt x="1686449" y="433846"/>
                  <a:pt x="1665879" y="409733"/>
                  <a:pt x="1628383" y="388307"/>
                </a:cubicBezTo>
                <a:cubicBezTo>
                  <a:pt x="1616919" y="381756"/>
                  <a:pt x="1603501" y="379408"/>
                  <a:pt x="1590805" y="375781"/>
                </a:cubicBezTo>
                <a:cubicBezTo>
                  <a:pt x="1549529" y="363988"/>
                  <a:pt x="1521121" y="359339"/>
                  <a:pt x="1478071" y="350729"/>
                </a:cubicBezTo>
                <a:lnTo>
                  <a:pt x="1114816" y="363255"/>
                </a:lnTo>
                <a:cubicBezTo>
                  <a:pt x="1080498" y="366038"/>
                  <a:pt x="1014608" y="388307"/>
                  <a:pt x="1014608" y="388307"/>
                </a:cubicBezTo>
                <a:cubicBezTo>
                  <a:pt x="968679" y="405008"/>
                  <a:pt x="883085" y="442586"/>
                  <a:pt x="839244" y="463463"/>
                </a:cubicBezTo>
                <a:cubicBezTo>
                  <a:pt x="795403" y="484340"/>
                  <a:pt x="772439" y="501042"/>
                  <a:pt x="751562" y="513568"/>
                </a:cubicBezTo>
                <a:cubicBezTo>
                  <a:pt x="730685" y="526094"/>
                  <a:pt x="755538" y="503991"/>
                  <a:pt x="713983" y="538620"/>
                </a:cubicBezTo>
                <a:cubicBezTo>
                  <a:pt x="672428" y="573249"/>
                  <a:pt x="685478" y="577925"/>
                  <a:pt x="638827" y="601250"/>
                </a:cubicBezTo>
                <a:cubicBezTo>
                  <a:pt x="601249" y="628390"/>
                  <a:pt x="530268" y="678494"/>
                  <a:pt x="488515" y="701458"/>
                </a:cubicBezTo>
                <a:cubicBezTo>
                  <a:pt x="465551" y="713984"/>
                  <a:pt x="469726" y="724422"/>
                  <a:pt x="388307" y="739036"/>
                </a:cubicBezTo>
                <a:cubicBezTo>
                  <a:pt x="317326" y="751562"/>
                  <a:pt x="80897" y="778702"/>
                  <a:pt x="0" y="789140"/>
                </a:cubicBezTo>
              </a:path>
            </a:pathLst>
          </a:custGeom>
          <a:noFill/>
          <a:ln w="41400">
            <a:solidFill>
              <a:srgbClr val="0000ff"/>
            </a:solidFill>
            <a:round/>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5"/>
          <p:cNvSpPr/>
          <p:nvPr/>
        </p:nvSpPr>
        <p:spPr>
          <a:xfrm rot="16200000">
            <a:off x="6117480" y="3390120"/>
            <a:ext cx="5927760" cy="246240"/>
          </a:xfrm>
          <a:prstGeom prst="rect">
            <a:avLst/>
          </a:prstGeom>
          <a:noFill/>
          <a:ln w="0">
            <a:noFill/>
          </a:ln>
        </p:spPr>
        <p:style>
          <a:lnRef idx="0"/>
          <a:fillRef idx="0"/>
          <a:effectRef idx="0"/>
          <a:fontRef idx="minor"/>
        </p:style>
        <p:txBody>
          <a:bodyPr lIns="0" rIns="0" tIns="46800" bIns="46800" anchor="t">
            <a:spAutoFit/>
          </a:bodyPr>
          <a:p>
            <a:pPr algn="r">
              <a:spcBef>
                <a:spcPts val="1199"/>
              </a:spcBef>
              <a:spcAft>
                <a:spcPts val="300"/>
              </a:spcAft>
              <a:buClr>
                <a:srgbClr val="ffffff"/>
              </a:buClr>
              <a:buFont typeface="Arial"/>
              <a:buChar char="•"/>
              <a:tabLst>
                <a:tab algn="l" pos="5110200"/>
                <a:tab algn="l" pos="5737320"/>
                <a:tab algn="l" pos="6400800"/>
                <a:tab algn="l" pos="7315200"/>
                <a:tab algn="l" pos="8229600"/>
                <a:tab algn="l" pos="9144000"/>
                <a:tab algn="l" pos="10058400"/>
              </a:tabLst>
            </a:pPr>
            <a:r>
              <a:rPr b="0" lang="en-CA" sz="1000" spc="-1" strike="noStrike">
                <a:solidFill>
                  <a:srgbClr val="7e7e7e"/>
                </a:solidFill>
                <a:latin typeface="Arial"/>
              </a:rPr>
              <a:t>Source: Amazing Battle Map of WWII Europe, by Kaspars, StrangeCosmos.com, 2009, </a:t>
            </a:r>
            <a:endParaRPr b="0" lang="en-US" sz="1000" spc="-1" strike="noStrike">
              <a:solidFill>
                <a:srgbClr val="000000"/>
              </a:solidFill>
              <a:latin typeface="Arial"/>
            </a:endParaRPr>
          </a:p>
        </p:txBody>
      </p:sp>
      <p:sp>
        <p:nvSpPr>
          <p:cNvPr id="274" name="Rectangle 111"/>
          <p:cNvSpPr/>
          <p:nvPr/>
        </p:nvSpPr>
        <p:spPr>
          <a:xfrm flipH="1" rot="5400000">
            <a:off x="4548960" y="2270520"/>
            <a:ext cx="4608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12"/>
          <p:cNvSpPr/>
          <p:nvPr/>
        </p:nvSpPr>
        <p:spPr>
          <a:xfrm flipH="1" rot="5400000">
            <a:off x="4549680" y="-4008600"/>
            <a:ext cx="44280" cy="914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13"/>
          <p:cNvSpPr/>
          <p:nvPr/>
        </p:nvSpPr>
        <p:spPr>
          <a:xfrm>
            <a:off x="200160" y="588960"/>
            <a:ext cx="1328760" cy="1101600"/>
          </a:xfrm>
          <a:prstGeom prst="rect">
            <a:avLst/>
          </a:prstGeom>
          <a:solidFill>
            <a:srgbClr val="b6c9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4"/>
          <p:cNvSpPr/>
          <p:nvPr/>
        </p:nvSpPr>
        <p:spPr>
          <a:xfrm>
            <a:off x="0" y="719280"/>
            <a:ext cx="8750160" cy="522000"/>
          </a:xfrm>
          <a:prstGeom prst="rect">
            <a:avLst/>
          </a:prstGeom>
          <a:noFill/>
          <a:ln w="0">
            <a:noFill/>
          </a:ln>
        </p:spPr>
        <p:style>
          <a:lnRef idx="0"/>
          <a:fillRef idx="0"/>
          <a:effectRef idx="0"/>
          <a:fontRef idx="minor"/>
        </p:style>
        <p:txBody>
          <a:bodyPr lIns="90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German Expansion (cont’d)</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2" presetSubtype="1">
                                  <p:stCondLst>
                                    <p:cond delay="0"/>
                                  </p:stCondLst>
                                  <p:childTnLst>
                                    <p:audio isNarration="0">
                                      <p:cMediaNode showWhenStopped="1">
                                        <p:cTn/>
                                        <p:tgtEl>
                                          <p:sndTgt r:embed="rId39" name="shiphorn.wav"/>
                                        </p:tgtEl>
                                      </p:cMediaNode>
                                    </p:audio>
                                    <p:set>
                                      <p:cBhvr>
                                        <p:cTn id="405" dur="1" fill="hold">
                                          <p:stCondLst>
                                            <p:cond delay="0"/>
                                          </p:stCondLst>
                                        </p:cTn>
                                        <p:tgtEl>
                                          <p:spTgt spid="247"/>
                                        </p:tgtEl>
                                        <p:attrNameLst>
                                          <p:attrName>style.visibility</p:attrName>
                                        </p:attrNameLst>
                                      </p:cBhvr>
                                      <p:to>
                                        <p:strVal val="visible"/>
                                      </p:to>
                                    </p:set>
                                    <p:animEffect filter="wipe(up)" transition="in">
                                      <p:cBhvr additive="repl">
                                        <p:cTn id="406" dur="2000"/>
                                        <p:tgtEl>
                                          <p:spTgt spid="247"/>
                                        </p:tgtEl>
                                      </p:cBhvr>
                                    </p:animEffect>
                                  </p:childTnLst>
                                </p:cTn>
                              </p:par>
                              <p:par>
                                <p:cTn id="407" nodeType="withEffect" fill="hold" presetClass="entr" presetID="22" presetSubtype="1">
                                  <p:stCondLst>
                                    <p:cond delay="0"/>
                                  </p:stCondLst>
                                  <p:childTnLst>
                                    <p:set>
                                      <p:cBhvr>
                                        <p:cTn id="408" dur="1" fill="hold">
                                          <p:stCondLst>
                                            <p:cond delay="0"/>
                                          </p:stCondLst>
                                        </p:cTn>
                                        <p:tgtEl>
                                          <p:spTgt spid="250"/>
                                        </p:tgtEl>
                                        <p:attrNameLst>
                                          <p:attrName>style.visibility</p:attrName>
                                        </p:attrNameLst>
                                      </p:cBhvr>
                                      <p:to>
                                        <p:strVal val="visible"/>
                                      </p:to>
                                    </p:set>
                                    <p:animEffect filter="wipe(up)" transition="in">
                                      <p:cBhvr additive="repl">
                                        <p:cTn id="409" dur="2000"/>
                                        <p:tgtEl>
                                          <p:spTgt spid="250"/>
                                        </p:tgtEl>
                                      </p:cBhvr>
                                    </p:animEffect>
                                  </p:childTnLst>
                                </p:cTn>
                              </p:par>
                            </p:childTnLst>
                          </p:cTn>
                        </p:par>
                        <p:par>
                          <p:cTn id="410" fill="hold">
                            <p:stCondLst>
                              <p:cond delay="2000"/>
                            </p:stCondLst>
                            <p:childTnLst>
                              <p:par>
                                <p:cTn id="411" nodeType="afterEffect" fill="hold" presetClass="entr" presetID="22" presetSubtype="1">
                                  <p:stCondLst>
                                    <p:cond delay="0"/>
                                  </p:stCondLst>
                                  <p:childTnLst>
                                    <p:set>
                                      <p:cBhvr>
                                        <p:cTn id="412" dur="1" fill="hold">
                                          <p:stCondLst>
                                            <p:cond delay="0"/>
                                          </p:stCondLst>
                                        </p:cTn>
                                        <p:tgtEl>
                                          <p:spTgt spid="249"/>
                                        </p:tgtEl>
                                        <p:attrNameLst>
                                          <p:attrName>style.visibility</p:attrName>
                                        </p:attrNameLst>
                                      </p:cBhvr>
                                      <p:to>
                                        <p:strVal val="visible"/>
                                      </p:to>
                                    </p:set>
                                    <p:animEffect filter="wipe(up)" transition="in">
                                      <p:cBhvr additive="repl">
                                        <p:cTn id="413" dur="500"/>
                                        <p:tgtEl>
                                          <p:spTgt spid="249"/>
                                        </p:tgtEl>
                                      </p:cBhvr>
                                    </p:animEffect>
                                  </p:childTnLst>
                                </p:cTn>
                              </p:par>
                            </p:childTnLst>
                          </p:cTn>
                        </p:par>
                        <p:par>
                          <p:cTn id="414" fill="hold">
                            <p:stCondLst>
                              <p:cond delay="2500"/>
                            </p:stCondLst>
                            <p:childTnLst>
                              <p:par>
                                <p:cTn id="415" nodeType="afterEffect" fill="hold" presetClass="entr" presetID="1">
                                  <p:stCondLst>
                                    <p:cond delay="0"/>
                                  </p:stCondLst>
                                  <p:childTnLst>
                                    <p:audio isNarration="0">
                                      <p:cMediaNode showWhenStopped="1">
                                        <p:cTn/>
                                        <p:tgtEl>
                                          <p:sndTgt r:embed="rId40" name="explode.wav"/>
                                        </p:tgtEl>
                                      </p:cMediaNode>
                                    </p:audio>
                                    <p:set>
                                      <p:cBhvr>
                                        <p:cTn id="416" dur="1" fill="hold">
                                          <p:stCondLst>
                                            <p:cond delay="0"/>
                                          </p:stCondLst>
                                        </p:cTn>
                                        <p:tgtEl>
                                          <p:spTgt spid="251"/>
                                        </p:tgtEl>
                                        <p:attrNameLst>
                                          <p:attrName>style.visibility</p:attrName>
                                        </p:attrNameLst>
                                      </p:cBhvr>
                                      <p:to>
                                        <p:strVal val="visible"/>
                                      </p:to>
                                    </p:set>
                                  </p:childTnLst>
                                </p:cTn>
                              </p:par>
                            </p:childTnLst>
                          </p:cTn>
                        </p:par>
                        <p:par>
                          <p:cTn id="417" fill="hold">
                            <p:stCondLst>
                              <p:cond delay="2500"/>
                            </p:stCondLst>
                            <p:childTnLst>
                              <p:par>
                                <p:cTn id="418" nodeType="afterEffect" fill="hold" presetClass="exit" presetID="3" presetSubtype="10">
                                  <p:stCondLst>
                                    <p:cond delay="0"/>
                                  </p:stCondLst>
                                  <p:childTnLst>
                                    <p:animEffect filter="blinds(horizontal)" transition="out">
                                      <p:cBhvr additive="repl">
                                        <p:cTn id="419" dur="500"/>
                                        <p:tgtEl>
                                          <p:spTgt spid="251"/>
                                        </p:tgtEl>
                                      </p:cBhvr>
                                    </p:animEffect>
                                    <p:set>
                                      <p:cBhvr>
                                        <p:cTn id="420" dur="1" fill="hold">
                                          <p:stCondLst>
                                            <p:cond delay="499"/>
                                          </p:stCondLst>
                                        </p:cTn>
                                        <p:tgtEl>
                                          <p:spTgt spid="251"/>
                                        </p:tgtEl>
                                        <p:attrNameLst>
                                          <p:attrName>style.visibility</p:attrName>
                                        </p:attrNameLst>
                                      </p:cBhvr>
                                      <p:to>
                                        <p:strVal val="hidden"/>
                                      </p:to>
                                    </p:set>
                                  </p:childTnLst>
                                </p:cTn>
                              </p:par>
                            </p:childTnLst>
                          </p:cTn>
                        </p:par>
                        <p:par>
                          <p:cTn id="421" fill="hold">
                            <p:stCondLst>
                              <p:cond delay="3000"/>
                            </p:stCondLst>
                            <p:childTnLst>
                              <p:par>
                                <p:cTn id="422" nodeType="afterEffect" fill="hold" presetClass="entr" presetID="1">
                                  <p:stCondLst>
                                    <p:cond delay="0"/>
                                  </p:stCondLst>
                                  <p:childTnLst>
                                    <p:audio isNarration="0">
                                      <p:cMediaNode showWhenStopped="1">
                                        <p:cTn/>
                                        <p:tgtEl>
                                          <p:sndTgt r:embed="rId41" name="explode.wav"/>
                                        </p:tgtEl>
                                      </p:cMediaNode>
                                    </p:audio>
                                    <p:set>
                                      <p:cBhvr>
                                        <p:cTn id="423" dur="1" fill="hold">
                                          <p:stCondLst>
                                            <p:cond delay="0"/>
                                          </p:stCondLst>
                                        </p:cTn>
                                        <p:tgtEl>
                                          <p:spTgt spid="254"/>
                                        </p:tgtEl>
                                        <p:attrNameLst>
                                          <p:attrName>style.visibility</p:attrName>
                                        </p:attrNameLst>
                                      </p:cBhvr>
                                      <p:to>
                                        <p:strVal val="visible"/>
                                      </p:to>
                                    </p:set>
                                  </p:childTnLst>
                                </p:cTn>
                              </p:par>
                            </p:childTnLst>
                          </p:cTn>
                        </p:par>
                        <p:par>
                          <p:cTn id="424" fill="hold">
                            <p:stCondLst>
                              <p:cond delay="3000"/>
                            </p:stCondLst>
                            <p:childTnLst>
                              <p:par>
                                <p:cTn id="425" nodeType="afterEffect" fill="hold" presetClass="exit" presetID="3" presetSubtype="10">
                                  <p:stCondLst>
                                    <p:cond delay="0"/>
                                  </p:stCondLst>
                                  <p:childTnLst>
                                    <p:animEffect filter="blinds(horizontal)" transition="out">
                                      <p:cBhvr additive="repl">
                                        <p:cTn id="426" dur="500"/>
                                        <p:tgtEl>
                                          <p:spTgt spid="254"/>
                                        </p:tgtEl>
                                      </p:cBhvr>
                                    </p:animEffect>
                                    <p:set>
                                      <p:cBhvr>
                                        <p:cTn id="427" dur="1" fill="hold">
                                          <p:stCondLst>
                                            <p:cond delay="499"/>
                                          </p:stCondLst>
                                        </p:cTn>
                                        <p:tgtEl>
                                          <p:spTgt spid="254"/>
                                        </p:tgtEl>
                                        <p:attrNameLst>
                                          <p:attrName>style.visibility</p:attrName>
                                        </p:attrNameLst>
                                      </p:cBhvr>
                                      <p:to>
                                        <p:strVal val="hidden"/>
                                      </p:to>
                                    </p:set>
                                  </p:childTnLst>
                                </p:cTn>
                              </p:par>
                            </p:childTnLst>
                          </p:cTn>
                        </p:par>
                        <p:par>
                          <p:cTn id="428" fill="hold">
                            <p:stCondLst>
                              <p:cond delay="3500"/>
                            </p:stCondLst>
                            <p:childTnLst>
                              <p:par>
                                <p:cTn id="429" nodeType="afterEffect" fill="hold" presetClass="entr" presetID="1">
                                  <p:stCondLst>
                                    <p:cond delay="0"/>
                                  </p:stCondLst>
                                  <p:childTnLst>
                                    <p:audio isNarration="0">
                                      <p:cMediaNode showWhenStopped="1">
                                        <p:cTn/>
                                        <p:tgtEl>
                                          <p:sndTgt r:embed="rId42" name="explode.wav"/>
                                        </p:tgtEl>
                                      </p:cMediaNode>
                                    </p:audio>
                                    <p:set>
                                      <p:cBhvr>
                                        <p:cTn id="430" dur="1" fill="hold">
                                          <p:stCondLst>
                                            <p:cond delay="0"/>
                                          </p:stCondLst>
                                        </p:cTn>
                                        <p:tgtEl>
                                          <p:spTgt spid="255"/>
                                        </p:tgtEl>
                                        <p:attrNameLst>
                                          <p:attrName>style.visibility</p:attrName>
                                        </p:attrNameLst>
                                      </p:cBhvr>
                                      <p:to>
                                        <p:strVal val="visible"/>
                                      </p:to>
                                    </p:set>
                                  </p:childTnLst>
                                </p:cTn>
                              </p:par>
                            </p:childTnLst>
                          </p:cTn>
                        </p:par>
                        <p:par>
                          <p:cTn id="431" fill="hold">
                            <p:stCondLst>
                              <p:cond delay="3500"/>
                            </p:stCondLst>
                            <p:childTnLst>
                              <p:par>
                                <p:cTn id="432" nodeType="afterEffect" fill="hold" presetClass="exit" presetID="3" presetSubtype="10">
                                  <p:stCondLst>
                                    <p:cond delay="0"/>
                                  </p:stCondLst>
                                  <p:childTnLst>
                                    <p:animEffect filter="blinds(horizontal)" transition="out">
                                      <p:cBhvr additive="repl">
                                        <p:cTn id="433" dur="500"/>
                                        <p:tgtEl>
                                          <p:spTgt spid="255"/>
                                        </p:tgtEl>
                                      </p:cBhvr>
                                    </p:animEffect>
                                    <p:set>
                                      <p:cBhvr>
                                        <p:cTn id="434" dur="1" fill="hold">
                                          <p:stCondLst>
                                            <p:cond delay="499"/>
                                          </p:stCondLst>
                                        </p:cTn>
                                        <p:tgtEl>
                                          <p:spTgt spid="255"/>
                                        </p:tgtEl>
                                        <p:attrNameLst>
                                          <p:attrName>style.visibility</p:attrName>
                                        </p:attrNameLst>
                                      </p:cBhvr>
                                      <p:to>
                                        <p:strVal val="hidden"/>
                                      </p:to>
                                    </p:set>
                                  </p:childTnLst>
                                </p:cTn>
                              </p:par>
                            </p:childTnLst>
                          </p:cTn>
                        </p:par>
                        <p:par>
                          <p:cTn id="435" fill="hold">
                            <p:stCondLst>
                              <p:cond delay="4000"/>
                            </p:stCondLst>
                            <p:childTnLst>
                              <p:par>
                                <p:cTn id="436" nodeType="afterEffect" fill="hold" presetClass="entr" presetID="9">
                                  <p:stCondLst>
                                    <p:cond delay="0"/>
                                  </p:stCondLst>
                                  <p:childTnLst>
                                    <p:set>
                                      <p:cBhvr>
                                        <p:cTn id="437" dur="1" fill="hold">
                                          <p:stCondLst>
                                            <p:cond delay="0"/>
                                          </p:stCondLst>
                                        </p:cTn>
                                        <p:tgtEl>
                                          <p:spTgt spid="248"/>
                                        </p:tgtEl>
                                        <p:attrNameLst>
                                          <p:attrName>style.visibility</p:attrName>
                                        </p:attrNameLst>
                                      </p:cBhvr>
                                      <p:to>
                                        <p:strVal val="visible"/>
                                      </p:to>
                                    </p:set>
                                    <p:animEffect filter="dissolve" transition="in">
                                      <p:cBhvr additive="repl">
                                        <p:cTn id="438" dur="1000"/>
                                        <p:tgtEl>
                                          <p:spTgt spid="248"/>
                                        </p:tgtEl>
                                      </p:cBhvr>
                                    </p:animEffect>
                                  </p:childTnLst>
                                </p:cTn>
                              </p:par>
                              <p:par>
                                <p:cTn id="439" nodeType="withEffect" fill="hold" presetClass="exit" presetID="22" presetSubtype="8">
                                  <p:stCondLst>
                                    <p:cond delay="0"/>
                                  </p:stCondLst>
                                  <p:childTnLst>
                                    <p:animEffect filter="wipe(left)" transition="out">
                                      <p:cBhvr additive="repl">
                                        <p:cTn id="440" dur="1000"/>
                                        <p:tgtEl>
                                          <p:spTgt spid="250"/>
                                        </p:tgtEl>
                                      </p:cBhvr>
                                    </p:animEffect>
                                    <p:set>
                                      <p:cBhvr>
                                        <p:cTn id="441" dur="1" fill="hold">
                                          <p:stCondLst>
                                            <p:cond delay="999"/>
                                          </p:stCondLst>
                                        </p:cTn>
                                        <p:tgtEl>
                                          <p:spTgt spid="250"/>
                                        </p:tgtEl>
                                        <p:attrNameLst>
                                          <p:attrName>style.visibility</p:attrName>
                                        </p:attrNameLst>
                                      </p:cBhvr>
                                      <p:to>
                                        <p:strVal val="hidden"/>
                                      </p:to>
                                    </p:set>
                                  </p:childTnLst>
                                </p:cTn>
                              </p:par>
                            </p:childTnLst>
                          </p:cTn>
                        </p:par>
                        <p:par>
                          <p:cTn id="442" fill="hold">
                            <p:stCondLst>
                              <p:cond delay="5000"/>
                            </p:stCondLst>
                            <p:childTnLst>
                              <p:par>
                                <p:cTn id="443" nodeType="afterEffect" fill="hold" presetClass="entr" presetID="9">
                                  <p:stCondLst>
                                    <p:cond delay="0"/>
                                  </p:stCondLst>
                                  <p:childTnLst>
                                    <p:set>
                                      <p:cBhvr>
                                        <p:cTn id="444" dur="1" fill="hold">
                                          <p:stCondLst>
                                            <p:cond delay="0"/>
                                          </p:stCondLst>
                                        </p:cTn>
                                        <p:tgtEl>
                                          <p:spTgt spid="253"/>
                                        </p:tgtEl>
                                        <p:attrNameLst>
                                          <p:attrName>style.visibility</p:attrName>
                                        </p:attrNameLst>
                                      </p:cBhvr>
                                      <p:to>
                                        <p:strVal val="visible"/>
                                      </p:to>
                                    </p:set>
                                    <p:animEffect filter="dissolve" transition="in">
                                      <p:cBhvr additive="repl">
                                        <p:cTn id="445" dur="1000"/>
                                        <p:tgtEl>
                                          <p:spTgt spid="253"/>
                                        </p:tgtEl>
                                      </p:cBhvr>
                                    </p:animEffect>
                                  </p:childTnLst>
                                </p:cTn>
                              </p:par>
                              <p:par>
                                <p:cTn id="446" nodeType="withEffect" fill="hold" presetClass="exit" presetID="22" presetSubtype="1">
                                  <p:stCondLst>
                                    <p:cond delay="0"/>
                                  </p:stCondLst>
                                  <p:childTnLst>
                                    <p:animEffect filter="wipe(up)" transition="out">
                                      <p:cBhvr additive="repl">
                                        <p:cTn id="447" dur="1000"/>
                                        <p:tgtEl>
                                          <p:spTgt spid="249"/>
                                        </p:tgtEl>
                                      </p:cBhvr>
                                    </p:animEffect>
                                    <p:set>
                                      <p:cBhvr>
                                        <p:cTn id="448" dur="1" fill="hold">
                                          <p:stCondLst>
                                            <p:cond delay="999"/>
                                          </p:stCondLst>
                                        </p:cTn>
                                        <p:tgtEl>
                                          <p:spTgt spid="249"/>
                                        </p:tgtEl>
                                        <p:attrNameLst>
                                          <p:attrName>style.visibility</p:attrName>
                                        </p:attrNameLst>
                                      </p:cBhvr>
                                      <p:to>
                                        <p:strVal val="hidden"/>
                                      </p:to>
                                    </p:set>
                                  </p:childTnLst>
                                </p:cTn>
                              </p:par>
                            </p:childTnLst>
                          </p:cTn>
                        </p:par>
                        <p:par>
                          <p:cTn id="449" fill="hold">
                            <p:stCondLst>
                              <p:cond delay="6000"/>
                            </p:stCondLst>
                            <p:childTnLst>
                              <p:par>
                                <p:cTn id="450" nodeType="afterEffect" fill="hold" presetClass="entr" presetID="9">
                                  <p:stCondLst>
                                    <p:cond delay="0"/>
                                  </p:stCondLst>
                                  <p:childTnLst>
                                    <p:set>
                                      <p:cBhvr>
                                        <p:cTn id="451" dur="1" fill="hold">
                                          <p:stCondLst>
                                            <p:cond delay="0"/>
                                          </p:stCondLst>
                                        </p:cTn>
                                        <p:tgtEl>
                                          <p:spTgt spid="252"/>
                                        </p:tgtEl>
                                        <p:attrNameLst>
                                          <p:attrName>style.visibility</p:attrName>
                                        </p:attrNameLst>
                                      </p:cBhvr>
                                      <p:to>
                                        <p:strVal val="visible"/>
                                      </p:to>
                                    </p:set>
                                    <p:animEffect filter="dissolve" transition="in">
                                      <p:cBhvr additive="repl">
                                        <p:cTn id="452" dur="1000"/>
                                        <p:tgtEl>
                                          <p:spTgt spid="252"/>
                                        </p:tgtEl>
                                      </p:cBhvr>
                                    </p:animEffect>
                                  </p:childTnLst>
                                </p:cTn>
                              </p:par>
                              <p:par>
                                <p:cTn id="453" nodeType="withEffect" fill="hold" presetClass="exit" presetID="22" presetSubtype="1">
                                  <p:stCondLst>
                                    <p:cond delay="0"/>
                                  </p:stCondLst>
                                  <p:childTnLst>
                                    <p:animEffect filter="wipe(up)" transition="out">
                                      <p:cBhvr additive="repl">
                                        <p:cTn id="454" dur="1000"/>
                                        <p:tgtEl>
                                          <p:spTgt spid="247"/>
                                        </p:tgtEl>
                                      </p:cBhvr>
                                    </p:animEffect>
                                    <p:set>
                                      <p:cBhvr>
                                        <p:cTn id="455" dur="1" fill="hold">
                                          <p:stCondLst>
                                            <p:cond delay="999"/>
                                          </p:stCondLst>
                                        </p:cTn>
                                        <p:tgtEl>
                                          <p:spTgt spid="247"/>
                                        </p:tgtEl>
                                        <p:attrNameLst>
                                          <p:attrName>style.visibility</p:attrName>
                                        </p:attrNameLst>
                                      </p:cBhvr>
                                      <p:to>
                                        <p:strVal val="hidden"/>
                                      </p:to>
                                    </p:set>
                                  </p:childTnLst>
                                </p:cTn>
                              </p:par>
                            </p:childTnLst>
                          </p:cTn>
                        </p:par>
                        <p:par>
                          <p:cTn id="456" fill="hold">
                            <p:stCondLst>
                              <p:cond delay="7000"/>
                            </p:stCondLst>
                            <p:childTnLst>
                              <p:par>
                                <p:cTn id="457" nodeType="afterEffect" fill="hold" presetClass="exit" presetID="22" presetSubtype="1">
                                  <p:stCondLst>
                                    <p:cond delay="0"/>
                                  </p:stCondLst>
                                  <p:childTnLst>
                                    <p:animEffect filter="wipe(up)" transition="out">
                                      <p:cBhvr additive="repl">
                                        <p:cTn id="458" dur="1000"/>
                                        <p:tgtEl>
                                          <p:spTgt spid="205"/>
                                        </p:tgtEl>
                                      </p:cBhvr>
                                    </p:animEffect>
                                    <p:set>
                                      <p:cBhvr>
                                        <p:cTn id="459" dur="1" fill="hold">
                                          <p:stCondLst>
                                            <p:cond delay="999"/>
                                          </p:stCondLst>
                                        </p:cTn>
                                        <p:tgtEl>
                                          <p:spTgt spid="205"/>
                                        </p:tgtEl>
                                        <p:attrNameLst>
                                          <p:attrName>style.visibility</p:attrName>
                                        </p:attrNameLst>
                                      </p:cBhvr>
                                      <p:to>
                                        <p:strVal val="hidden"/>
                                      </p:to>
                                    </p:set>
                                  </p:childTnLst>
                                </p:cTn>
                              </p:par>
                              <p:par>
                                <p:cTn id="460" nodeType="withEffect" fill="hold" presetClass="exit" presetID="9">
                                  <p:stCondLst>
                                    <p:cond delay="0"/>
                                  </p:stCondLst>
                                  <p:childTnLst>
                                    <p:animEffect filter="dissolve" transition="out">
                                      <p:cBhvr additive="repl">
                                        <p:cTn id="461" dur="1000"/>
                                        <p:tgtEl>
                                          <p:spTgt spid="241"/>
                                        </p:tgtEl>
                                      </p:cBhvr>
                                    </p:animEffect>
                                    <p:set>
                                      <p:cBhvr>
                                        <p:cTn id="462" dur="1" fill="hold">
                                          <p:stCondLst>
                                            <p:cond delay="999"/>
                                          </p:stCondLst>
                                        </p:cTn>
                                        <p:tgtEl>
                                          <p:spTgt spid="241"/>
                                        </p:tgtEl>
                                        <p:attrNameLst>
                                          <p:attrName>style.visibility</p:attrName>
                                        </p:attrNameLst>
                                      </p:cBhvr>
                                      <p:to>
                                        <p:strVal val="hidden"/>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72"/>
                                        </p:tgtEl>
                                        <p:attrNameLst>
                                          <p:attrName>style.visibility</p:attrName>
                                        </p:attrNameLst>
                                      </p:cBhvr>
                                      <p:to>
                                        <p:strVal val="visible"/>
                                      </p:to>
                                    </p:set>
                                    <p:animEffect filter="wipe(left)" transition="in">
                                      <p:cBhvr additive="repl">
                                        <p:cTn id="467"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22:28:00Z</dcterms:created>
  <dc:creator>gary.linhart</dc:creator>
  <dc:description/>
  <dc:language>en-US</dc:language>
  <cp:lastModifiedBy>jlsherwo</cp:lastModifiedBy>
  <dcterms:modified xsi:type="dcterms:W3CDTF">2010-09-03T17:35:22Z</dcterms:modified>
  <cp:revision>362</cp:revision>
  <dc:subject/>
  <dc:title>Slide 1</dc:title>
</cp:coreProperties>
</file>